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855E-3010-4EA7-971A-75652A87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5719-5F27-42A3-BA9C-278A462F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EB50-27C5-4117-9E3A-6C6D188D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D299-E455-491C-B367-A6227114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677C-B6E8-40B7-9275-D178A067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1D7A-640A-45AD-ACB0-23A9784D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55B2-9C33-4CD9-A0BE-EEF2BB83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698D-6B3E-4B31-AD54-FF7F2B2E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C942-0DC8-437C-9597-4E6F5151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F368-C96B-4F19-BA32-2EE0F30C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23B5-55FF-4BA5-AADE-AC9B9BD3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6154-418B-47FC-B2E7-31429998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C2F9-585C-4480-9895-33A261D19F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15520" y="907560"/>
            <a:ext cx="5727960" cy="4564080"/>
            <a:chOff x="515520" y="907560"/>
            <a:chExt cx="5727960" cy="4564080"/>
          </a:xfrm>
        </p:grpSpPr>
        <p:sp>
          <p:nvSpPr>
            <p:cNvPr id="42" name=""/>
            <p:cNvSpPr/>
            <p:nvPr/>
          </p:nvSpPr>
          <p:spPr>
            <a:xfrm flipH="1" rot="16657200">
              <a:off x="3034800" y="1351080"/>
              <a:ext cx="3279960" cy="272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077" y="509"/>
                  </a:moveTo>
                  <a:arcTo wR="10800" hR="10800" stAng="-4340078" swAng="270111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077" y="509"/>
                  </a:moveTo>
                  <a:arcTo wR="10800" hR="10800" stAng="-4340078" swAng="270111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3153000">
              <a:off x="1032120" y="1810080"/>
              <a:ext cx="3292560" cy="2928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077" y="509"/>
                  </a:moveTo>
                  <a:arcTo wR="10800" hR="10800" stAng="-4340078" swAng="26549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077" y="509"/>
                  </a:moveTo>
                  <a:arcTo wR="10800" hR="10800" stAng="-4340078" swAng="2654926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3832200" y="3975840"/>
              <a:ext cx="284040" cy="9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3354480" y="162000"/>
            <a:ext cx="1295280" cy="2743200"/>
            <a:chOff x="3354480" y="162000"/>
            <a:chExt cx="1295280" cy="2743200"/>
          </a:xfrm>
        </p:grpSpPr>
        <p:sp>
          <p:nvSpPr>
            <p:cNvPr id="46" name=""/>
            <p:cNvSpPr/>
            <p:nvPr/>
          </p:nvSpPr>
          <p:spPr>
            <a:xfrm>
              <a:off x="3582720" y="1457280"/>
              <a:ext cx="19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54480" y="162000"/>
              <a:ext cx="129528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3423600" y="1869480"/>
              <a:ext cx="775080" cy="242640"/>
              <a:chOff x="3423600" y="1869480"/>
              <a:chExt cx="775080" cy="242640"/>
            </a:xfrm>
          </p:grpSpPr>
          <p:sp>
            <p:nvSpPr>
              <p:cNvPr id="49" name=""/>
              <p:cNvSpPr/>
              <p:nvPr/>
            </p:nvSpPr>
            <p:spPr>
              <a:xfrm rot="4987200">
                <a:off x="3734640" y="1609560"/>
                <a:ext cx="152280" cy="762120"/>
              </a:xfrm>
              <a:custGeom>
                <a:avLst/>
                <a:gdLst/>
                <a:ahLst/>
                <a:rect l="l" t="t" r="r" b="b"/>
                <a:pathLst>
                  <a:path w="168" h="528">
                    <a:moveTo>
                      <a:pt x="0" y="0"/>
                    </a:moveTo>
                    <a:cubicBezTo>
                      <a:pt x="60" y="76"/>
                      <a:pt x="120" y="152"/>
                      <a:pt x="144" y="240"/>
                    </a:cubicBezTo>
                    <a:cubicBezTo>
                      <a:pt x="168" y="328"/>
                      <a:pt x="144" y="480"/>
                      <a:pt x="144" y="5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3441960" y="2093760"/>
                <a:ext cx="151560" cy="1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>
                <a:off x="4038480" y="1869480"/>
                <a:ext cx="141840" cy="9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"/>
          <p:cNvSpPr/>
          <p:nvPr/>
        </p:nvSpPr>
        <p:spPr>
          <a:xfrm rot="3846600">
            <a:off x="3351600" y="1423800"/>
            <a:ext cx="214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ru-RU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445920" y="2716920"/>
            <a:ext cx="1203480" cy="807480"/>
            <a:chOff x="3445920" y="2716920"/>
            <a:chExt cx="1203480" cy="807480"/>
          </a:xfrm>
        </p:grpSpPr>
        <p:sp>
          <p:nvSpPr>
            <p:cNvPr id="54" name=""/>
            <p:cNvSpPr/>
            <p:nvPr/>
          </p:nvSpPr>
          <p:spPr>
            <a:xfrm rot="20277000">
              <a:off x="3516480" y="28267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ru-RU" sz="2400" spc="-1" strike="noStrike" baseline="-25000">
                  <a:solidFill>
                    <a:srgbClr val="0000cc"/>
                  </a:solidFill>
                  <a:latin typeface="Times New Roman"/>
                </a:rPr>
                <a:t>эв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3506400" y="2905200"/>
              <a:ext cx="1143000" cy="6192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6433200" y="1600200"/>
            <a:ext cx="23191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ru-RU" sz="2400" spc="-1" strike="noStrike" baseline="-25000">
                <a:solidFill>
                  <a:srgbClr val="0000cc"/>
                </a:solidFill>
                <a:latin typeface="Times New Roman"/>
              </a:rPr>
              <a:t>эв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sin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32080" y="1816200"/>
            <a:ext cx="5751720" cy="4467240"/>
            <a:chOff x="532080" y="1816200"/>
            <a:chExt cx="5751720" cy="4467240"/>
          </a:xfrm>
        </p:grpSpPr>
        <p:sp>
          <p:nvSpPr>
            <p:cNvPr id="58" name=""/>
            <p:cNvSpPr/>
            <p:nvPr/>
          </p:nvSpPr>
          <p:spPr>
            <a:xfrm flipH="1" flipV="1" rot="3134400">
              <a:off x="2562480" y="2583360"/>
              <a:ext cx="3278880" cy="272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077" y="509"/>
                  </a:moveTo>
                  <a:arcTo wR="10800" hR="10800" stAng="-4340078" swAng="270111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077" y="509"/>
                  </a:moveTo>
                  <a:arcTo wR="10800" hR="10800" stAng="-4340078" swAng="270111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 rot="16638000">
              <a:off x="547920" y="3000240"/>
              <a:ext cx="3291480" cy="2928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077" y="509"/>
                  </a:moveTo>
                  <a:arcTo wR="10800" hR="10800" stAng="-4340078" swAng="26549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077" y="509"/>
                  </a:moveTo>
                  <a:arcTo wR="10800" hR="10800" stAng="-4340078" swAng="2654926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2793240" y="3135960"/>
              <a:ext cx="291600" cy="6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354040" y="4152600"/>
            <a:ext cx="1083600" cy="2181240"/>
            <a:chOff x="2354040" y="4152600"/>
            <a:chExt cx="1083600" cy="2181240"/>
          </a:xfrm>
        </p:grpSpPr>
        <p:sp>
          <p:nvSpPr>
            <p:cNvPr id="62" name=""/>
            <p:cNvSpPr/>
            <p:nvPr/>
          </p:nvSpPr>
          <p:spPr>
            <a:xfrm>
              <a:off x="3019320" y="4732200"/>
              <a:ext cx="19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>
              <a:off x="2354040" y="4152600"/>
              <a:ext cx="1073160" cy="21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2683440" y="4440600"/>
              <a:ext cx="754200" cy="461880"/>
              <a:chOff x="2683440" y="4440600"/>
              <a:chExt cx="754200" cy="461880"/>
            </a:xfrm>
          </p:grpSpPr>
          <p:sp>
            <p:nvSpPr>
              <p:cNvPr id="65" name=""/>
              <p:cNvSpPr/>
              <p:nvPr/>
            </p:nvSpPr>
            <p:spPr>
              <a:xfrm flipV="1" rot="14691000">
                <a:off x="2984400" y="4290120"/>
                <a:ext cx="152280" cy="761760"/>
              </a:xfrm>
              <a:custGeom>
                <a:avLst/>
                <a:gdLst/>
                <a:ahLst/>
                <a:rect l="l" t="t" r="r" b="b"/>
                <a:pathLst>
                  <a:path w="168" h="528">
                    <a:moveTo>
                      <a:pt x="0" y="0"/>
                    </a:moveTo>
                    <a:cubicBezTo>
                      <a:pt x="60" y="76"/>
                      <a:pt x="120" y="152"/>
                      <a:pt x="144" y="240"/>
                    </a:cubicBezTo>
                    <a:cubicBezTo>
                      <a:pt x="168" y="328"/>
                      <a:pt x="144" y="480"/>
                      <a:pt x="144" y="5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2683800" y="4699800"/>
                <a:ext cx="137880" cy="6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flipV="1">
                <a:off x="3267720" y="4574160"/>
                <a:ext cx="1699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rot="3846600">
            <a:off x="1464480" y="5219640"/>
            <a:ext cx="2208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0000cc"/>
                </a:solidFill>
                <a:latin typeface="Times New Roman"/>
              </a:rPr>
              <a:t>b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913400" y="3544920"/>
            <a:ext cx="1441080" cy="803160"/>
            <a:chOff x="1913400" y="3544920"/>
            <a:chExt cx="1441080" cy="803160"/>
          </a:xfrm>
        </p:grpSpPr>
        <p:sp>
          <p:nvSpPr>
            <p:cNvPr id="70" name=""/>
            <p:cNvSpPr/>
            <p:nvPr/>
          </p:nvSpPr>
          <p:spPr>
            <a:xfrm flipH="1" rot="19597200">
              <a:off x="1996920" y="369144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ru-RU" sz="2400" spc="-1" strike="noStrike" baseline="-25000">
                  <a:solidFill>
                    <a:srgbClr val="0000cc"/>
                  </a:solidFill>
                  <a:latin typeface="Times New Roman"/>
                </a:rPr>
                <a:t>эв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2352600" y="3590640"/>
              <a:ext cx="1001880" cy="56196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433200" y="987480"/>
            <a:ext cx="23191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ru-RU" sz="2400" spc="-1" strike="noStrike" baseline="-25000">
                <a:solidFill>
                  <a:srgbClr val="0000cc"/>
                </a:solidFill>
                <a:latin typeface="Times New Roman"/>
              </a:rPr>
              <a:t>эв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sin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34960" y="-2352600"/>
            <a:ext cx="5715000" cy="11648880"/>
            <a:chOff x="534960" y="-2352600"/>
            <a:chExt cx="5715000" cy="11648880"/>
          </a:xfrm>
        </p:grpSpPr>
        <p:sp>
          <p:nvSpPr>
            <p:cNvPr id="74" name=""/>
            <p:cNvSpPr/>
            <p:nvPr/>
          </p:nvSpPr>
          <p:spPr>
            <a:xfrm flipH="1">
              <a:off x="3427200" y="4124160"/>
              <a:ext cx="144612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8136200">
              <a:off x="3775320" y="4525200"/>
              <a:ext cx="81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1/2d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534960" y="-2352600"/>
              <a:ext cx="5715000" cy="5943600"/>
              <a:chOff x="534960" y="-2352600"/>
              <a:chExt cx="5715000" cy="5943600"/>
            </a:xfrm>
          </p:grpSpPr>
          <p:sp>
            <p:nvSpPr>
              <p:cNvPr id="77" name=""/>
              <p:cNvSpPr/>
              <p:nvPr/>
            </p:nvSpPr>
            <p:spPr>
              <a:xfrm>
                <a:off x="534960" y="-2352600"/>
                <a:ext cx="5715000" cy="59436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1754280" y="237960"/>
                <a:ext cx="1752480" cy="281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18193800">
                <a:off x="1819800" y="162684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1/2</a:t>
                </a:r>
                <a:r>
                  <a:rPr b="1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ru-RU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 rot="16200000">
              <a:off x="550800" y="3781080"/>
              <a:ext cx="5705280" cy="5324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486400" y="2281320"/>
            <a:ext cx="3297240" cy="1243080"/>
            <a:chOff x="5486400" y="2281320"/>
            <a:chExt cx="3297240" cy="1243080"/>
          </a:xfrm>
        </p:grpSpPr>
        <p:sp>
          <p:nvSpPr>
            <p:cNvPr id="82" name=""/>
            <p:cNvSpPr/>
            <p:nvPr/>
          </p:nvSpPr>
          <p:spPr>
            <a:xfrm>
              <a:off x="5486400" y="2281320"/>
              <a:ext cx="3297240" cy="1243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5486400" y="2438280"/>
              <a:ext cx="3200400" cy="914400"/>
              <a:chOff x="5486400" y="2438280"/>
              <a:chExt cx="3200400" cy="914400"/>
            </a:xfrm>
          </p:grpSpPr>
          <p:grpSp>
            <p:nvGrpSpPr>
              <p:cNvPr id="84" name=""/>
              <p:cNvGrpSpPr/>
              <p:nvPr/>
            </p:nvGrpSpPr>
            <p:grpSpPr>
              <a:xfrm>
                <a:off x="5486400" y="2620800"/>
                <a:ext cx="2381400" cy="595800"/>
                <a:chOff x="5486400" y="2620800"/>
                <a:chExt cx="2381400" cy="59580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5486400" y="2620800"/>
                  <a:ext cx="2381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1/</a:t>
                  </a:r>
                  <a:r>
                    <a:rPr b="1" lang="ru-RU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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=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5908680" y="2706480"/>
                  <a:ext cx="414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пр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534000" y="2438280"/>
                <a:ext cx="2152800" cy="914400"/>
                <a:chOff x="6534000" y="2438280"/>
                <a:chExt cx="2152800" cy="91440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534000" y="2895480"/>
                  <a:ext cx="1065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824520" y="2438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545520" y="2827080"/>
                  <a:ext cx="1183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r>
                    <a:rPr b="1" lang="ru-RU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 </a:t>
                  </a:r>
                  <a:r>
                    <a:rPr b="1" i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sin </a:t>
                  </a:r>
                  <a:r>
                    <a:rPr b="1" lang="ru-RU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1" i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772400" y="2438280"/>
                  <a:ext cx="914400" cy="914400"/>
                </a:xfrm>
                <a:prstGeom prst="bracketPair">
                  <a:avLst>
                    <a:gd name="adj" fmla="val 17129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887960" y="2906640"/>
                  <a:ext cx="703440" cy="11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737480" y="2496960"/>
                  <a:ext cx="897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i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r>
                    <a:rPr b="1" lang="ru-RU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</a:t>
                  </a:r>
                  <a:r>
                    <a:rPr b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 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934400" y="2844720"/>
                  <a:ext cx="426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i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5" name=""/>
          <p:cNvGrpSpPr/>
          <p:nvPr/>
        </p:nvGrpSpPr>
        <p:grpSpPr>
          <a:xfrm>
            <a:off x="534960" y="-1438560"/>
            <a:ext cx="5715000" cy="8296200"/>
            <a:chOff x="534960" y="-1438560"/>
            <a:chExt cx="5715000" cy="8296200"/>
          </a:xfrm>
        </p:grpSpPr>
        <p:sp>
          <p:nvSpPr>
            <p:cNvPr id="96" name=""/>
            <p:cNvSpPr/>
            <p:nvPr/>
          </p:nvSpPr>
          <p:spPr>
            <a:xfrm>
              <a:off x="1754280" y="314280"/>
              <a:ext cx="1457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Ось колес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91720" y="162000"/>
              <a:ext cx="3603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1" lang="ru-RU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3560" y="31428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430440" y="-1438560"/>
              <a:ext cx="0" cy="82962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4960" y="6334200"/>
              <a:ext cx="5715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15400" y="6237360"/>
              <a:ext cx="3603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1" lang="ru-RU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49760" y="5872320"/>
              <a:ext cx="211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Ось шестерн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992600" y="2687760"/>
            <a:ext cx="3265200" cy="1678680"/>
            <a:chOff x="1992600" y="2687760"/>
            <a:chExt cx="3265200" cy="1678680"/>
          </a:xfrm>
        </p:grpSpPr>
        <p:grpSp>
          <p:nvGrpSpPr>
            <p:cNvPr id="104" name=""/>
            <p:cNvGrpSpPr/>
            <p:nvPr/>
          </p:nvGrpSpPr>
          <p:grpSpPr>
            <a:xfrm>
              <a:off x="1992600" y="2687760"/>
              <a:ext cx="3052080" cy="1678680"/>
              <a:chOff x="1992600" y="2687760"/>
              <a:chExt cx="3052080" cy="1678680"/>
            </a:xfrm>
          </p:grpSpPr>
          <p:sp>
            <p:nvSpPr>
              <p:cNvPr id="105" name=""/>
              <p:cNvSpPr/>
              <p:nvPr/>
            </p:nvSpPr>
            <p:spPr>
              <a:xfrm flipV="1">
                <a:off x="1992600" y="2687760"/>
                <a:ext cx="3052080" cy="167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4802040" y="2828880"/>
                <a:ext cx="152280" cy="762120"/>
                <a:chOff x="4802040" y="2828880"/>
                <a:chExt cx="152280" cy="7621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802040" y="2828880"/>
                  <a:ext cx="152280" cy="762120"/>
                </a:xfrm>
                <a:custGeom>
                  <a:avLst/>
                  <a:gdLst/>
                  <a:ahLst/>
                  <a:rect l="l" t="t" r="r" b="b"/>
                  <a:pathLst>
                    <a:path w="168" h="528">
                      <a:moveTo>
                        <a:pt x="0" y="0"/>
                      </a:moveTo>
                      <a:cubicBezTo>
                        <a:pt x="60" y="76"/>
                        <a:pt x="120" y="152"/>
                        <a:pt x="144" y="240"/>
                      </a:cubicBezTo>
                      <a:cubicBezTo>
                        <a:pt x="168" y="328"/>
                        <a:pt x="144" y="480"/>
                        <a:pt x="144" y="5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954320" y="343836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802040" y="2828880"/>
                  <a:ext cx="763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" name=""/>
              <p:cNvSpPr/>
              <p:nvPr/>
            </p:nvSpPr>
            <p:spPr>
              <a:xfrm>
                <a:off x="4497480" y="3057480"/>
                <a:ext cx="3762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2352600" y="3591000"/>
              <a:ext cx="290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071880" y="3530520"/>
            <a:ext cx="434880" cy="662760"/>
            <a:chOff x="3071880" y="3530520"/>
            <a:chExt cx="434880" cy="662760"/>
          </a:xfrm>
        </p:grpSpPr>
        <p:sp>
          <p:nvSpPr>
            <p:cNvPr id="113" name=""/>
            <p:cNvSpPr/>
            <p:nvPr/>
          </p:nvSpPr>
          <p:spPr>
            <a:xfrm>
              <a:off x="3354480" y="3530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71880" y="373356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06:13:18Z</dcterms:created>
  <dc:creator>Довольный пользователь Microsoft Office</dc:creator>
  <dc:description/>
  <dc:language>en-US</dc:language>
  <cp:lastModifiedBy>Владимир Жуков</cp:lastModifiedBy>
  <dcterms:modified xsi:type="dcterms:W3CDTF">2002-02-17T20:55:10Z</dcterms:modified>
  <cp:revision>13</cp:revision>
  <dc:subject/>
  <dc:title>Заголовок слайда отсутствует</dc:title>
</cp:coreProperties>
</file>