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A3A-ABA4-4CD5-953A-76384F4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593-8B09-4E1F-A27E-2DE07F9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68E-A7A0-486B-BCEF-15900299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198-4657-4197-B455-50F0D810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FD0-3E89-44CC-94C6-4FFE15A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809-2A16-411F-A846-EFC04C8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E7F-DD91-4E1E-B4AB-60E9F104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E7A-8655-4430-81C7-0E92D162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14D-BBF1-48E5-A688-41A7DB8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920-79BF-4057-B20C-39BC87A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3A1-52DB-44F8-B92F-F13C87F2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093-4312-4439-BCAC-D9EE280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7906-DF62-4D43-96E7-F2BCBB5C9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5720" y="1981080"/>
            <a:ext cx="2133360" cy="1219320"/>
            <a:chOff x="1755720" y="1981080"/>
            <a:chExt cx="2133360" cy="1219320"/>
          </a:xfrm>
        </p:grpSpPr>
        <p:grpSp>
          <p:nvGrpSpPr>
            <p:cNvPr id="42" name=""/>
            <p:cNvGrpSpPr/>
            <p:nvPr/>
          </p:nvGrpSpPr>
          <p:grpSpPr>
            <a:xfrm>
              <a:off x="1984320" y="1981080"/>
              <a:ext cx="1753560" cy="1219320"/>
              <a:chOff x="1984320" y="1981080"/>
              <a:chExt cx="1753560" cy="1219320"/>
            </a:xfrm>
          </p:grpSpPr>
          <p:sp>
            <p:nvSpPr>
              <p:cNvPr id="43" name=""/>
              <p:cNvSpPr/>
              <p:nvPr/>
            </p:nvSpPr>
            <p:spPr>
              <a:xfrm>
                <a:off x="1984320" y="1981080"/>
                <a:ext cx="1447560" cy="12193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16200000">
                <a:off x="2977560" y="2435400"/>
                <a:ext cx="1214640" cy="306000"/>
              </a:xfrm>
              <a:custGeom>
                <a:avLst/>
                <a:gdLst>
                  <a:gd name="textAreaLeft" fmla="*/ 151200 w 1214640"/>
                  <a:gd name="textAreaRight" fmla="*/ 1063440 w 1214640"/>
                  <a:gd name="textAreaTop" fmla="*/ 38160 h 306000"/>
                  <a:gd name="textAreaBottom" fmla="*/ 267840 h 30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906" y="21600"/>
                    </a:lnTo>
                    <a:lnTo>
                      <a:pt x="169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 flipH="1">
              <a:off x="1755720" y="2590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813120" y="0"/>
            <a:ext cx="1828800" cy="5218200"/>
            <a:chOff x="3813120" y="0"/>
            <a:chExt cx="1828800" cy="5218200"/>
          </a:xfrm>
        </p:grpSpPr>
        <p:sp>
          <p:nvSpPr>
            <p:cNvPr id="47" name=""/>
            <p:cNvSpPr/>
            <p:nvPr/>
          </p:nvSpPr>
          <p:spPr>
            <a:xfrm>
              <a:off x="4575240" y="182880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41720" y="2057400"/>
              <a:ext cx="1219320" cy="106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61040" y="533520"/>
              <a:ext cx="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61040" y="3200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965760" y="0"/>
              <a:ext cx="1477440" cy="5218200"/>
              <a:chOff x="3965760" y="0"/>
              <a:chExt cx="1477440" cy="5218200"/>
            </a:xfrm>
          </p:grpSpPr>
          <p:sp>
            <p:nvSpPr>
              <p:cNvPr id="52" name=""/>
              <p:cNvSpPr/>
              <p:nvPr/>
            </p:nvSpPr>
            <p:spPr>
              <a:xfrm>
                <a:off x="4073400" y="3124080"/>
                <a:ext cx="1218960" cy="1676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073400" y="550800"/>
                <a:ext cx="1218960" cy="1506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997080" y="4343400"/>
                <a:ext cx="1350360" cy="874800"/>
                <a:chOff x="3997080" y="4343400"/>
                <a:chExt cx="1350360" cy="8748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47480" y="4343400"/>
                  <a:ext cx="1299960" cy="874800"/>
                  <a:chOff x="4047480" y="4343400"/>
                  <a:chExt cx="1299960" cy="8748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47480" y="4343400"/>
                    <a:ext cx="1299960" cy="87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551">
                        <a:moveTo>
                          <a:pt x="0" y="199"/>
                        </a:moveTo>
                        <a:lnTo>
                          <a:pt x="3" y="196"/>
                        </a:lnTo>
                        <a:lnTo>
                          <a:pt x="5" y="192"/>
                        </a:lnTo>
                        <a:lnTo>
                          <a:pt x="24" y="171"/>
                        </a:lnTo>
                        <a:lnTo>
                          <a:pt x="43" y="151"/>
                        </a:lnTo>
                        <a:lnTo>
                          <a:pt x="63" y="132"/>
                        </a:lnTo>
                        <a:lnTo>
                          <a:pt x="84" y="115"/>
                        </a:lnTo>
                        <a:lnTo>
                          <a:pt x="106" y="99"/>
                        </a:lnTo>
                        <a:lnTo>
                          <a:pt x="128" y="84"/>
                        </a:lnTo>
                        <a:lnTo>
                          <a:pt x="151" y="70"/>
                        </a:lnTo>
                        <a:lnTo>
                          <a:pt x="175" y="58"/>
                        </a:lnTo>
                        <a:lnTo>
                          <a:pt x="199" y="46"/>
                        </a:lnTo>
                        <a:lnTo>
                          <a:pt x="224" y="36"/>
                        </a:lnTo>
                        <a:lnTo>
                          <a:pt x="249" y="27"/>
                        </a:lnTo>
                        <a:lnTo>
                          <a:pt x="274" y="20"/>
                        </a:lnTo>
                        <a:lnTo>
                          <a:pt x="300" y="13"/>
                        </a:lnTo>
                        <a:lnTo>
                          <a:pt x="326" y="8"/>
                        </a:lnTo>
                        <a:lnTo>
                          <a:pt x="352" y="4"/>
                        </a:lnTo>
                        <a:lnTo>
                          <a:pt x="378" y="2"/>
                        </a:lnTo>
                        <a:lnTo>
                          <a:pt x="405" y="0"/>
                        </a:lnTo>
                        <a:lnTo>
                          <a:pt x="431" y="0"/>
                        </a:lnTo>
                        <a:lnTo>
                          <a:pt x="458" y="1"/>
                        </a:lnTo>
                        <a:lnTo>
                          <a:pt x="485" y="4"/>
                        </a:lnTo>
                        <a:lnTo>
                          <a:pt x="511" y="7"/>
                        </a:lnTo>
                        <a:lnTo>
                          <a:pt x="538" y="12"/>
                        </a:lnTo>
                        <a:lnTo>
                          <a:pt x="564" y="19"/>
                        </a:lnTo>
                        <a:lnTo>
                          <a:pt x="590" y="26"/>
                        </a:lnTo>
                        <a:lnTo>
                          <a:pt x="616" y="35"/>
                        </a:lnTo>
                        <a:lnTo>
                          <a:pt x="641" y="45"/>
                        </a:lnTo>
                        <a:lnTo>
                          <a:pt x="666" y="57"/>
                        </a:lnTo>
                        <a:lnTo>
                          <a:pt x="691" y="69"/>
                        </a:lnTo>
                        <a:lnTo>
                          <a:pt x="715" y="83"/>
                        </a:lnTo>
                        <a:lnTo>
                          <a:pt x="739" y="99"/>
                        </a:lnTo>
                        <a:lnTo>
                          <a:pt x="762" y="115"/>
                        </a:lnTo>
                        <a:lnTo>
                          <a:pt x="785" y="133"/>
                        </a:lnTo>
                        <a:lnTo>
                          <a:pt x="802" y="148"/>
                        </a:lnTo>
                        <a:lnTo>
                          <a:pt x="819" y="164"/>
                        </a:lnTo>
                        <a:lnTo>
                          <a:pt x="435" y="551"/>
                        </a:lnTo>
                        <a:lnTo>
                          <a:pt x="0" y="1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047480" y="4343400"/>
                    <a:ext cx="12999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199">
                        <a:moveTo>
                          <a:pt x="0" y="199"/>
                        </a:moveTo>
                        <a:lnTo>
                          <a:pt x="3" y="196"/>
                        </a:lnTo>
                        <a:lnTo>
                          <a:pt x="5" y="192"/>
                        </a:lnTo>
                        <a:lnTo>
                          <a:pt x="24" y="171"/>
                        </a:lnTo>
                        <a:lnTo>
                          <a:pt x="43" y="151"/>
                        </a:lnTo>
                        <a:lnTo>
                          <a:pt x="63" y="132"/>
                        </a:lnTo>
                        <a:lnTo>
                          <a:pt x="84" y="115"/>
                        </a:lnTo>
                        <a:lnTo>
                          <a:pt x="106" y="99"/>
                        </a:lnTo>
                        <a:lnTo>
                          <a:pt x="128" y="84"/>
                        </a:lnTo>
                        <a:lnTo>
                          <a:pt x="151" y="70"/>
                        </a:lnTo>
                        <a:lnTo>
                          <a:pt x="175" y="58"/>
                        </a:lnTo>
                        <a:lnTo>
                          <a:pt x="199" y="46"/>
                        </a:lnTo>
                        <a:lnTo>
                          <a:pt x="224" y="36"/>
                        </a:lnTo>
                        <a:lnTo>
                          <a:pt x="249" y="27"/>
                        </a:lnTo>
                        <a:lnTo>
                          <a:pt x="274" y="20"/>
                        </a:lnTo>
                        <a:lnTo>
                          <a:pt x="300" y="13"/>
                        </a:lnTo>
                        <a:lnTo>
                          <a:pt x="326" y="8"/>
                        </a:lnTo>
                        <a:lnTo>
                          <a:pt x="352" y="4"/>
                        </a:lnTo>
                        <a:lnTo>
                          <a:pt x="378" y="2"/>
                        </a:lnTo>
                        <a:lnTo>
                          <a:pt x="405" y="0"/>
                        </a:lnTo>
                        <a:lnTo>
                          <a:pt x="431" y="0"/>
                        </a:lnTo>
                        <a:lnTo>
                          <a:pt x="458" y="1"/>
                        </a:lnTo>
                        <a:lnTo>
                          <a:pt x="485" y="4"/>
                        </a:lnTo>
                        <a:lnTo>
                          <a:pt x="511" y="7"/>
                        </a:lnTo>
                        <a:lnTo>
                          <a:pt x="538" y="12"/>
                        </a:lnTo>
                        <a:lnTo>
                          <a:pt x="564" y="19"/>
                        </a:lnTo>
                        <a:lnTo>
                          <a:pt x="590" y="26"/>
                        </a:lnTo>
                        <a:lnTo>
                          <a:pt x="616" y="35"/>
                        </a:lnTo>
                        <a:lnTo>
                          <a:pt x="641" y="45"/>
                        </a:lnTo>
                        <a:lnTo>
                          <a:pt x="666" y="57"/>
                        </a:lnTo>
                        <a:lnTo>
                          <a:pt x="691" y="69"/>
                        </a:lnTo>
                        <a:lnTo>
                          <a:pt x="715" y="83"/>
                        </a:lnTo>
                        <a:lnTo>
                          <a:pt x="739" y="99"/>
                        </a:lnTo>
                        <a:lnTo>
                          <a:pt x="762" y="115"/>
                        </a:lnTo>
                        <a:lnTo>
                          <a:pt x="785" y="133"/>
                        </a:lnTo>
                        <a:lnTo>
                          <a:pt x="802" y="148"/>
                        </a:lnTo>
                        <a:lnTo>
                          <a:pt x="819" y="16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4360320" y="4707000"/>
                  <a:ext cx="691560" cy="131760"/>
                  <a:chOff x="4360320" y="4707000"/>
                  <a:chExt cx="691560" cy="1317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4360320" y="4757760"/>
                    <a:ext cx="112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1">
                        <a:moveTo>
                          <a:pt x="0" y="37"/>
                        </a:moveTo>
                        <a:lnTo>
                          <a:pt x="11" y="51"/>
                        </a:lnTo>
                        <a:lnTo>
                          <a:pt x="35" y="35"/>
                        </a:lnTo>
                        <a:lnTo>
                          <a:pt x="29" y="28"/>
                        </a:lnTo>
                        <a:lnTo>
                          <a:pt x="32" y="37"/>
                        </a:lnTo>
                        <a:lnTo>
                          <a:pt x="57" y="23"/>
                        </a:lnTo>
                        <a:lnTo>
                          <a:pt x="71" y="16"/>
                        </a:lnTo>
                        <a:lnTo>
                          <a:pt x="64" y="0"/>
                        </a:lnTo>
                        <a:lnTo>
                          <a:pt x="50" y="6"/>
                        </a:lnTo>
                        <a:lnTo>
                          <a:pt x="25" y="20"/>
                        </a:lnTo>
                        <a:lnTo>
                          <a:pt x="22" y="22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542480" y="4708440"/>
                    <a:ext cx="118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9">
                        <a:moveTo>
                          <a:pt x="0" y="12"/>
                        </a:moveTo>
                        <a:lnTo>
                          <a:pt x="5" y="29"/>
                        </a:lnTo>
                        <a:lnTo>
                          <a:pt x="22" y="25"/>
                        </a:lnTo>
                        <a:lnTo>
                          <a:pt x="19" y="17"/>
                        </a:lnTo>
                        <a:lnTo>
                          <a:pt x="19" y="26"/>
                        </a:lnTo>
                        <a:lnTo>
                          <a:pt x="47" y="20"/>
                        </a:lnTo>
                        <a:lnTo>
                          <a:pt x="75" y="18"/>
                        </a:lnTo>
                        <a:lnTo>
                          <a:pt x="73" y="0"/>
                        </a:lnTo>
                        <a:lnTo>
                          <a:pt x="47" y="2"/>
                        </a:lnTo>
                        <a:lnTo>
                          <a:pt x="19" y="8"/>
                        </a:lnTo>
                        <a:lnTo>
                          <a:pt x="15" y="8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4744080" y="4707000"/>
                    <a:ext cx="1173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8">
                        <a:moveTo>
                          <a:pt x="1" y="0"/>
                        </a:moveTo>
                        <a:lnTo>
                          <a:pt x="0" y="18"/>
                        </a:lnTo>
                        <a:lnTo>
                          <a:pt x="8" y="19"/>
                        </a:lnTo>
                        <a:lnTo>
                          <a:pt x="38" y="22"/>
                        </a:lnTo>
                        <a:lnTo>
                          <a:pt x="68" y="28"/>
                        </a:lnTo>
                        <a:lnTo>
                          <a:pt x="68" y="19"/>
                        </a:lnTo>
                        <a:lnTo>
                          <a:pt x="64" y="27"/>
                        </a:lnTo>
                        <a:lnTo>
                          <a:pt x="69" y="28"/>
                        </a:lnTo>
                        <a:lnTo>
                          <a:pt x="74" y="11"/>
                        </a:lnTo>
                        <a:lnTo>
                          <a:pt x="71" y="10"/>
                        </a:lnTo>
                        <a:lnTo>
                          <a:pt x="68" y="10"/>
                        </a:lnTo>
                        <a:lnTo>
                          <a:pt x="38" y="4"/>
                        </a:lnTo>
                        <a:lnTo>
                          <a:pt x="8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4936320" y="4749840"/>
                    <a:ext cx="1155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6" y="0"/>
                        </a:moveTo>
                        <a:lnTo>
                          <a:pt x="0" y="17"/>
                        </a:lnTo>
                        <a:lnTo>
                          <a:pt x="3" y="18"/>
                        </a:lnTo>
                        <a:lnTo>
                          <a:pt x="33" y="30"/>
                        </a:lnTo>
                        <a:lnTo>
                          <a:pt x="62" y="44"/>
                        </a:lnTo>
                        <a:lnTo>
                          <a:pt x="64" y="45"/>
                        </a:lnTo>
                        <a:lnTo>
                          <a:pt x="73" y="30"/>
                        </a:lnTo>
                        <a:lnTo>
                          <a:pt x="69" y="27"/>
                        </a:lnTo>
                        <a:lnTo>
                          <a:pt x="40" y="1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4079520" y="4616280"/>
                  <a:ext cx="28080" cy="304920"/>
                  <a:chOff x="4079520" y="4616280"/>
                  <a:chExt cx="28080" cy="3049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4079520" y="4616280"/>
                    <a:ext cx="2808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4079520" y="4816440"/>
                    <a:ext cx="28080" cy="10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" name=""/>
                <p:cNvSpPr/>
                <p:nvPr/>
              </p:nvSpPr>
              <p:spPr>
                <a:xfrm>
                  <a:off x="3997080" y="4564080"/>
                  <a:ext cx="345960" cy="377640"/>
                </a:xfrm>
                <a:custGeom>
                  <a:avLst/>
                  <a:gdLst/>
                  <a:ahLst/>
                  <a:rect l="l" t="t" r="r" b="b"/>
                  <a:pathLst>
                    <a:path w="218" h="238">
                      <a:moveTo>
                        <a:pt x="0" y="0"/>
                      </a:moveTo>
                      <a:lnTo>
                        <a:pt x="27" y="238"/>
                      </a:lnTo>
                      <a:lnTo>
                        <a:pt x="218" y="2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5298480" y="4540320"/>
                  <a:ext cx="28440" cy="228600"/>
                  <a:chOff x="5298480" y="4540320"/>
                  <a:chExt cx="28440" cy="2286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5298480" y="4540320"/>
                    <a:ext cx="2844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298480" y="4740480"/>
                    <a:ext cx="28440" cy="28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4122360" y="4552920"/>
                  <a:ext cx="1107360" cy="291960"/>
                  <a:chOff x="4122360" y="4552920"/>
                  <a:chExt cx="1107360" cy="2919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5214240" y="470844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6" y="9"/>
                        </a:move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6"/>
                        </a:lnTo>
                        <a:lnTo>
                          <a:pt x="10" y="5"/>
                        </a:lnTo>
                        <a:lnTo>
                          <a:pt x="9" y="4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4958640" y="4581360"/>
                    <a:ext cx="18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9" y="8"/>
                        </a:moveTo>
                        <a:lnTo>
                          <a:pt x="10" y="8"/>
                        </a:lnTo>
                        <a:lnTo>
                          <a:pt x="11" y="7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818960" y="4554360"/>
                    <a:ext cx="18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9" y="7"/>
                        </a:moveTo>
                        <a:lnTo>
                          <a:pt x="10" y="7"/>
                        </a:ln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676040" y="455292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">
                        <a:moveTo>
                          <a:pt x="10" y="6"/>
                        </a:moveTo>
                        <a:lnTo>
                          <a:pt x="11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4572720" y="4556160"/>
                    <a:ext cx="83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3">
                        <a:moveTo>
                          <a:pt x="51" y="6"/>
                        </a:moveTo>
                        <a:lnTo>
                          <a:pt x="52" y="5"/>
                        </a:lnTo>
                        <a:lnTo>
                          <a:pt x="53" y="4"/>
                        </a:lnTo>
                        <a:lnTo>
                          <a:pt x="53" y="3"/>
                        </a:lnTo>
                        <a:lnTo>
                          <a:pt x="53" y="2"/>
                        </a:lnTo>
                        <a:lnTo>
                          <a:pt x="53" y="1"/>
                        </a:lnTo>
                        <a:lnTo>
                          <a:pt x="52" y="0"/>
                        </a:lnTo>
                        <a:lnTo>
                          <a:pt x="51" y="0"/>
                        </a:lnTo>
                        <a:lnTo>
                          <a:pt x="50" y="0"/>
                        </a:lnTo>
                        <a:lnTo>
                          <a:pt x="26" y="3"/>
                        </a:lnTo>
                        <a:lnTo>
                          <a:pt x="2" y="7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27" y="9"/>
                        </a:lnTo>
                        <a:lnTo>
                          <a:pt x="5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536360" y="4573440"/>
                    <a:ext cx="16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9" y="6"/>
                        </a:moveTo>
                        <a:lnTo>
                          <a:pt x="10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436280" y="4584600"/>
                    <a:ext cx="80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2">
                        <a:moveTo>
                          <a:pt x="49" y="6"/>
                        </a:moveTo>
                        <a:lnTo>
                          <a:pt x="50" y="5"/>
                        </a:lnTo>
                        <a:lnTo>
                          <a:pt x="51" y="4"/>
                        </a:lnTo>
                        <a:lnTo>
                          <a:pt x="51" y="3"/>
                        </a:lnTo>
                        <a:lnTo>
                          <a:pt x="51" y="2"/>
                        </a:lnTo>
                        <a:lnTo>
                          <a:pt x="51" y="1"/>
                        </a:lnTo>
                        <a:lnTo>
                          <a:pt x="50" y="0"/>
                        </a:lnTo>
                        <a:lnTo>
                          <a:pt x="49" y="0"/>
                        </a:lnTo>
                        <a:lnTo>
                          <a:pt x="48" y="0"/>
                        </a:lnTo>
                        <a:lnTo>
                          <a:pt x="41" y="2"/>
                        </a:lnTo>
                        <a:lnTo>
                          <a:pt x="18" y="10"/>
                        </a:lnTo>
                        <a:lnTo>
                          <a:pt x="2" y="16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2"/>
                        </a:lnTo>
                        <a:lnTo>
                          <a:pt x="19" y="16"/>
                        </a:lnTo>
                        <a:lnTo>
                          <a:pt x="42" y="8"/>
                        </a:lnTo>
                        <a:lnTo>
                          <a:pt x="4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401360" y="462132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9" y="6"/>
                        </a:moveTo>
                        <a:lnTo>
                          <a:pt x="10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309200" y="4637160"/>
                    <a:ext cx="75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6" y="5"/>
                        </a:moveTo>
                        <a:lnTo>
                          <a:pt x="47" y="4"/>
                        </a:lnTo>
                        <a:lnTo>
                          <a:pt x="48" y="3"/>
                        </a:lnTo>
                        <a:lnTo>
                          <a:pt x="48" y="2"/>
                        </a:lnTo>
                        <a:lnTo>
                          <a:pt x="47" y="1"/>
                        </a:lnTo>
                        <a:lnTo>
                          <a:pt x="46" y="0"/>
                        </a:lnTo>
                        <a:lnTo>
                          <a:pt x="45" y="0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29" y="8"/>
                        </a:lnTo>
                        <a:lnTo>
                          <a:pt x="7" y="20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1" y="29"/>
                        </a:lnTo>
                        <a:lnTo>
                          <a:pt x="2" y="29"/>
                        </a:lnTo>
                        <a:lnTo>
                          <a:pt x="3" y="29"/>
                        </a:lnTo>
                        <a:lnTo>
                          <a:pt x="4" y="29"/>
                        </a:lnTo>
                        <a:lnTo>
                          <a:pt x="10" y="25"/>
                        </a:lnTo>
                        <a:lnTo>
                          <a:pt x="32" y="13"/>
                        </a:lnTo>
                        <a:lnTo>
                          <a:pt x="4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277520" y="4689360"/>
                    <a:ext cx="16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9" y="6"/>
                        </a:moveTo>
                        <a:lnTo>
                          <a:pt x="10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9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4195080" y="4711680"/>
                    <a:ext cx="67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7">
                        <a:moveTo>
                          <a:pt x="42" y="6"/>
                        </a:moveTo>
                        <a:lnTo>
                          <a:pt x="43" y="5"/>
                        </a:lnTo>
                        <a:lnTo>
                          <a:pt x="43" y="4"/>
                        </a:lnTo>
                        <a:lnTo>
                          <a:pt x="43" y="3"/>
                        </a:lnTo>
                        <a:lnTo>
                          <a:pt x="43" y="2"/>
                        </a:lnTo>
                        <a:lnTo>
                          <a:pt x="42" y="1"/>
                        </a:lnTo>
                        <a:lnTo>
                          <a:pt x="41" y="0"/>
                        </a:lnTo>
                        <a:lnTo>
                          <a:pt x="40" y="0"/>
                        </a:lnTo>
                        <a:lnTo>
                          <a:pt x="39" y="1"/>
                        </a:lnTo>
                        <a:lnTo>
                          <a:pt x="38" y="1"/>
                        </a:lnTo>
                        <a:lnTo>
                          <a:pt x="18" y="17"/>
                        </a:lnTo>
                        <a:lnTo>
                          <a:pt x="2" y="31"/>
                        </a:lnTo>
                        <a:lnTo>
                          <a:pt x="1" y="32"/>
                        </a:ln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1" y="35"/>
                        </a:lnTo>
                        <a:lnTo>
                          <a:pt x="2" y="36"/>
                        </a:lnTo>
                        <a:lnTo>
                          <a:pt x="3" y="37"/>
                        </a:lnTo>
                        <a:lnTo>
                          <a:pt x="4" y="37"/>
                        </a:lnTo>
                        <a:lnTo>
                          <a:pt x="5" y="36"/>
                        </a:lnTo>
                        <a:lnTo>
                          <a:pt x="21" y="22"/>
                        </a:lnTo>
                        <a:lnTo>
                          <a:pt x="41" y="6"/>
                        </a:lnTo>
                        <a:lnTo>
                          <a:pt x="4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4168080" y="478008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5"/>
                        </a:moveTo>
                        <a:lnTo>
                          <a:pt x="10" y="4"/>
                        </a:lnTo>
                        <a:lnTo>
                          <a:pt x="10" y="3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5" y="9"/>
                        </a:lnTo>
                        <a:lnTo>
                          <a:pt x="1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4122360" y="4807080"/>
                    <a:ext cx="34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22" y="4"/>
                        </a:moveTo>
                        <a:lnTo>
                          <a:pt x="22" y="3"/>
                        </a:lnTo>
                        <a:lnTo>
                          <a:pt x="22" y="2"/>
                        </a:lnTo>
                        <a:lnTo>
                          <a:pt x="22" y="1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1"/>
                        </a:lnTo>
                        <a:lnTo>
                          <a:pt x="12" y="7"/>
                        </a:lnTo>
                        <a:lnTo>
                          <a:pt x="1" y="20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1" y="22"/>
                        </a:lnTo>
                        <a:lnTo>
                          <a:pt x="2" y="23"/>
                        </a:lnTo>
                        <a:lnTo>
                          <a:pt x="3" y="24"/>
                        </a:lnTo>
                        <a:lnTo>
                          <a:pt x="3" y="24"/>
                        </a:lnTo>
                        <a:lnTo>
                          <a:pt x="4" y="23"/>
                        </a:lnTo>
                        <a:lnTo>
                          <a:pt x="6" y="23"/>
                        </a:lnTo>
                        <a:lnTo>
                          <a:pt x="17" y="10"/>
                        </a:lnTo>
                        <a:lnTo>
                          <a:pt x="2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"/>
                <p:cNvSpPr/>
                <p:nvPr/>
              </p:nvSpPr>
              <p:spPr>
                <a:xfrm>
                  <a:off x="4079520" y="4616280"/>
                  <a:ext cx="2808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208040" y="4830840"/>
                  <a:ext cx="1137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122440" y="4830840"/>
                  <a:ext cx="1137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227200" y="475920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61" y="13"/>
                      </a:moveTo>
                      <a:lnTo>
                        <a:pt x="48" y="0"/>
                      </a:lnTo>
                      <a:lnTo>
                        <a:pt x="0" y="48"/>
                      </a:lnTo>
                      <a:lnTo>
                        <a:pt x="13" y="61"/>
                      </a:lnTo>
                      <a:lnTo>
                        <a:pt x="6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084200" y="475920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13" y="0"/>
                      </a:moveTo>
                      <a:lnTo>
                        <a:pt x="0" y="13"/>
                      </a:lnTo>
                      <a:lnTo>
                        <a:pt x="48" y="61"/>
                      </a:lnTo>
                      <a:lnTo>
                        <a:pt x="61" y="4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965760" y="0"/>
                <a:ext cx="1477440" cy="918720"/>
                <a:chOff x="3965760" y="0"/>
                <a:chExt cx="1477440" cy="91872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4016160" y="0"/>
                  <a:ext cx="1299960" cy="874800"/>
                  <a:chOff x="4016160" y="0"/>
                  <a:chExt cx="1299960" cy="8748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4016160" y="0"/>
                    <a:ext cx="1299960" cy="87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551">
                        <a:moveTo>
                          <a:pt x="0" y="352"/>
                        </a:moveTo>
                        <a:lnTo>
                          <a:pt x="3" y="356"/>
                        </a:lnTo>
                        <a:lnTo>
                          <a:pt x="5" y="359"/>
                        </a:lnTo>
                        <a:lnTo>
                          <a:pt x="24" y="380"/>
                        </a:lnTo>
                        <a:lnTo>
                          <a:pt x="43" y="400"/>
                        </a:lnTo>
                        <a:lnTo>
                          <a:pt x="63" y="419"/>
                        </a:lnTo>
                        <a:lnTo>
                          <a:pt x="84" y="436"/>
                        </a:lnTo>
                        <a:lnTo>
                          <a:pt x="106" y="452"/>
                        </a:lnTo>
                        <a:lnTo>
                          <a:pt x="128" y="467"/>
                        </a:lnTo>
                        <a:lnTo>
                          <a:pt x="151" y="481"/>
                        </a:lnTo>
                        <a:lnTo>
                          <a:pt x="175" y="494"/>
                        </a:lnTo>
                        <a:lnTo>
                          <a:pt x="199" y="505"/>
                        </a:lnTo>
                        <a:lnTo>
                          <a:pt x="224" y="515"/>
                        </a:lnTo>
                        <a:lnTo>
                          <a:pt x="249" y="524"/>
                        </a:lnTo>
                        <a:lnTo>
                          <a:pt x="274" y="531"/>
                        </a:lnTo>
                        <a:lnTo>
                          <a:pt x="300" y="538"/>
                        </a:lnTo>
                        <a:lnTo>
                          <a:pt x="326" y="543"/>
                        </a:lnTo>
                        <a:lnTo>
                          <a:pt x="352" y="547"/>
                        </a:lnTo>
                        <a:lnTo>
                          <a:pt x="378" y="549"/>
                        </a:lnTo>
                        <a:lnTo>
                          <a:pt x="405" y="551"/>
                        </a:lnTo>
                        <a:lnTo>
                          <a:pt x="431" y="551"/>
                        </a:lnTo>
                        <a:lnTo>
                          <a:pt x="458" y="550"/>
                        </a:lnTo>
                        <a:lnTo>
                          <a:pt x="485" y="547"/>
                        </a:lnTo>
                        <a:lnTo>
                          <a:pt x="511" y="544"/>
                        </a:lnTo>
                        <a:lnTo>
                          <a:pt x="538" y="539"/>
                        </a:lnTo>
                        <a:lnTo>
                          <a:pt x="564" y="532"/>
                        </a:lnTo>
                        <a:lnTo>
                          <a:pt x="590" y="525"/>
                        </a:lnTo>
                        <a:lnTo>
                          <a:pt x="616" y="516"/>
                        </a:lnTo>
                        <a:lnTo>
                          <a:pt x="641" y="506"/>
                        </a:lnTo>
                        <a:lnTo>
                          <a:pt x="666" y="495"/>
                        </a:lnTo>
                        <a:lnTo>
                          <a:pt x="691" y="482"/>
                        </a:lnTo>
                        <a:lnTo>
                          <a:pt x="715" y="468"/>
                        </a:lnTo>
                        <a:lnTo>
                          <a:pt x="739" y="453"/>
                        </a:lnTo>
                        <a:lnTo>
                          <a:pt x="762" y="436"/>
                        </a:lnTo>
                        <a:lnTo>
                          <a:pt x="785" y="418"/>
                        </a:lnTo>
                        <a:lnTo>
                          <a:pt x="802" y="403"/>
                        </a:lnTo>
                        <a:lnTo>
                          <a:pt x="819" y="387"/>
                        </a:lnTo>
                        <a:lnTo>
                          <a:pt x="435" y="0"/>
                        </a:lnTo>
                        <a:lnTo>
                          <a:pt x="0" y="3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4016160" y="558720"/>
                    <a:ext cx="12999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199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5" y="7"/>
                        </a:lnTo>
                        <a:lnTo>
                          <a:pt x="24" y="28"/>
                        </a:lnTo>
                        <a:lnTo>
                          <a:pt x="43" y="48"/>
                        </a:lnTo>
                        <a:lnTo>
                          <a:pt x="63" y="67"/>
                        </a:lnTo>
                        <a:lnTo>
                          <a:pt x="84" y="84"/>
                        </a:lnTo>
                        <a:lnTo>
                          <a:pt x="106" y="100"/>
                        </a:lnTo>
                        <a:lnTo>
                          <a:pt x="128" y="115"/>
                        </a:lnTo>
                        <a:lnTo>
                          <a:pt x="151" y="129"/>
                        </a:lnTo>
                        <a:lnTo>
                          <a:pt x="175" y="142"/>
                        </a:lnTo>
                        <a:lnTo>
                          <a:pt x="199" y="153"/>
                        </a:lnTo>
                        <a:lnTo>
                          <a:pt x="224" y="163"/>
                        </a:lnTo>
                        <a:lnTo>
                          <a:pt x="249" y="172"/>
                        </a:lnTo>
                        <a:lnTo>
                          <a:pt x="274" y="179"/>
                        </a:lnTo>
                        <a:lnTo>
                          <a:pt x="300" y="186"/>
                        </a:lnTo>
                        <a:lnTo>
                          <a:pt x="326" y="191"/>
                        </a:lnTo>
                        <a:lnTo>
                          <a:pt x="352" y="195"/>
                        </a:lnTo>
                        <a:lnTo>
                          <a:pt x="378" y="197"/>
                        </a:lnTo>
                        <a:lnTo>
                          <a:pt x="405" y="199"/>
                        </a:lnTo>
                        <a:lnTo>
                          <a:pt x="431" y="199"/>
                        </a:lnTo>
                        <a:lnTo>
                          <a:pt x="458" y="198"/>
                        </a:lnTo>
                        <a:lnTo>
                          <a:pt x="485" y="195"/>
                        </a:lnTo>
                        <a:lnTo>
                          <a:pt x="511" y="192"/>
                        </a:lnTo>
                        <a:lnTo>
                          <a:pt x="538" y="187"/>
                        </a:lnTo>
                        <a:lnTo>
                          <a:pt x="564" y="180"/>
                        </a:lnTo>
                        <a:lnTo>
                          <a:pt x="590" y="173"/>
                        </a:lnTo>
                        <a:lnTo>
                          <a:pt x="616" y="164"/>
                        </a:lnTo>
                        <a:lnTo>
                          <a:pt x="641" y="154"/>
                        </a:lnTo>
                        <a:lnTo>
                          <a:pt x="666" y="143"/>
                        </a:lnTo>
                        <a:lnTo>
                          <a:pt x="691" y="130"/>
                        </a:lnTo>
                        <a:lnTo>
                          <a:pt x="715" y="116"/>
                        </a:lnTo>
                        <a:lnTo>
                          <a:pt x="739" y="101"/>
                        </a:lnTo>
                        <a:lnTo>
                          <a:pt x="762" y="84"/>
                        </a:lnTo>
                        <a:lnTo>
                          <a:pt x="785" y="66"/>
                        </a:lnTo>
                        <a:lnTo>
                          <a:pt x="802" y="51"/>
                        </a:lnTo>
                        <a:lnTo>
                          <a:pt x="819" y="3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5022720" y="290520"/>
                  <a:ext cx="364680" cy="374760"/>
                </a:xfrm>
                <a:custGeom>
                  <a:avLst/>
                  <a:gdLst/>
                  <a:ahLst/>
                  <a:rect l="l" t="t" r="r" b="b"/>
                  <a:pathLst>
                    <a:path w="230" h="236">
                      <a:moveTo>
                        <a:pt x="230" y="236"/>
                      </a:moveTo>
                      <a:lnTo>
                        <a:pt x="189" y="0"/>
                      </a:lnTo>
                      <a:lnTo>
                        <a:pt x="0" y="34"/>
                      </a:lnTo>
                      <a:lnTo>
                        <a:pt x="230" y="2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4016160" y="44280"/>
                  <a:ext cx="1299960" cy="874440"/>
                  <a:chOff x="4016160" y="44280"/>
                  <a:chExt cx="1299960" cy="87444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016160" y="44280"/>
                    <a:ext cx="1299960" cy="874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551">
                        <a:moveTo>
                          <a:pt x="0" y="352"/>
                        </a:moveTo>
                        <a:lnTo>
                          <a:pt x="3" y="356"/>
                        </a:lnTo>
                        <a:lnTo>
                          <a:pt x="5" y="359"/>
                        </a:lnTo>
                        <a:lnTo>
                          <a:pt x="24" y="380"/>
                        </a:lnTo>
                        <a:lnTo>
                          <a:pt x="43" y="400"/>
                        </a:lnTo>
                        <a:lnTo>
                          <a:pt x="63" y="419"/>
                        </a:lnTo>
                        <a:lnTo>
                          <a:pt x="84" y="436"/>
                        </a:lnTo>
                        <a:lnTo>
                          <a:pt x="106" y="452"/>
                        </a:lnTo>
                        <a:lnTo>
                          <a:pt x="128" y="467"/>
                        </a:lnTo>
                        <a:lnTo>
                          <a:pt x="151" y="481"/>
                        </a:lnTo>
                        <a:lnTo>
                          <a:pt x="175" y="494"/>
                        </a:lnTo>
                        <a:lnTo>
                          <a:pt x="199" y="505"/>
                        </a:lnTo>
                        <a:lnTo>
                          <a:pt x="224" y="515"/>
                        </a:lnTo>
                        <a:lnTo>
                          <a:pt x="249" y="524"/>
                        </a:lnTo>
                        <a:lnTo>
                          <a:pt x="274" y="531"/>
                        </a:lnTo>
                        <a:lnTo>
                          <a:pt x="300" y="538"/>
                        </a:lnTo>
                        <a:lnTo>
                          <a:pt x="326" y="543"/>
                        </a:lnTo>
                        <a:lnTo>
                          <a:pt x="352" y="547"/>
                        </a:lnTo>
                        <a:lnTo>
                          <a:pt x="378" y="549"/>
                        </a:lnTo>
                        <a:lnTo>
                          <a:pt x="405" y="551"/>
                        </a:lnTo>
                        <a:lnTo>
                          <a:pt x="431" y="551"/>
                        </a:lnTo>
                        <a:lnTo>
                          <a:pt x="458" y="550"/>
                        </a:lnTo>
                        <a:lnTo>
                          <a:pt x="485" y="547"/>
                        </a:lnTo>
                        <a:lnTo>
                          <a:pt x="511" y="544"/>
                        </a:lnTo>
                        <a:lnTo>
                          <a:pt x="538" y="539"/>
                        </a:lnTo>
                        <a:lnTo>
                          <a:pt x="564" y="532"/>
                        </a:lnTo>
                        <a:lnTo>
                          <a:pt x="590" y="525"/>
                        </a:lnTo>
                        <a:lnTo>
                          <a:pt x="616" y="516"/>
                        </a:lnTo>
                        <a:lnTo>
                          <a:pt x="641" y="506"/>
                        </a:lnTo>
                        <a:lnTo>
                          <a:pt x="666" y="495"/>
                        </a:lnTo>
                        <a:lnTo>
                          <a:pt x="691" y="482"/>
                        </a:lnTo>
                        <a:lnTo>
                          <a:pt x="715" y="468"/>
                        </a:lnTo>
                        <a:lnTo>
                          <a:pt x="739" y="453"/>
                        </a:lnTo>
                        <a:lnTo>
                          <a:pt x="762" y="436"/>
                        </a:lnTo>
                        <a:lnTo>
                          <a:pt x="785" y="418"/>
                        </a:lnTo>
                        <a:lnTo>
                          <a:pt x="802" y="403"/>
                        </a:lnTo>
                        <a:lnTo>
                          <a:pt x="819" y="387"/>
                        </a:lnTo>
                        <a:lnTo>
                          <a:pt x="435" y="0"/>
                        </a:lnTo>
                        <a:lnTo>
                          <a:pt x="0" y="3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016160" y="603000"/>
                    <a:ext cx="12999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199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5" y="7"/>
                        </a:lnTo>
                        <a:lnTo>
                          <a:pt x="24" y="28"/>
                        </a:lnTo>
                        <a:lnTo>
                          <a:pt x="43" y="48"/>
                        </a:lnTo>
                        <a:lnTo>
                          <a:pt x="63" y="67"/>
                        </a:lnTo>
                        <a:lnTo>
                          <a:pt x="84" y="84"/>
                        </a:lnTo>
                        <a:lnTo>
                          <a:pt x="106" y="100"/>
                        </a:lnTo>
                        <a:lnTo>
                          <a:pt x="128" y="115"/>
                        </a:lnTo>
                        <a:lnTo>
                          <a:pt x="151" y="129"/>
                        </a:lnTo>
                        <a:lnTo>
                          <a:pt x="175" y="142"/>
                        </a:lnTo>
                        <a:lnTo>
                          <a:pt x="199" y="153"/>
                        </a:lnTo>
                        <a:lnTo>
                          <a:pt x="224" y="163"/>
                        </a:lnTo>
                        <a:lnTo>
                          <a:pt x="249" y="172"/>
                        </a:lnTo>
                        <a:lnTo>
                          <a:pt x="274" y="179"/>
                        </a:lnTo>
                        <a:lnTo>
                          <a:pt x="300" y="186"/>
                        </a:lnTo>
                        <a:lnTo>
                          <a:pt x="326" y="191"/>
                        </a:lnTo>
                        <a:lnTo>
                          <a:pt x="352" y="195"/>
                        </a:lnTo>
                        <a:lnTo>
                          <a:pt x="378" y="197"/>
                        </a:lnTo>
                        <a:lnTo>
                          <a:pt x="405" y="199"/>
                        </a:lnTo>
                        <a:lnTo>
                          <a:pt x="431" y="199"/>
                        </a:lnTo>
                        <a:lnTo>
                          <a:pt x="458" y="198"/>
                        </a:lnTo>
                        <a:lnTo>
                          <a:pt x="485" y="195"/>
                        </a:lnTo>
                        <a:lnTo>
                          <a:pt x="511" y="192"/>
                        </a:lnTo>
                        <a:lnTo>
                          <a:pt x="538" y="187"/>
                        </a:lnTo>
                        <a:lnTo>
                          <a:pt x="564" y="180"/>
                        </a:lnTo>
                        <a:lnTo>
                          <a:pt x="590" y="173"/>
                        </a:lnTo>
                        <a:lnTo>
                          <a:pt x="616" y="164"/>
                        </a:lnTo>
                        <a:lnTo>
                          <a:pt x="641" y="154"/>
                        </a:lnTo>
                        <a:lnTo>
                          <a:pt x="666" y="143"/>
                        </a:lnTo>
                        <a:lnTo>
                          <a:pt x="691" y="130"/>
                        </a:lnTo>
                        <a:lnTo>
                          <a:pt x="715" y="116"/>
                        </a:lnTo>
                        <a:lnTo>
                          <a:pt x="739" y="101"/>
                        </a:lnTo>
                        <a:lnTo>
                          <a:pt x="762" y="84"/>
                        </a:lnTo>
                        <a:lnTo>
                          <a:pt x="785" y="66"/>
                        </a:lnTo>
                        <a:lnTo>
                          <a:pt x="802" y="51"/>
                        </a:lnTo>
                        <a:lnTo>
                          <a:pt x="819" y="3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"/>
                <p:cNvSpPr/>
                <p:nvPr/>
              </p:nvSpPr>
              <p:spPr>
                <a:xfrm>
                  <a:off x="4300560" y="403200"/>
                  <a:ext cx="785160" cy="154080"/>
                </a:xfrm>
                <a:custGeom>
                  <a:avLst/>
                  <a:gdLst/>
                  <a:ahLst/>
                  <a:rect l="l" t="t" r="r" b="b"/>
                  <a:pathLst>
                    <a:path w="495" h="97">
                      <a:moveTo>
                        <a:pt x="12" y="0"/>
                      </a:moveTo>
                      <a:lnTo>
                        <a:pt x="0" y="14"/>
                      </a:lnTo>
                      <a:lnTo>
                        <a:pt x="24" y="33"/>
                      </a:lnTo>
                      <a:lnTo>
                        <a:pt x="27" y="35"/>
                      </a:lnTo>
                      <a:lnTo>
                        <a:pt x="53" y="51"/>
                      </a:lnTo>
                      <a:lnTo>
                        <a:pt x="80" y="65"/>
                      </a:lnTo>
                      <a:lnTo>
                        <a:pt x="109" y="76"/>
                      </a:lnTo>
                      <a:lnTo>
                        <a:pt x="138" y="85"/>
                      </a:lnTo>
                      <a:lnTo>
                        <a:pt x="169" y="92"/>
                      </a:lnTo>
                      <a:lnTo>
                        <a:pt x="172" y="92"/>
                      </a:lnTo>
                      <a:lnTo>
                        <a:pt x="203" y="96"/>
                      </a:lnTo>
                      <a:lnTo>
                        <a:pt x="235" y="97"/>
                      </a:lnTo>
                      <a:lnTo>
                        <a:pt x="267" y="96"/>
                      </a:lnTo>
                      <a:lnTo>
                        <a:pt x="299" y="92"/>
                      </a:lnTo>
                      <a:lnTo>
                        <a:pt x="332" y="86"/>
                      </a:lnTo>
                      <a:lnTo>
                        <a:pt x="335" y="86"/>
                      </a:lnTo>
                      <a:lnTo>
                        <a:pt x="368" y="77"/>
                      </a:lnTo>
                      <a:lnTo>
                        <a:pt x="400" y="66"/>
                      </a:lnTo>
                      <a:lnTo>
                        <a:pt x="432" y="52"/>
                      </a:lnTo>
                      <a:lnTo>
                        <a:pt x="463" y="36"/>
                      </a:lnTo>
                      <a:lnTo>
                        <a:pt x="495" y="17"/>
                      </a:lnTo>
                      <a:lnTo>
                        <a:pt x="485" y="2"/>
                      </a:lnTo>
                      <a:lnTo>
                        <a:pt x="456" y="19"/>
                      </a:lnTo>
                      <a:lnTo>
                        <a:pt x="425" y="35"/>
                      </a:lnTo>
                      <a:lnTo>
                        <a:pt x="393" y="49"/>
                      </a:lnTo>
                      <a:lnTo>
                        <a:pt x="361" y="60"/>
                      </a:lnTo>
                      <a:lnTo>
                        <a:pt x="328" y="69"/>
                      </a:lnTo>
                      <a:lnTo>
                        <a:pt x="332" y="77"/>
                      </a:lnTo>
                      <a:lnTo>
                        <a:pt x="332" y="68"/>
                      </a:lnTo>
                      <a:lnTo>
                        <a:pt x="299" y="74"/>
                      </a:lnTo>
                      <a:lnTo>
                        <a:pt x="267" y="78"/>
                      </a:lnTo>
                      <a:lnTo>
                        <a:pt x="235" y="79"/>
                      </a:lnTo>
                      <a:lnTo>
                        <a:pt x="203" y="78"/>
                      </a:lnTo>
                      <a:lnTo>
                        <a:pt x="172" y="74"/>
                      </a:lnTo>
                      <a:lnTo>
                        <a:pt x="172" y="83"/>
                      </a:lnTo>
                      <a:lnTo>
                        <a:pt x="176" y="75"/>
                      </a:lnTo>
                      <a:lnTo>
                        <a:pt x="145" y="68"/>
                      </a:lnTo>
                      <a:lnTo>
                        <a:pt x="116" y="59"/>
                      </a:lnTo>
                      <a:lnTo>
                        <a:pt x="87" y="48"/>
                      </a:lnTo>
                      <a:lnTo>
                        <a:pt x="60" y="34"/>
                      </a:lnTo>
                      <a:lnTo>
                        <a:pt x="34" y="18"/>
                      </a:lnTo>
                      <a:lnTo>
                        <a:pt x="30" y="26"/>
                      </a:lnTo>
                      <a:lnTo>
                        <a:pt x="37" y="2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4047840" y="341280"/>
                  <a:ext cx="28440" cy="304920"/>
                  <a:chOff x="4047840" y="341280"/>
                  <a:chExt cx="28440" cy="3049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4047840" y="532080"/>
                    <a:ext cx="2844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47840" y="341280"/>
                    <a:ext cx="28440" cy="10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"/>
                <p:cNvSpPr/>
                <p:nvPr/>
              </p:nvSpPr>
              <p:spPr>
                <a:xfrm>
                  <a:off x="3965760" y="320760"/>
                  <a:ext cx="345600" cy="377640"/>
                </a:xfrm>
                <a:custGeom>
                  <a:avLst/>
                  <a:gdLst/>
                  <a:ahLst/>
                  <a:rect l="l" t="t" r="r" b="b"/>
                  <a:pathLst>
                    <a:path w="218" h="238">
                      <a:moveTo>
                        <a:pt x="0" y="238"/>
                      </a:moveTo>
                      <a:lnTo>
                        <a:pt x="27" y="0"/>
                      </a:lnTo>
                      <a:lnTo>
                        <a:pt x="218" y="22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62320" y="401760"/>
                  <a:ext cx="380880" cy="326880"/>
                </a:xfrm>
                <a:custGeom>
                  <a:avLst/>
                  <a:gdLst/>
                  <a:ahLst/>
                  <a:rect l="l" t="t" r="r" b="b"/>
                  <a:pathLst>
                    <a:path w="240" h="206">
                      <a:moveTo>
                        <a:pt x="0" y="0"/>
                      </a:moveTo>
                      <a:lnTo>
                        <a:pt x="240" y="15"/>
                      </a:lnTo>
                      <a:lnTo>
                        <a:pt x="228" y="2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267160" y="493560"/>
                  <a:ext cx="28080" cy="22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4091040" y="417600"/>
                  <a:ext cx="1186560" cy="293760"/>
                  <a:chOff x="4091040" y="417600"/>
                  <a:chExt cx="1186560" cy="293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5211360" y="470160"/>
                    <a:ext cx="66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8">
                        <a:moveTo>
                          <a:pt x="42" y="5"/>
                        </a:moveTo>
                        <a:lnTo>
                          <a:pt x="42" y="3"/>
                        </a:lnTo>
                        <a:lnTo>
                          <a:pt x="42" y="3"/>
                        </a:lnTo>
                        <a:lnTo>
                          <a:pt x="41" y="2"/>
                        </a:lnTo>
                        <a:lnTo>
                          <a:pt x="40" y="1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8" y="1"/>
                        </a:lnTo>
                        <a:lnTo>
                          <a:pt x="37" y="2"/>
                        </a:lnTo>
                        <a:lnTo>
                          <a:pt x="34" y="4"/>
                        </a:lnTo>
                        <a:lnTo>
                          <a:pt x="32" y="7"/>
                        </a:lnTo>
                        <a:lnTo>
                          <a:pt x="34" y="8"/>
                        </a:lnTo>
                        <a:lnTo>
                          <a:pt x="33" y="6"/>
                        </a:lnTo>
                        <a:lnTo>
                          <a:pt x="14" y="23"/>
                        </a:lnTo>
                        <a:lnTo>
                          <a:pt x="2" y="33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2" y="38"/>
                        </a:lnTo>
                        <a:lnTo>
                          <a:pt x="3" y="38"/>
                        </a:lnTo>
                        <a:lnTo>
                          <a:pt x="4" y="38"/>
                        </a:lnTo>
                        <a:lnTo>
                          <a:pt x="5" y="38"/>
                        </a:lnTo>
                        <a:lnTo>
                          <a:pt x="17" y="28"/>
                        </a:lnTo>
                        <a:lnTo>
                          <a:pt x="36" y="11"/>
                        </a:lnTo>
                        <a:lnTo>
                          <a:pt x="37" y="10"/>
                        </a:lnTo>
                        <a:lnTo>
                          <a:pt x="39" y="7"/>
                        </a:lnTo>
                        <a:lnTo>
                          <a:pt x="4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182920" y="53820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9" y="6"/>
                        </a:moveTo>
                        <a:lnTo>
                          <a:pt x="10" y="5"/>
                        </a:lnTo>
                        <a:lnTo>
                          <a:pt x="10" y="4"/>
                        </a:lnTo>
                        <a:lnTo>
                          <a:pt x="10" y="3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094000" y="561960"/>
                    <a:ext cx="74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1">
                        <a:moveTo>
                          <a:pt x="46" y="5"/>
                        </a:moveTo>
                        <a:lnTo>
                          <a:pt x="47" y="4"/>
                        </a:lnTo>
                        <a:lnTo>
                          <a:pt x="47" y="3"/>
                        </a:lnTo>
                        <a:lnTo>
                          <a:pt x="47" y="2"/>
                        </a:lnTo>
                        <a:lnTo>
                          <a:pt x="47" y="1"/>
                        </a:lnTo>
                        <a:lnTo>
                          <a:pt x="46" y="0"/>
                        </a:lnTo>
                        <a:lnTo>
                          <a:pt x="45" y="0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27" y="11"/>
                        </a:lnTo>
                        <a:lnTo>
                          <a:pt x="6" y="24"/>
                        </a:lnTo>
                        <a:lnTo>
                          <a:pt x="2" y="26"/>
                        </a:lnTo>
                        <a:lnTo>
                          <a:pt x="1" y="27"/>
                        </a:lnTo>
                        <a:lnTo>
                          <a:pt x="0" y="28"/>
                        </a:lnTo>
                        <a:lnTo>
                          <a:pt x="0" y="29"/>
                        </a:lnTo>
                        <a:lnTo>
                          <a:pt x="1" y="30"/>
                        </a:lnTo>
                        <a:lnTo>
                          <a:pt x="2" y="31"/>
                        </a:lnTo>
                        <a:lnTo>
                          <a:pt x="3" y="31"/>
                        </a:lnTo>
                        <a:lnTo>
                          <a:pt x="4" y="31"/>
                        </a:lnTo>
                        <a:lnTo>
                          <a:pt x="5" y="31"/>
                        </a:lnTo>
                        <a:lnTo>
                          <a:pt x="9" y="29"/>
                        </a:lnTo>
                        <a:lnTo>
                          <a:pt x="30" y="16"/>
                        </a:lnTo>
                        <a:lnTo>
                          <a:pt x="4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060520" y="615960"/>
                    <a:ext cx="18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10" y="5"/>
                        </a:moveTo>
                        <a:lnTo>
                          <a:pt x="11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1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963680" y="631800"/>
                    <a:ext cx="80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4">
                        <a:moveTo>
                          <a:pt x="48" y="6"/>
                        </a:moveTo>
                        <a:lnTo>
                          <a:pt x="49" y="5"/>
                        </a:lnTo>
                        <a:lnTo>
                          <a:pt x="50" y="4"/>
                        </a:lnTo>
                        <a:lnTo>
                          <a:pt x="51" y="3"/>
                        </a:lnTo>
                        <a:lnTo>
                          <a:pt x="51" y="2"/>
                        </a:lnTo>
                        <a:lnTo>
                          <a:pt x="50" y="1"/>
                        </a:lnTo>
                        <a:lnTo>
                          <a:pt x="49" y="0"/>
                        </a:lnTo>
                        <a:lnTo>
                          <a:pt x="48" y="0"/>
                        </a:lnTo>
                        <a:lnTo>
                          <a:pt x="47" y="0"/>
                        </a:lnTo>
                        <a:lnTo>
                          <a:pt x="45" y="1"/>
                        </a:lnTo>
                        <a:lnTo>
                          <a:pt x="22" y="11"/>
                        </a:lnTo>
                        <a:lnTo>
                          <a:pt x="3" y="18"/>
                        </a:lnTo>
                        <a:lnTo>
                          <a:pt x="2" y="18"/>
                        </a:lnTo>
                        <a:lnTo>
                          <a:pt x="1" y="19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1" y="22"/>
                        </a:lnTo>
                        <a:lnTo>
                          <a:pt x="2" y="23"/>
                        </a:lnTo>
                        <a:lnTo>
                          <a:pt x="3" y="24"/>
                        </a:lnTo>
                        <a:lnTo>
                          <a:pt x="4" y="24"/>
                        </a:lnTo>
                        <a:lnTo>
                          <a:pt x="23" y="17"/>
                        </a:lnTo>
                        <a:lnTo>
                          <a:pt x="46" y="7"/>
                        </a:lnTo>
                        <a:lnTo>
                          <a:pt x="48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927320" y="668520"/>
                    <a:ext cx="187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10" y="6"/>
                        </a:move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825800" y="677880"/>
                    <a:ext cx="83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6">
                        <a:moveTo>
                          <a:pt x="50" y="6"/>
                        </a:moveTo>
                        <a:lnTo>
                          <a:pt x="51" y="6"/>
                        </a:lnTo>
                        <a:lnTo>
                          <a:pt x="52" y="5"/>
                        </a:lnTo>
                        <a:lnTo>
                          <a:pt x="53" y="4"/>
                        </a:lnTo>
                        <a:lnTo>
                          <a:pt x="53" y="3"/>
                        </a:lnTo>
                        <a:lnTo>
                          <a:pt x="52" y="2"/>
                        </a:lnTo>
                        <a:lnTo>
                          <a:pt x="51" y="1"/>
                        </a:lnTo>
                        <a:lnTo>
                          <a:pt x="50" y="0"/>
                        </a:lnTo>
                        <a:lnTo>
                          <a:pt x="49" y="0"/>
                        </a:lnTo>
                        <a:lnTo>
                          <a:pt x="39" y="3"/>
                        </a:lnTo>
                        <a:lnTo>
                          <a:pt x="16" y="8"/>
                        </a:lnTo>
                        <a:lnTo>
                          <a:pt x="2" y="10"/>
                        </a:lnTo>
                        <a:lnTo>
                          <a:pt x="1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1" y="15"/>
                        </a:lnTo>
                        <a:lnTo>
                          <a:pt x="2" y="16"/>
                        </a:lnTo>
                        <a:lnTo>
                          <a:pt x="3" y="16"/>
                        </a:lnTo>
                        <a:lnTo>
                          <a:pt x="17" y="14"/>
                        </a:lnTo>
                        <a:lnTo>
                          <a:pt x="40" y="9"/>
                        </a:lnTo>
                        <a:lnTo>
                          <a:pt x="5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4787640" y="69696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10" y="6"/>
                        </a:move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682880" y="700200"/>
                    <a:ext cx="85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7">
                        <a:moveTo>
                          <a:pt x="52" y="6"/>
                        </a:moveTo>
                        <a:lnTo>
                          <a:pt x="53" y="6"/>
                        </a:lnTo>
                        <a:lnTo>
                          <a:pt x="54" y="5"/>
                        </a:lnTo>
                        <a:lnTo>
                          <a:pt x="54" y="4"/>
                        </a:lnTo>
                        <a:lnTo>
                          <a:pt x="54" y="3"/>
                        </a:lnTo>
                        <a:lnTo>
                          <a:pt x="54" y="2"/>
                        </a:lnTo>
                        <a:lnTo>
                          <a:pt x="53" y="1"/>
                        </a:lnTo>
                        <a:lnTo>
                          <a:pt x="52" y="0"/>
                        </a:lnTo>
                        <a:lnTo>
                          <a:pt x="51" y="0"/>
                        </a:lnTo>
                        <a:lnTo>
                          <a:pt x="33" y="1"/>
                        </a:lnTo>
                        <a:lnTo>
                          <a:pt x="9" y="1"/>
                        </a:lnTo>
                        <a:lnTo>
                          <a:pt x="10" y="4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9" y="7"/>
                        </a:lnTo>
                        <a:lnTo>
                          <a:pt x="10" y="7"/>
                        </a:lnTo>
                        <a:lnTo>
                          <a:pt x="34" y="7"/>
                        </a:lnTo>
                        <a:lnTo>
                          <a:pt x="5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644720" y="700200"/>
                    <a:ext cx="18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">
                        <a:moveTo>
                          <a:pt x="9" y="6"/>
                        </a:move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541400" y="685800"/>
                    <a:ext cx="83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3">
                        <a:moveTo>
                          <a:pt x="50" y="13"/>
                        </a:moveTo>
                        <a:lnTo>
                          <a:pt x="51" y="13"/>
                        </a:lnTo>
                        <a:lnTo>
                          <a:pt x="52" y="13"/>
                        </a:lnTo>
                        <a:lnTo>
                          <a:pt x="53" y="12"/>
                        </a:lnTo>
                        <a:lnTo>
                          <a:pt x="53" y="11"/>
                        </a:lnTo>
                        <a:lnTo>
                          <a:pt x="53" y="10"/>
                        </a:lnTo>
                        <a:lnTo>
                          <a:pt x="53" y="9"/>
                        </a:lnTo>
                        <a:lnTo>
                          <a:pt x="52" y="8"/>
                        </a:lnTo>
                        <a:lnTo>
                          <a:pt x="51" y="7"/>
                        </a:lnTo>
                        <a:lnTo>
                          <a:pt x="27" y="4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26" y="10"/>
                        </a:lnTo>
                        <a:lnTo>
                          <a:pt x="5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505040" y="67644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8" y="8"/>
                        </a:moveTo>
                        <a:lnTo>
                          <a:pt x="9" y="8"/>
                        </a:lnTo>
                        <a:lnTo>
                          <a:pt x="10" y="7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9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8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404960" y="642960"/>
                    <a:ext cx="80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2">
                        <a:moveTo>
                          <a:pt x="48" y="22"/>
                        </a:moveTo>
                        <a:lnTo>
                          <a:pt x="49" y="22"/>
                        </a:lnTo>
                        <a:lnTo>
                          <a:pt x="50" y="22"/>
                        </a:lnTo>
                        <a:lnTo>
                          <a:pt x="51" y="21"/>
                        </a:lnTo>
                        <a:lnTo>
                          <a:pt x="51" y="20"/>
                        </a:lnTo>
                        <a:lnTo>
                          <a:pt x="51" y="19"/>
                        </a:lnTo>
                        <a:lnTo>
                          <a:pt x="51" y="18"/>
                        </a:lnTo>
                        <a:lnTo>
                          <a:pt x="50" y="17"/>
                        </a:lnTo>
                        <a:lnTo>
                          <a:pt x="49" y="16"/>
                        </a:lnTo>
                        <a:lnTo>
                          <a:pt x="42" y="14"/>
                        </a:lnTo>
                        <a:lnTo>
                          <a:pt x="19" y="6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18" y="12"/>
                        </a:lnTo>
                        <a:lnTo>
                          <a:pt x="41" y="20"/>
                        </a:lnTo>
                        <a:lnTo>
                          <a:pt x="48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370040" y="62892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8" y="8"/>
                        </a:moveTo>
                        <a:lnTo>
                          <a:pt x="9" y="8"/>
                        </a:lnTo>
                        <a:lnTo>
                          <a:pt x="10" y="8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8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77880" y="579600"/>
                    <a:ext cx="75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3" y="29"/>
                        </a:moveTo>
                        <a:lnTo>
                          <a:pt x="44" y="29"/>
                        </a:lnTo>
                        <a:lnTo>
                          <a:pt x="45" y="29"/>
                        </a:lnTo>
                        <a:lnTo>
                          <a:pt x="46" y="29"/>
                        </a:lnTo>
                        <a:lnTo>
                          <a:pt x="47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5"/>
                        </a:lnTo>
                        <a:lnTo>
                          <a:pt x="46" y="24"/>
                        </a:lnTo>
                        <a:lnTo>
                          <a:pt x="32" y="16"/>
                        </a:lnTo>
                        <a:lnTo>
                          <a:pt x="10" y="4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7" y="9"/>
                        </a:lnTo>
                        <a:lnTo>
                          <a:pt x="29" y="21"/>
                        </a:lnTo>
                        <a:lnTo>
                          <a:pt x="43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4246200" y="55728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6" y="9"/>
                        </a:move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0" y="5"/>
                        </a:lnTo>
                        <a:lnTo>
                          <a:pt x="9" y="4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163760" y="492120"/>
                    <a:ext cx="67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7">
                        <a:moveTo>
                          <a:pt x="39" y="36"/>
                        </a:moveTo>
                        <a:lnTo>
                          <a:pt x="40" y="37"/>
                        </a:lnTo>
                        <a:lnTo>
                          <a:pt x="41" y="37"/>
                        </a:lnTo>
                        <a:lnTo>
                          <a:pt x="42" y="36"/>
                        </a:lnTo>
                        <a:lnTo>
                          <a:pt x="43" y="35"/>
                        </a:lnTo>
                        <a:lnTo>
                          <a:pt x="43" y="34"/>
                        </a:lnTo>
                        <a:lnTo>
                          <a:pt x="43" y="33"/>
                        </a:lnTo>
                        <a:lnTo>
                          <a:pt x="43" y="32"/>
                        </a:lnTo>
                        <a:lnTo>
                          <a:pt x="42" y="31"/>
                        </a:lnTo>
                        <a:lnTo>
                          <a:pt x="41" y="31"/>
                        </a:lnTo>
                        <a:lnTo>
                          <a:pt x="21" y="15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18" y="20"/>
                        </a:lnTo>
                        <a:lnTo>
                          <a:pt x="38" y="36"/>
                        </a:lnTo>
                        <a:lnTo>
                          <a:pt x="39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136760" y="46692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5" y="8"/>
                        </a:moveTo>
                        <a:lnTo>
                          <a:pt x="6" y="9"/>
                        </a:ln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6"/>
                        </a:lnTo>
                        <a:lnTo>
                          <a:pt x="10" y="5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5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091040" y="417600"/>
                    <a:ext cx="345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18" y="24"/>
                        </a:moveTo>
                        <a:lnTo>
                          <a:pt x="19" y="24"/>
                        </a:lnTo>
                        <a:lnTo>
                          <a:pt x="20" y="24"/>
                        </a:lnTo>
                        <a:lnTo>
                          <a:pt x="21" y="24"/>
                        </a:lnTo>
                        <a:lnTo>
                          <a:pt x="22" y="23"/>
                        </a:lnTo>
                        <a:lnTo>
                          <a:pt x="22" y="22"/>
                        </a:lnTo>
                        <a:lnTo>
                          <a:pt x="22" y="21"/>
                        </a:lnTo>
                        <a:lnTo>
                          <a:pt x="22" y="20"/>
                        </a:lnTo>
                        <a:lnTo>
                          <a:pt x="21" y="19"/>
                        </a:lnTo>
                        <a:lnTo>
                          <a:pt x="16" y="14"/>
                        </a:lnTo>
                        <a:lnTo>
                          <a:pt x="14" y="16"/>
                        </a:lnTo>
                        <a:lnTo>
                          <a:pt x="17" y="15"/>
                        </a:lnTo>
                        <a:lnTo>
                          <a:pt x="6" y="2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5"/>
                        </a:lnTo>
                        <a:lnTo>
                          <a:pt x="12" y="18"/>
                        </a:lnTo>
                        <a:lnTo>
                          <a:pt x="13" y="19"/>
                        </a:lnTo>
                        <a:lnTo>
                          <a:pt x="1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4047840" y="493560"/>
                  <a:ext cx="2844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38560" y="403200"/>
                  <a:ext cx="1519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091120" y="403200"/>
                  <a:ext cx="1137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95880" y="40788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48" y="61"/>
                      </a:moveTo>
                      <a:lnTo>
                        <a:pt x="61" y="48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4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052880" y="40788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0" y="48"/>
                      </a:moveTo>
                      <a:lnTo>
                        <a:pt x="13" y="61"/>
                      </a:lnTo>
                      <a:lnTo>
                        <a:pt x="61" y="13"/>
                      </a:lnTo>
                      <a:lnTo>
                        <a:pt x="48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3813120" y="2590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1040" y="4495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1040" y="46483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08760" y="472428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84720" y="47242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8760" y="48006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03440" y="1523880"/>
            <a:ext cx="4266720" cy="2057400"/>
            <a:chOff x="1603440" y="1523880"/>
            <a:chExt cx="4266720" cy="2057400"/>
          </a:xfrm>
        </p:grpSpPr>
        <p:grpSp>
          <p:nvGrpSpPr>
            <p:cNvPr id="136" name=""/>
            <p:cNvGrpSpPr/>
            <p:nvPr/>
          </p:nvGrpSpPr>
          <p:grpSpPr>
            <a:xfrm>
              <a:off x="3736800" y="1981080"/>
              <a:ext cx="2133360" cy="1219320"/>
              <a:chOff x="3736800" y="1981080"/>
              <a:chExt cx="2133360" cy="121932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965400" y="1981080"/>
                <a:ext cx="1753560" cy="1219320"/>
                <a:chOff x="3965400" y="1981080"/>
                <a:chExt cx="1753560" cy="1219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965400" y="1981080"/>
                  <a:ext cx="1447560" cy="1219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rot="16200000">
                  <a:off x="4958640" y="2435400"/>
                  <a:ext cx="1214640" cy="306000"/>
                </a:xfrm>
                <a:custGeom>
                  <a:avLst/>
                  <a:gdLst>
                    <a:gd name="textAreaLeft" fmla="*/ 151200 w 1214640"/>
                    <a:gd name="textAreaRight" fmla="*/ 1063440 w 1214640"/>
                    <a:gd name="textAreaTop" fmla="*/ 38160 h 306000"/>
                    <a:gd name="textAreaBottom" fmla="*/ 267840 h 30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906" y="21600"/>
                      </a:lnTo>
                      <a:lnTo>
                        <a:pt x="1694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>
                <a:off x="3736800" y="259092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603440" y="1523880"/>
              <a:ext cx="22096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18040" y="1905120"/>
            <a:ext cx="1143000" cy="1297800"/>
            <a:chOff x="4118040" y="1905120"/>
            <a:chExt cx="1143000" cy="1297800"/>
          </a:xfrm>
        </p:grpSpPr>
        <p:grpSp>
          <p:nvGrpSpPr>
            <p:cNvPr id="143" name=""/>
            <p:cNvGrpSpPr/>
            <p:nvPr/>
          </p:nvGrpSpPr>
          <p:grpSpPr>
            <a:xfrm>
              <a:off x="4118040" y="1905120"/>
              <a:ext cx="1143000" cy="459720"/>
              <a:chOff x="4118040" y="1905120"/>
              <a:chExt cx="114300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4118040" y="1981440"/>
                <a:ext cx="1143000" cy="380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5240" y="19051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18040" y="2743200"/>
              <a:ext cx="1143000" cy="459720"/>
              <a:chOff x="4118040" y="2743200"/>
              <a:chExt cx="114300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118040" y="2819520"/>
                <a:ext cx="1143000" cy="380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99280" y="274320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660840" y="4114800"/>
            <a:ext cx="1981080" cy="2057400"/>
            <a:chOff x="3660840" y="4114800"/>
            <a:chExt cx="1981080" cy="2057400"/>
          </a:xfrm>
        </p:grpSpPr>
        <p:grpSp>
          <p:nvGrpSpPr>
            <p:cNvPr id="150" name=""/>
            <p:cNvGrpSpPr/>
            <p:nvPr/>
          </p:nvGrpSpPr>
          <p:grpSpPr>
            <a:xfrm>
              <a:off x="3889440" y="4419720"/>
              <a:ext cx="1676520" cy="1676160"/>
              <a:chOff x="3889440" y="4419720"/>
              <a:chExt cx="1676520" cy="16761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3889440" y="4419720"/>
                <a:ext cx="1676520" cy="1676160"/>
                <a:chOff x="3889440" y="4419720"/>
                <a:chExt cx="1676520" cy="1676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889440" y="4419720"/>
                  <a:ext cx="1676520" cy="1676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70680" y="4800600"/>
                  <a:ext cx="952560" cy="9334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4042080" y="4572000"/>
                <a:ext cx="1371600" cy="1371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660840" y="5257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75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346640" y="487692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2599" y="10782"/>
                </a:moveTo>
                <a:arcTo wR="-8201" hR="-8201" stAng="-10792455" swAng="-10807545"/>
                <a:lnTo>
                  <a:pt x="0" y="10800"/>
                </a:lnTo>
                <a:arcTo wR="10800" hR="10800" stAng="10800000" swAng="10807545"/>
                <a:lnTo>
                  <a:pt x="24300" y="10830"/>
                </a:lnTo>
                <a:lnTo>
                  <a:pt x="20292" y="14820"/>
                </a:lnTo>
                <a:lnTo>
                  <a:pt x="16301" y="10812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584520" y="1980720"/>
            <a:ext cx="2209680" cy="1219680"/>
            <a:chOff x="3584520" y="1980720"/>
            <a:chExt cx="2209680" cy="1219680"/>
          </a:xfrm>
        </p:grpSpPr>
        <p:sp>
          <p:nvSpPr>
            <p:cNvPr id="159" name=""/>
            <p:cNvSpPr/>
            <p:nvPr/>
          </p:nvSpPr>
          <p:spPr>
            <a:xfrm>
              <a:off x="3965400" y="1981080"/>
              <a:ext cx="1447920" cy="12193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18040" y="1980360"/>
              <a:ext cx="1218960" cy="76212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041000" y="2438280"/>
              <a:ext cx="1219320" cy="7621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84520" y="25909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03640" y="2209680"/>
            <a:ext cx="2895120" cy="1298160"/>
            <a:chOff x="3203640" y="2209680"/>
            <a:chExt cx="2895120" cy="1298160"/>
          </a:xfrm>
        </p:grpSpPr>
        <p:sp>
          <p:nvSpPr>
            <p:cNvPr id="164" name=""/>
            <p:cNvSpPr/>
            <p:nvPr/>
          </p:nvSpPr>
          <p:spPr>
            <a:xfrm>
              <a:off x="3203640" y="2209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660480" y="2285640"/>
              <a:ext cx="456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560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60680" y="2971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94000" y="990720"/>
            <a:ext cx="1066680" cy="1981080"/>
            <a:chOff x="4194000" y="990720"/>
            <a:chExt cx="1066680" cy="1981080"/>
          </a:xfrm>
        </p:grpSpPr>
        <p:sp>
          <p:nvSpPr>
            <p:cNvPr id="169" name=""/>
            <p:cNvSpPr/>
            <p:nvPr/>
          </p:nvSpPr>
          <p:spPr>
            <a:xfrm>
              <a:off x="449892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6120" y="13716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9892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4000" y="990720"/>
              <a:ext cx="1066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x=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043520" y="1447920"/>
            <a:ext cx="1297800" cy="2364480"/>
            <a:chOff x="4043520" y="1447920"/>
            <a:chExt cx="1297800" cy="2364480"/>
          </a:xfrm>
        </p:grpSpPr>
        <p:sp>
          <p:nvSpPr>
            <p:cNvPr id="174" name=""/>
            <p:cNvSpPr/>
            <p:nvPr/>
          </p:nvSpPr>
          <p:spPr>
            <a:xfrm>
              <a:off x="4956120" y="2971800"/>
              <a:ext cx="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498920" y="1599840"/>
              <a:ext cx="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43520" y="144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792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727520" y="3962520"/>
            <a:ext cx="1302480" cy="748800"/>
            <a:chOff x="4727520" y="3962520"/>
            <a:chExt cx="1302480" cy="748800"/>
          </a:xfrm>
        </p:grpSpPr>
        <p:sp>
          <p:nvSpPr>
            <p:cNvPr id="179" name=""/>
            <p:cNvSpPr/>
            <p:nvPr/>
          </p:nvSpPr>
          <p:spPr>
            <a:xfrm>
              <a:off x="4727520" y="4454280"/>
              <a:ext cx="1143000" cy="257040"/>
            </a:xfrm>
            <a:prstGeom prst="rightArrow">
              <a:avLst>
                <a:gd name="adj1" fmla="val 28574"/>
                <a:gd name="adj2" fmla="val 6670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8040" y="3962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ru-RU" sz="24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87080" y="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9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07840" y="3276720"/>
            <a:ext cx="1752840" cy="533160"/>
            <a:chOff x="3507840" y="3276720"/>
            <a:chExt cx="1752840" cy="533160"/>
          </a:xfrm>
        </p:grpSpPr>
        <p:sp>
          <p:nvSpPr>
            <p:cNvPr id="183" name=""/>
            <p:cNvSpPr/>
            <p:nvPr/>
          </p:nvSpPr>
          <p:spPr>
            <a:xfrm>
              <a:off x="4117680" y="3809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0784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9280" y="3276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746440" y="1981080"/>
            <a:ext cx="1218240" cy="1219320"/>
            <a:chOff x="2746440" y="1981080"/>
            <a:chExt cx="1218240" cy="1219320"/>
          </a:xfrm>
        </p:grpSpPr>
        <p:sp>
          <p:nvSpPr>
            <p:cNvPr id="187" name=""/>
            <p:cNvSpPr/>
            <p:nvPr/>
          </p:nvSpPr>
          <p:spPr>
            <a:xfrm flipH="1">
              <a:off x="2974320" y="32004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974320" y="1981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7320" y="19810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2809800" y="2376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800600" y="2590920"/>
            <a:ext cx="1752480" cy="1981080"/>
            <a:chOff x="4800600" y="2590920"/>
            <a:chExt cx="1752480" cy="1981080"/>
          </a:xfrm>
        </p:grpSpPr>
        <p:sp>
          <p:nvSpPr>
            <p:cNvPr id="192" name=""/>
            <p:cNvSpPr/>
            <p:nvPr/>
          </p:nvSpPr>
          <p:spPr>
            <a:xfrm>
              <a:off x="6019560" y="2590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0600" y="4572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25909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5867280" y="3273480"/>
              <a:ext cx="65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90920" y="6172200"/>
            <a:ext cx="3809880" cy="510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5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/3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l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/3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dl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20360" y="5562720"/>
            <a:ext cx="102348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=p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813120" y="0"/>
            <a:ext cx="1828800" cy="5218200"/>
            <a:chOff x="3813120" y="0"/>
            <a:chExt cx="1828800" cy="5218200"/>
          </a:xfrm>
        </p:grpSpPr>
        <p:sp>
          <p:nvSpPr>
            <p:cNvPr id="199" name=""/>
            <p:cNvSpPr/>
            <p:nvPr/>
          </p:nvSpPr>
          <p:spPr>
            <a:xfrm>
              <a:off x="4575240" y="182880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41720" y="2057400"/>
              <a:ext cx="1219320" cy="106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61040" y="533520"/>
              <a:ext cx="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1040" y="3200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965760" y="0"/>
              <a:ext cx="1477440" cy="5218200"/>
              <a:chOff x="3965760" y="0"/>
              <a:chExt cx="1477440" cy="5218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073400" y="3124080"/>
                <a:ext cx="1218960" cy="1676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73400" y="550800"/>
                <a:ext cx="1218960" cy="1506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997080" y="4343400"/>
                <a:ext cx="1350360" cy="874800"/>
                <a:chOff x="3997080" y="4343400"/>
                <a:chExt cx="1350360" cy="87480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047480" y="4343400"/>
                  <a:ext cx="1299960" cy="874800"/>
                  <a:chOff x="4047480" y="4343400"/>
                  <a:chExt cx="1299960" cy="87480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047480" y="4343400"/>
                    <a:ext cx="1299960" cy="87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551">
                        <a:moveTo>
                          <a:pt x="0" y="199"/>
                        </a:moveTo>
                        <a:lnTo>
                          <a:pt x="3" y="196"/>
                        </a:lnTo>
                        <a:lnTo>
                          <a:pt x="5" y="192"/>
                        </a:lnTo>
                        <a:lnTo>
                          <a:pt x="24" y="171"/>
                        </a:lnTo>
                        <a:lnTo>
                          <a:pt x="43" y="151"/>
                        </a:lnTo>
                        <a:lnTo>
                          <a:pt x="63" y="132"/>
                        </a:lnTo>
                        <a:lnTo>
                          <a:pt x="84" y="115"/>
                        </a:lnTo>
                        <a:lnTo>
                          <a:pt x="106" y="99"/>
                        </a:lnTo>
                        <a:lnTo>
                          <a:pt x="128" y="84"/>
                        </a:lnTo>
                        <a:lnTo>
                          <a:pt x="151" y="70"/>
                        </a:lnTo>
                        <a:lnTo>
                          <a:pt x="175" y="58"/>
                        </a:lnTo>
                        <a:lnTo>
                          <a:pt x="199" y="46"/>
                        </a:lnTo>
                        <a:lnTo>
                          <a:pt x="224" y="36"/>
                        </a:lnTo>
                        <a:lnTo>
                          <a:pt x="249" y="27"/>
                        </a:lnTo>
                        <a:lnTo>
                          <a:pt x="274" y="20"/>
                        </a:lnTo>
                        <a:lnTo>
                          <a:pt x="300" y="13"/>
                        </a:lnTo>
                        <a:lnTo>
                          <a:pt x="326" y="8"/>
                        </a:lnTo>
                        <a:lnTo>
                          <a:pt x="352" y="4"/>
                        </a:lnTo>
                        <a:lnTo>
                          <a:pt x="378" y="2"/>
                        </a:lnTo>
                        <a:lnTo>
                          <a:pt x="405" y="0"/>
                        </a:lnTo>
                        <a:lnTo>
                          <a:pt x="431" y="0"/>
                        </a:lnTo>
                        <a:lnTo>
                          <a:pt x="458" y="1"/>
                        </a:lnTo>
                        <a:lnTo>
                          <a:pt x="485" y="4"/>
                        </a:lnTo>
                        <a:lnTo>
                          <a:pt x="511" y="7"/>
                        </a:lnTo>
                        <a:lnTo>
                          <a:pt x="538" y="12"/>
                        </a:lnTo>
                        <a:lnTo>
                          <a:pt x="564" y="19"/>
                        </a:lnTo>
                        <a:lnTo>
                          <a:pt x="590" y="26"/>
                        </a:lnTo>
                        <a:lnTo>
                          <a:pt x="616" y="35"/>
                        </a:lnTo>
                        <a:lnTo>
                          <a:pt x="641" y="45"/>
                        </a:lnTo>
                        <a:lnTo>
                          <a:pt x="666" y="57"/>
                        </a:lnTo>
                        <a:lnTo>
                          <a:pt x="691" y="69"/>
                        </a:lnTo>
                        <a:lnTo>
                          <a:pt x="715" y="83"/>
                        </a:lnTo>
                        <a:lnTo>
                          <a:pt x="739" y="99"/>
                        </a:lnTo>
                        <a:lnTo>
                          <a:pt x="762" y="115"/>
                        </a:lnTo>
                        <a:lnTo>
                          <a:pt x="785" y="133"/>
                        </a:lnTo>
                        <a:lnTo>
                          <a:pt x="802" y="148"/>
                        </a:lnTo>
                        <a:lnTo>
                          <a:pt x="819" y="164"/>
                        </a:lnTo>
                        <a:lnTo>
                          <a:pt x="435" y="551"/>
                        </a:lnTo>
                        <a:lnTo>
                          <a:pt x="0" y="1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047480" y="4343400"/>
                    <a:ext cx="12999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199">
                        <a:moveTo>
                          <a:pt x="0" y="199"/>
                        </a:moveTo>
                        <a:lnTo>
                          <a:pt x="3" y="196"/>
                        </a:lnTo>
                        <a:lnTo>
                          <a:pt x="5" y="192"/>
                        </a:lnTo>
                        <a:lnTo>
                          <a:pt x="24" y="171"/>
                        </a:lnTo>
                        <a:lnTo>
                          <a:pt x="43" y="151"/>
                        </a:lnTo>
                        <a:lnTo>
                          <a:pt x="63" y="132"/>
                        </a:lnTo>
                        <a:lnTo>
                          <a:pt x="84" y="115"/>
                        </a:lnTo>
                        <a:lnTo>
                          <a:pt x="106" y="99"/>
                        </a:lnTo>
                        <a:lnTo>
                          <a:pt x="128" y="84"/>
                        </a:lnTo>
                        <a:lnTo>
                          <a:pt x="151" y="70"/>
                        </a:lnTo>
                        <a:lnTo>
                          <a:pt x="175" y="58"/>
                        </a:lnTo>
                        <a:lnTo>
                          <a:pt x="199" y="46"/>
                        </a:lnTo>
                        <a:lnTo>
                          <a:pt x="224" y="36"/>
                        </a:lnTo>
                        <a:lnTo>
                          <a:pt x="249" y="27"/>
                        </a:lnTo>
                        <a:lnTo>
                          <a:pt x="274" y="20"/>
                        </a:lnTo>
                        <a:lnTo>
                          <a:pt x="300" y="13"/>
                        </a:lnTo>
                        <a:lnTo>
                          <a:pt x="326" y="8"/>
                        </a:lnTo>
                        <a:lnTo>
                          <a:pt x="352" y="4"/>
                        </a:lnTo>
                        <a:lnTo>
                          <a:pt x="378" y="2"/>
                        </a:lnTo>
                        <a:lnTo>
                          <a:pt x="405" y="0"/>
                        </a:lnTo>
                        <a:lnTo>
                          <a:pt x="431" y="0"/>
                        </a:lnTo>
                        <a:lnTo>
                          <a:pt x="458" y="1"/>
                        </a:lnTo>
                        <a:lnTo>
                          <a:pt x="485" y="4"/>
                        </a:lnTo>
                        <a:lnTo>
                          <a:pt x="511" y="7"/>
                        </a:lnTo>
                        <a:lnTo>
                          <a:pt x="538" y="12"/>
                        </a:lnTo>
                        <a:lnTo>
                          <a:pt x="564" y="19"/>
                        </a:lnTo>
                        <a:lnTo>
                          <a:pt x="590" y="26"/>
                        </a:lnTo>
                        <a:lnTo>
                          <a:pt x="616" y="35"/>
                        </a:lnTo>
                        <a:lnTo>
                          <a:pt x="641" y="45"/>
                        </a:lnTo>
                        <a:lnTo>
                          <a:pt x="666" y="57"/>
                        </a:lnTo>
                        <a:lnTo>
                          <a:pt x="691" y="69"/>
                        </a:lnTo>
                        <a:lnTo>
                          <a:pt x="715" y="83"/>
                        </a:lnTo>
                        <a:lnTo>
                          <a:pt x="739" y="99"/>
                        </a:lnTo>
                        <a:lnTo>
                          <a:pt x="762" y="115"/>
                        </a:lnTo>
                        <a:lnTo>
                          <a:pt x="785" y="133"/>
                        </a:lnTo>
                        <a:lnTo>
                          <a:pt x="802" y="148"/>
                        </a:lnTo>
                        <a:lnTo>
                          <a:pt x="819" y="16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360320" y="4707000"/>
                  <a:ext cx="691560" cy="131760"/>
                  <a:chOff x="4360320" y="4707000"/>
                  <a:chExt cx="691560" cy="1317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360320" y="4757760"/>
                    <a:ext cx="112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1">
                        <a:moveTo>
                          <a:pt x="0" y="37"/>
                        </a:moveTo>
                        <a:lnTo>
                          <a:pt x="11" y="51"/>
                        </a:lnTo>
                        <a:lnTo>
                          <a:pt x="35" y="35"/>
                        </a:lnTo>
                        <a:lnTo>
                          <a:pt x="29" y="28"/>
                        </a:lnTo>
                        <a:lnTo>
                          <a:pt x="32" y="37"/>
                        </a:lnTo>
                        <a:lnTo>
                          <a:pt x="57" y="23"/>
                        </a:lnTo>
                        <a:lnTo>
                          <a:pt x="71" y="16"/>
                        </a:lnTo>
                        <a:lnTo>
                          <a:pt x="64" y="0"/>
                        </a:lnTo>
                        <a:lnTo>
                          <a:pt x="50" y="6"/>
                        </a:lnTo>
                        <a:lnTo>
                          <a:pt x="25" y="20"/>
                        </a:lnTo>
                        <a:lnTo>
                          <a:pt x="22" y="22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542480" y="4708440"/>
                    <a:ext cx="118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9">
                        <a:moveTo>
                          <a:pt x="0" y="12"/>
                        </a:moveTo>
                        <a:lnTo>
                          <a:pt x="5" y="29"/>
                        </a:lnTo>
                        <a:lnTo>
                          <a:pt x="22" y="25"/>
                        </a:lnTo>
                        <a:lnTo>
                          <a:pt x="19" y="17"/>
                        </a:lnTo>
                        <a:lnTo>
                          <a:pt x="19" y="26"/>
                        </a:lnTo>
                        <a:lnTo>
                          <a:pt x="47" y="20"/>
                        </a:lnTo>
                        <a:lnTo>
                          <a:pt x="75" y="18"/>
                        </a:lnTo>
                        <a:lnTo>
                          <a:pt x="73" y="0"/>
                        </a:lnTo>
                        <a:lnTo>
                          <a:pt x="47" y="2"/>
                        </a:lnTo>
                        <a:lnTo>
                          <a:pt x="19" y="8"/>
                        </a:lnTo>
                        <a:lnTo>
                          <a:pt x="15" y="8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744080" y="4707000"/>
                    <a:ext cx="1173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8">
                        <a:moveTo>
                          <a:pt x="1" y="0"/>
                        </a:moveTo>
                        <a:lnTo>
                          <a:pt x="0" y="18"/>
                        </a:lnTo>
                        <a:lnTo>
                          <a:pt x="8" y="19"/>
                        </a:lnTo>
                        <a:lnTo>
                          <a:pt x="38" y="22"/>
                        </a:lnTo>
                        <a:lnTo>
                          <a:pt x="68" y="28"/>
                        </a:lnTo>
                        <a:lnTo>
                          <a:pt x="68" y="19"/>
                        </a:lnTo>
                        <a:lnTo>
                          <a:pt x="64" y="27"/>
                        </a:lnTo>
                        <a:lnTo>
                          <a:pt x="69" y="28"/>
                        </a:lnTo>
                        <a:lnTo>
                          <a:pt x="74" y="11"/>
                        </a:lnTo>
                        <a:lnTo>
                          <a:pt x="71" y="10"/>
                        </a:lnTo>
                        <a:lnTo>
                          <a:pt x="68" y="10"/>
                        </a:lnTo>
                        <a:lnTo>
                          <a:pt x="38" y="4"/>
                        </a:lnTo>
                        <a:lnTo>
                          <a:pt x="8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936320" y="4749840"/>
                    <a:ext cx="1155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6" y="0"/>
                        </a:moveTo>
                        <a:lnTo>
                          <a:pt x="0" y="17"/>
                        </a:lnTo>
                        <a:lnTo>
                          <a:pt x="3" y="18"/>
                        </a:lnTo>
                        <a:lnTo>
                          <a:pt x="33" y="30"/>
                        </a:lnTo>
                        <a:lnTo>
                          <a:pt x="62" y="44"/>
                        </a:lnTo>
                        <a:lnTo>
                          <a:pt x="64" y="45"/>
                        </a:lnTo>
                        <a:lnTo>
                          <a:pt x="73" y="30"/>
                        </a:lnTo>
                        <a:lnTo>
                          <a:pt x="69" y="27"/>
                        </a:lnTo>
                        <a:lnTo>
                          <a:pt x="40" y="1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4079520" y="4616280"/>
                  <a:ext cx="28080" cy="304920"/>
                  <a:chOff x="4079520" y="4616280"/>
                  <a:chExt cx="28080" cy="3049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4079520" y="4616280"/>
                    <a:ext cx="2808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079520" y="4816440"/>
                    <a:ext cx="28080" cy="10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>
                  <a:off x="3997080" y="4564080"/>
                  <a:ext cx="345960" cy="377640"/>
                </a:xfrm>
                <a:custGeom>
                  <a:avLst/>
                  <a:gdLst/>
                  <a:ahLst/>
                  <a:rect l="l" t="t" r="r" b="b"/>
                  <a:pathLst>
                    <a:path w="218" h="238">
                      <a:moveTo>
                        <a:pt x="0" y="0"/>
                      </a:moveTo>
                      <a:lnTo>
                        <a:pt x="27" y="238"/>
                      </a:lnTo>
                      <a:lnTo>
                        <a:pt x="218" y="2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5298480" y="4540320"/>
                  <a:ext cx="28440" cy="228600"/>
                  <a:chOff x="5298480" y="4540320"/>
                  <a:chExt cx="28440" cy="2286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298480" y="4540320"/>
                    <a:ext cx="2844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298480" y="4740480"/>
                    <a:ext cx="28440" cy="28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4122360" y="4552920"/>
                  <a:ext cx="1107360" cy="291960"/>
                  <a:chOff x="4122360" y="4552920"/>
                  <a:chExt cx="1107360" cy="2919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5214240" y="470844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6" y="9"/>
                        </a:move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6"/>
                        </a:lnTo>
                        <a:lnTo>
                          <a:pt x="10" y="5"/>
                        </a:lnTo>
                        <a:lnTo>
                          <a:pt x="9" y="4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958640" y="4581360"/>
                    <a:ext cx="18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9" y="8"/>
                        </a:moveTo>
                        <a:lnTo>
                          <a:pt x="10" y="8"/>
                        </a:lnTo>
                        <a:lnTo>
                          <a:pt x="11" y="7"/>
                        </a:lnTo>
                        <a:lnTo>
                          <a:pt x="12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1" y="2"/>
                        </a:lnTo>
                        <a:lnTo>
                          <a:pt x="10" y="2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818960" y="4554360"/>
                    <a:ext cx="18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9" y="7"/>
                        </a:moveTo>
                        <a:lnTo>
                          <a:pt x="10" y="7"/>
                        </a:ln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676040" y="455292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">
                        <a:moveTo>
                          <a:pt x="10" y="6"/>
                        </a:moveTo>
                        <a:lnTo>
                          <a:pt x="11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2" y="1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572720" y="4556160"/>
                    <a:ext cx="83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3">
                        <a:moveTo>
                          <a:pt x="51" y="6"/>
                        </a:moveTo>
                        <a:lnTo>
                          <a:pt x="52" y="5"/>
                        </a:lnTo>
                        <a:lnTo>
                          <a:pt x="53" y="4"/>
                        </a:lnTo>
                        <a:lnTo>
                          <a:pt x="53" y="3"/>
                        </a:lnTo>
                        <a:lnTo>
                          <a:pt x="53" y="2"/>
                        </a:lnTo>
                        <a:lnTo>
                          <a:pt x="53" y="1"/>
                        </a:lnTo>
                        <a:lnTo>
                          <a:pt x="52" y="0"/>
                        </a:lnTo>
                        <a:lnTo>
                          <a:pt x="51" y="0"/>
                        </a:lnTo>
                        <a:lnTo>
                          <a:pt x="50" y="0"/>
                        </a:lnTo>
                        <a:lnTo>
                          <a:pt x="26" y="3"/>
                        </a:lnTo>
                        <a:lnTo>
                          <a:pt x="2" y="7"/>
                        </a:lnTo>
                        <a:lnTo>
                          <a:pt x="1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27" y="9"/>
                        </a:lnTo>
                        <a:lnTo>
                          <a:pt x="5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536360" y="4573440"/>
                    <a:ext cx="16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9" y="6"/>
                        </a:moveTo>
                        <a:lnTo>
                          <a:pt x="10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436280" y="4584600"/>
                    <a:ext cx="80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2">
                        <a:moveTo>
                          <a:pt x="49" y="6"/>
                        </a:moveTo>
                        <a:lnTo>
                          <a:pt x="50" y="5"/>
                        </a:lnTo>
                        <a:lnTo>
                          <a:pt x="51" y="4"/>
                        </a:lnTo>
                        <a:lnTo>
                          <a:pt x="51" y="3"/>
                        </a:lnTo>
                        <a:lnTo>
                          <a:pt x="51" y="2"/>
                        </a:lnTo>
                        <a:lnTo>
                          <a:pt x="51" y="1"/>
                        </a:lnTo>
                        <a:lnTo>
                          <a:pt x="50" y="0"/>
                        </a:lnTo>
                        <a:lnTo>
                          <a:pt x="49" y="0"/>
                        </a:lnTo>
                        <a:lnTo>
                          <a:pt x="48" y="0"/>
                        </a:lnTo>
                        <a:lnTo>
                          <a:pt x="41" y="2"/>
                        </a:lnTo>
                        <a:lnTo>
                          <a:pt x="18" y="10"/>
                        </a:lnTo>
                        <a:lnTo>
                          <a:pt x="2" y="16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2" y="22"/>
                        </a:lnTo>
                        <a:lnTo>
                          <a:pt x="3" y="22"/>
                        </a:lnTo>
                        <a:lnTo>
                          <a:pt x="19" y="16"/>
                        </a:lnTo>
                        <a:lnTo>
                          <a:pt x="42" y="8"/>
                        </a:lnTo>
                        <a:lnTo>
                          <a:pt x="4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401360" y="462132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9" y="6"/>
                        </a:moveTo>
                        <a:lnTo>
                          <a:pt x="10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309200" y="4637160"/>
                    <a:ext cx="75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6" y="5"/>
                        </a:moveTo>
                        <a:lnTo>
                          <a:pt x="47" y="4"/>
                        </a:lnTo>
                        <a:lnTo>
                          <a:pt x="48" y="3"/>
                        </a:lnTo>
                        <a:lnTo>
                          <a:pt x="48" y="2"/>
                        </a:lnTo>
                        <a:lnTo>
                          <a:pt x="47" y="1"/>
                        </a:lnTo>
                        <a:lnTo>
                          <a:pt x="46" y="0"/>
                        </a:lnTo>
                        <a:lnTo>
                          <a:pt x="45" y="0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29" y="8"/>
                        </a:lnTo>
                        <a:lnTo>
                          <a:pt x="7" y="20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1" y="29"/>
                        </a:lnTo>
                        <a:lnTo>
                          <a:pt x="2" y="29"/>
                        </a:lnTo>
                        <a:lnTo>
                          <a:pt x="3" y="29"/>
                        </a:lnTo>
                        <a:lnTo>
                          <a:pt x="4" y="29"/>
                        </a:lnTo>
                        <a:lnTo>
                          <a:pt x="10" y="25"/>
                        </a:lnTo>
                        <a:lnTo>
                          <a:pt x="32" y="13"/>
                        </a:lnTo>
                        <a:lnTo>
                          <a:pt x="4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277520" y="4689360"/>
                    <a:ext cx="16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9" y="6"/>
                        </a:moveTo>
                        <a:lnTo>
                          <a:pt x="10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1" y="9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9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195080" y="4711680"/>
                    <a:ext cx="67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7">
                        <a:moveTo>
                          <a:pt x="42" y="6"/>
                        </a:moveTo>
                        <a:lnTo>
                          <a:pt x="43" y="5"/>
                        </a:lnTo>
                        <a:lnTo>
                          <a:pt x="43" y="4"/>
                        </a:lnTo>
                        <a:lnTo>
                          <a:pt x="43" y="3"/>
                        </a:lnTo>
                        <a:lnTo>
                          <a:pt x="43" y="2"/>
                        </a:lnTo>
                        <a:lnTo>
                          <a:pt x="42" y="1"/>
                        </a:lnTo>
                        <a:lnTo>
                          <a:pt x="41" y="0"/>
                        </a:lnTo>
                        <a:lnTo>
                          <a:pt x="40" y="0"/>
                        </a:lnTo>
                        <a:lnTo>
                          <a:pt x="39" y="1"/>
                        </a:lnTo>
                        <a:lnTo>
                          <a:pt x="38" y="1"/>
                        </a:lnTo>
                        <a:lnTo>
                          <a:pt x="18" y="17"/>
                        </a:lnTo>
                        <a:lnTo>
                          <a:pt x="2" y="31"/>
                        </a:lnTo>
                        <a:lnTo>
                          <a:pt x="1" y="32"/>
                        </a:ln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1" y="35"/>
                        </a:lnTo>
                        <a:lnTo>
                          <a:pt x="2" y="36"/>
                        </a:lnTo>
                        <a:lnTo>
                          <a:pt x="3" y="37"/>
                        </a:lnTo>
                        <a:lnTo>
                          <a:pt x="4" y="37"/>
                        </a:lnTo>
                        <a:lnTo>
                          <a:pt x="5" y="36"/>
                        </a:lnTo>
                        <a:lnTo>
                          <a:pt x="21" y="22"/>
                        </a:lnTo>
                        <a:lnTo>
                          <a:pt x="41" y="6"/>
                        </a:lnTo>
                        <a:lnTo>
                          <a:pt x="4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168080" y="478008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5"/>
                        </a:moveTo>
                        <a:lnTo>
                          <a:pt x="10" y="4"/>
                        </a:lnTo>
                        <a:lnTo>
                          <a:pt x="10" y="3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5" y="9"/>
                        </a:lnTo>
                        <a:lnTo>
                          <a:pt x="1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122360" y="4807080"/>
                    <a:ext cx="34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22" y="4"/>
                        </a:moveTo>
                        <a:lnTo>
                          <a:pt x="22" y="3"/>
                        </a:lnTo>
                        <a:lnTo>
                          <a:pt x="22" y="2"/>
                        </a:lnTo>
                        <a:lnTo>
                          <a:pt x="22" y="1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1"/>
                        </a:lnTo>
                        <a:lnTo>
                          <a:pt x="12" y="7"/>
                        </a:lnTo>
                        <a:lnTo>
                          <a:pt x="1" y="20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1" y="22"/>
                        </a:lnTo>
                        <a:lnTo>
                          <a:pt x="2" y="23"/>
                        </a:lnTo>
                        <a:lnTo>
                          <a:pt x="3" y="24"/>
                        </a:lnTo>
                        <a:lnTo>
                          <a:pt x="3" y="24"/>
                        </a:lnTo>
                        <a:lnTo>
                          <a:pt x="4" y="23"/>
                        </a:lnTo>
                        <a:lnTo>
                          <a:pt x="6" y="23"/>
                        </a:lnTo>
                        <a:lnTo>
                          <a:pt x="17" y="10"/>
                        </a:lnTo>
                        <a:lnTo>
                          <a:pt x="2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4079520" y="4616280"/>
                  <a:ext cx="2808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08040" y="4830840"/>
                  <a:ext cx="1137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122440" y="4830840"/>
                  <a:ext cx="1137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27200" y="475920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61" y="13"/>
                      </a:moveTo>
                      <a:lnTo>
                        <a:pt x="48" y="0"/>
                      </a:lnTo>
                      <a:lnTo>
                        <a:pt x="0" y="48"/>
                      </a:lnTo>
                      <a:lnTo>
                        <a:pt x="13" y="61"/>
                      </a:lnTo>
                      <a:lnTo>
                        <a:pt x="6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84200" y="475920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13" y="0"/>
                      </a:moveTo>
                      <a:lnTo>
                        <a:pt x="0" y="13"/>
                      </a:lnTo>
                      <a:lnTo>
                        <a:pt x="48" y="61"/>
                      </a:lnTo>
                      <a:lnTo>
                        <a:pt x="61" y="4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965760" y="0"/>
                <a:ext cx="1477440" cy="918720"/>
                <a:chOff x="3965760" y="0"/>
                <a:chExt cx="1477440" cy="9187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4016160" y="0"/>
                  <a:ext cx="1299960" cy="874800"/>
                  <a:chOff x="4016160" y="0"/>
                  <a:chExt cx="1299960" cy="87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016160" y="0"/>
                    <a:ext cx="1299960" cy="874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551">
                        <a:moveTo>
                          <a:pt x="0" y="352"/>
                        </a:moveTo>
                        <a:lnTo>
                          <a:pt x="3" y="356"/>
                        </a:lnTo>
                        <a:lnTo>
                          <a:pt x="5" y="359"/>
                        </a:lnTo>
                        <a:lnTo>
                          <a:pt x="24" y="380"/>
                        </a:lnTo>
                        <a:lnTo>
                          <a:pt x="43" y="400"/>
                        </a:lnTo>
                        <a:lnTo>
                          <a:pt x="63" y="419"/>
                        </a:lnTo>
                        <a:lnTo>
                          <a:pt x="84" y="436"/>
                        </a:lnTo>
                        <a:lnTo>
                          <a:pt x="106" y="452"/>
                        </a:lnTo>
                        <a:lnTo>
                          <a:pt x="128" y="467"/>
                        </a:lnTo>
                        <a:lnTo>
                          <a:pt x="151" y="481"/>
                        </a:lnTo>
                        <a:lnTo>
                          <a:pt x="175" y="494"/>
                        </a:lnTo>
                        <a:lnTo>
                          <a:pt x="199" y="505"/>
                        </a:lnTo>
                        <a:lnTo>
                          <a:pt x="224" y="515"/>
                        </a:lnTo>
                        <a:lnTo>
                          <a:pt x="249" y="524"/>
                        </a:lnTo>
                        <a:lnTo>
                          <a:pt x="274" y="531"/>
                        </a:lnTo>
                        <a:lnTo>
                          <a:pt x="300" y="538"/>
                        </a:lnTo>
                        <a:lnTo>
                          <a:pt x="326" y="543"/>
                        </a:lnTo>
                        <a:lnTo>
                          <a:pt x="352" y="547"/>
                        </a:lnTo>
                        <a:lnTo>
                          <a:pt x="378" y="549"/>
                        </a:lnTo>
                        <a:lnTo>
                          <a:pt x="405" y="551"/>
                        </a:lnTo>
                        <a:lnTo>
                          <a:pt x="431" y="551"/>
                        </a:lnTo>
                        <a:lnTo>
                          <a:pt x="458" y="550"/>
                        </a:lnTo>
                        <a:lnTo>
                          <a:pt x="485" y="547"/>
                        </a:lnTo>
                        <a:lnTo>
                          <a:pt x="511" y="544"/>
                        </a:lnTo>
                        <a:lnTo>
                          <a:pt x="538" y="539"/>
                        </a:lnTo>
                        <a:lnTo>
                          <a:pt x="564" y="532"/>
                        </a:lnTo>
                        <a:lnTo>
                          <a:pt x="590" y="525"/>
                        </a:lnTo>
                        <a:lnTo>
                          <a:pt x="616" y="516"/>
                        </a:lnTo>
                        <a:lnTo>
                          <a:pt x="641" y="506"/>
                        </a:lnTo>
                        <a:lnTo>
                          <a:pt x="666" y="495"/>
                        </a:lnTo>
                        <a:lnTo>
                          <a:pt x="691" y="482"/>
                        </a:lnTo>
                        <a:lnTo>
                          <a:pt x="715" y="468"/>
                        </a:lnTo>
                        <a:lnTo>
                          <a:pt x="739" y="453"/>
                        </a:lnTo>
                        <a:lnTo>
                          <a:pt x="762" y="436"/>
                        </a:lnTo>
                        <a:lnTo>
                          <a:pt x="785" y="418"/>
                        </a:lnTo>
                        <a:lnTo>
                          <a:pt x="802" y="403"/>
                        </a:lnTo>
                        <a:lnTo>
                          <a:pt x="819" y="387"/>
                        </a:lnTo>
                        <a:lnTo>
                          <a:pt x="435" y="0"/>
                        </a:lnTo>
                        <a:lnTo>
                          <a:pt x="0" y="3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016160" y="558720"/>
                    <a:ext cx="12999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199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5" y="7"/>
                        </a:lnTo>
                        <a:lnTo>
                          <a:pt x="24" y="28"/>
                        </a:lnTo>
                        <a:lnTo>
                          <a:pt x="43" y="48"/>
                        </a:lnTo>
                        <a:lnTo>
                          <a:pt x="63" y="67"/>
                        </a:lnTo>
                        <a:lnTo>
                          <a:pt x="84" y="84"/>
                        </a:lnTo>
                        <a:lnTo>
                          <a:pt x="106" y="100"/>
                        </a:lnTo>
                        <a:lnTo>
                          <a:pt x="128" y="115"/>
                        </a:lnTo>
                        <a:lnTo>
                          <a:pt x="151" y="129"/>
                        </a:lnTo>
                        <a:lnTo>
                          <a:pt x="175" y="142"/>
                        </a:lnTo>
                        <a:lnTo>
                          <a:pt x="199" y="153"/>
                        </a:lnTo>
                        <a:lnTo>
                          <a:pt x="224" y="163"/>
                        </a:lnTo>
                        <a:lnTo>
                          <a:pt x="249" y="172"/>
                        </a:lnTo>
                        <a:lnTo>
                          <a:pt x="274" y="179"/>
                        </a:lnTo>
                        <a:lnTo>
                          <a:pt x="300" y="186"/>
                        </a:lnTo>
                        <a:lnTo>
                          <a:pt x="326" y="191"/>
                        </a:lnTo>
                        <a:lnTo>
                          <a:pt x="352" y="195"/>
                        </a:lnTo>
                        <a:lnTo>
                          <a:pt x="378" y="197"/>
                        </a:lnTo>
                        <a:lnTo>
                          <a:pt x="405" y="199"/>
                        </a:lnTo>
                        <a:lnTo>
                          <a:pt x="431" y="199"/>
                        </a:lnTo>
                        <a:lnTo>
                          <a:pt x="458" y="198"/>
                        </a:lnTo>
                        <a:lnTo>
                          <a:pt x="485" y="195"/>
                        </a:lnTo>
                        <a:lnTo>
                          <a:pt x="511" y="192"/>
                        </a:lnTo>
                        <a:lnTo>
                          <a:pt x="538" y="187"/>
                        </a:lnTo>
                        <a:lnTo>
                          <a:pt x="564" y="180"/>
                        </a:lnTo>
                        <a:lnTo>
                          <a:pt x="590" y="173"/>
                        </a:lnTo>
                        <a:lnTo>
                          <a:pt x="616" y="164"/>
                        </a:lnTo>
                        <a:lnTo>
                          <a:pt x="641" y="154"/>
                        </a:lnTo>
                        <a:lnTo>
                          <a:pt x="666" y="143"/>
                        </a:lnTo>
                        <a:lnTo>
                          <a:pt x="691" y="130"/>
                        </a:lnTo>
                        <a:lnTo>
                          <a:pt x="715" y="116"/>
                        </a:lnTo>
                        <a:lnTo>
                          <a:pt x="739" y="101"/>
                        </a:lnTo>
                        <a:lnTo>
                          <a:pt x="762" y="84"/>
                        </a:lnTo>
                        <a:lnTo>
                          <a:pt x="785" y="66"/>
                        </a:lnTo>
                        <a:lnTo>
                          <a:pt x="802" y="51"/>
                        </a:lnTo>
                        <a:lnTo>
                          <a:pt x="819" y="3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5022720" y="290520"/>
                  <a:ext cx="364680" cy="374760"/>
                </a:xfrm>
                <a:custGeom>
                  <a:avLst/>
                  <a:gdLst/>
                  <a:ahLst/>
                  <a:rect l="l" t="t" r="r" b="b"/>
                  <a:pathLst>
                    <a:path w="230" h="236">
                      <a:moveTo>
                        <a:pt x="230" y="236"/>
                      </a:moveTo>
                      <a:lnTo>
                        <a:pt x="189" y="0"/>
                      </a:lnTo>
                      <a:lnTo>
                        <a:pt x="0" y="34"/>
                      </a:lnTo>
                      <a:lnTo>
                        <a:pt x="230" y="2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4016160" y="44280"/>
                  <a:ext cx="1299960" cy="874440"/>
                  <a:chOff x="4016160" y="44280"/>
                  <a:chExt cx="1299960" cy="87444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4016160" y="44280"/>
                    <a:ext cx="1299960" cy="874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551">
                        <a:moveTo>
                          <a:pt x="0" y="352"/>
                        </a:moveTo>
                        <a:lnTo>
                          <a:pt x="3" y="356"/>
                        </a:lnTo>
                        <a:lnTo>
                          <a:pt x="5" y="359"/>
                        </a:lnTo>
                        <a:lnTo>
                          <a:pt x="24" y="380"/>
                        </a:lnTo>
                        <a:lnTo>
                          <a:pt x="43" y="400"/>
                        </a:lnTo>
                        <a:lnTo>
                          <a:pt x="63" y="419"/>
                        </a:lnTo>
                        <a:lnTo>
                          <a:pt x="84" y="436"/>
                        </a:lnTo>
                        <a:lnTo>
                          <a:pt x="106" y="452"/>
                        </a:lnTo>
                        <a:lnTo>
                          <a:pt x="128" y="467"/>
                        </a:lnTo>
                        <a:lnTo>
                          <a:pt x="151" y="481"/>
                        </a:lnTo>
                        <a:lnTo>
                          <a:pt x="175" y="494"/>
                        </a:lnTo>
                        <a:lnTo>
                          <a:pt x="199" y="505"/>
                        </a:lnTo>
                        <a:lnTo>
                          <a:pt x="224" y="515"/>
                        </a:lnTo>
                        <a:lnTo>
                          <a:pt x="249" y="524"/>
                        </a:lnTo>
                        <a:lnTo>
                          <a:pt x="274" y="531"/>
                        </a:lnTo>
                        <a:lnTo>
                          <a:pt x="300" y="538"/>
                        </a:lnTo>
                        <a:lnTo>
                          <a:pt x="326" y="543"/>
                        </a:lnTo>
                        <a:lnTo>
                          <a:pt x="352" y="547"/>
                        </a:lnTo>
                        <a:lnTo>
                          <a:pt x="378" y="549"/>
                        </a:lnTo>
                        <a:lnTo>
                          <a:pt x="405" y="551"/>
                        </a:lnTo>
                        <a:lnTo>
                          <a:pt x="431" y="551"/>
                        </a:lnTo>
                        <a:lnTo>
                          <a:pt x="458" y="550"/>
                        </a:lnTo>
                        <a:lnTo>
                          <a:pt x="485" y="547"/>
                        </a:lnTo>
                        <a:lnTo>
                          <a:pt x="511" y="544"/>
                        </a:lnTo>
                        <a:lnTo>
                          <a:pt x="538" y="539"/>
                        </a:lnTo>
                        <a:lnTo>
                          <a:pt x="564" y="532"/>
                        </a:lnTo>
                        <a:lnTo>
                          <a:pt x="590" y="525"/>
                        </a:lnTo>
                        <a:lnTo>
                          <a:pt x="616" y="516"/>
                        </a:lnTo>
                        <a:lnTo>
                          <a:pt x="641" y="506"/>
                        </a:lnTo>
                        <a:lnTo>
                          <a:pt x="666" y="495"/>
                        </a:lnTo>
                        <a:lnTo>
                          <a:pt x="691" y="482"/>
                        </a:lnTo>
                        <a:lnTo>
                          <a:pt x="715" y="468"/>
                        </a:lnTo>
                        <a:lnTo>
                          <a:pt x="739" y="453"/>
                        </a:lnTo>
                        <a:lnTo>
                          <a:pt x="762" y="436"/>
                        </a:lnTo>
                        <a:lnTo>
                          <a:pt x="785" y="418"/>
                        </a:lnTo>
                        <a:lnTo>
                          <a:pt x="802" y="403"/>
                        </a:lnTo>
                        <a:lnTo>
                          <a:pt x="819" y="387"/>
                        </a:lnTo>
                        <a:lnTo>
                          <a:pt x="435" y="0"/>
                        </a:lnTo>
                        <a:lnTo>
                          <a:pt x="0" y="3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016160" y="603000"/>
                    <a:ext cx="12999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199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5" y="7"/>
                        </a:lnTo>
                        <a:lnTo>
                          <a:pt x="24" y="28"/>
                        </a:lnTo>
                        <a:lnTo>
                          <a:pt x="43" y="48"/>
                        </a:lnTo>
                        <a:lnTo>
                          <a:pt x="63" y="67"/>
                        </a:lnTo>
                        <a:lnTo>
                          <a:pt x="84" y="84"/>
                        </a:lnTo>
                        <a:lnTo>
                          <a:pt x="106" y="100"/>
                        </a:lnTo>
                        <a:lnTo>
                          <a:pt x="128" y="115"/>
                        </a:lnTo>
                        <a:lnTo>
                          <a:pt x="151" y="129"/>
                        </a:lnTo>
                        <a:lnTo>
                          <a:pt x="175" y="142"/>
                        </a:lnTo>
                        <a:lnTo>
                          <a:pt x="199" y="153"/>
                        </a:lnTo>
                        <a:lnTo>
                          <a:pt x="224" y="163"/>
                        </a:lnTo>
                        <a:lnTo>
                          <a:pt x="249" y="172"/>
                        </a:lnTo>
                        <a:lnTo>
                          <a:pt x="274" y="179"/>
                        </a:lnTo>
                        <a:lnTo>
                          <a:pt x="300" y="186"/>
                        </a:lnTo>
                        <a:lnTo>
                          <a:pt x="326" y="191"/>
                        </a:lnTo>
                        <a:lnTo>
                          <a:pt x="352" y="195"/>
                        </a:lnTo>
                        <a:lnTo>
                          <a:pt x="378" y="197"/>
                        </a:lnTo>
                        <a:lnTo>
                          <a:pt x="405" y="199"/>
                        </a:lnTo>
                        <a:lnTo>
                          <a:pt x="431" y="199"/>
                        </a:lnTo>
                        <a:lnTo>
                          <a:pt x="458" y="198"/>
                        </a:lnTo>
                        <a:lnTo>
                          <a:pt x="485" y="195"/>
                        </a:lnTo>
                        <a:lnTo>
                          <a:pt x="511" y="192"/>
                        </a:lnTo>
                        <a:lnTo>
                          <a:pt x="538" y="187"/>
                        </a:lnTo>
                        <a:lnTo>
                          <a:pt x="564" y="180"/>
                        </a:lnTo>
                        <a:lnTo>
                          <a:pt x="590" y="173"/>
                        </a:lnTo>
                        <a:lnTo>
                          <a:pt x="616" y="164"/>
                        </a:lnTo>
                        <a:lnTo>
                          <a:pt x="641" y="154"/>
                        </a:lnTo>
                        <a:lnTo>
                          <a:pt x="666" y="143"/>
                        </a:lnTo>
                        <a:lnTo>
                          <a:pt x="691" y="130"/>
                        </a:lnTo>
                        <a:lnTo>
                          <a:pt x="715" y="116"/>
                        </a:lnTo>
                        <a:lnTo>
                          <a:pt x="739" y="101"/>
                        </a:lnTo>
                        <a:lnTo>
                          <a:pt x="762" y="84"/>
                        </a:lnTo>
                        <a:lnTo>
                          <a:pt x="785" y="66"/>
                        </a:lnTo>
                        <a:lnTo>
                          <a:pt x="802" y="51"/>
                        </a:lnTo>
                        <a:lnTo>
                          <a:pt x="819" y="3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4300560" y="403200"/>
                  <a:ext cx="785160" cy="154080"/>
                </a:xfrm>
                <a:custGeom>
                  <a:avLst/>
                  <a:gdLst/>
                  <a:ahLst/>
                  <a:rect l="l" t="t" r="r" b="b"/>
                  <a:pathLst>
                    <a:path w="495" h="97">
                      <a:moveTo>
                        <a:pt x="12" y="0"/>
                      </a:moveTo>
                      <a:lnTo>
                        <a:pt x="0" y="14"/>
                      </a:lnTo>
                      <a:lnTo>
                        <a:pt x="24" y="33"/>
                      </a:lnTo>
                      <a:lnTo>
                        <a:pt x="27" y="35"/>
                      </a:lnTo>
                      <a:lnTo>
                        <a:pt x="53" y="51"/>
                      </a:lnTo>
                      <a:lnTo>
                        <a:pt x="80" y="65"/>
                      </a:lnTo>
                      <a:lnTo>
                        <a:pt x="109" y="76"/>
                      </a:lnTo>
                      <a:lnTo>
                        <a:pt x="138" y="85"/>
                      </a:lnTo>
                      <a:lnTo>
                        <a:pt x="169" y="92"/>
                      </a:lnTo>
                      <a:lnTo>
                        <a:pt x="172" y="92"/>
                      </a:lnTo>
                      <a:lnTo>
                        <a:pt x="203" y="96"/>
                      </a:lnTo>
                      <a:lnTo>
                        <a:pt x="235" y="97"/>
                      </a:lnTo>
                      <a:lnTo>
                        <a:pt x="267" y="96"/>
                      </a:lnTo>
                      <a:lnTo>
                        <a:pt x="299" y="92"/>
                      </a:lnTo>
                      <a:lnTo>
                        <a:pt x="332" y="86"/>
                      </a:lnTo>
                      <a:lnTo>
                        <a:pt x="335" y="86"/>
                      </a:lnTo>
                      <a:lnTo>
                        <a:pt x="368" y="77"/>
                      </a:lnTo>
                      <a:lnTo>
                        <a:pt x="400" y="66"/>
                      </a:lnTo>
                      <a:lnTo>
                        <a:pt x="432" y="52"/>
                      </a:lnTo>
                      <a:lnTo>
                        <a:pt x="463" y="36"/>
                      </a:lnTo>
                      <a:lnTo>
                        <a:pt x="495" y="17"/>
                      </a:lnTo>
                      <a:lnTo>
                        <a:pt x="485" y="2"/>
                      </a:lnTo>
                      <a:lnTo>
                        <a:pt x="456" y="19"/>
                      </a:lnTo>
                      <a:lnTo>
                        <a:pt x="425" y="35"/>
                      </a:lnTo>
                      <a:lnTo>
                        <a:pt x="393" y="49"/>
                      </a:lnTo>
                      <a:lnTo>
                        <a:pt x="361" y="60"/>
                      </a:lnTo>
                      <a:lnTo>
                        <a:pt x="328" y="69"/>
                      </a:lnTo>
                      <a:lnTo>
                        <a:pt x="332" y="77"/>
                      </a:lnTo>
                      <a:lnTo>
                        <a:pt x="332" y="68"/>
                      </a:lnTo>
                      <a:lnTo>
                        <a:pt x="299" y="74"/>
                      </a:lnTo>
                      <a:lnTo>
                        <a:pt x="267" y="78"/>
                      </a:lnTo>
                      <a:lnTo>
                        <a:pt x="235" y="79"/>
                      </a:lnTo>
                      <a:lnTo>
                        <a:pt x="203" y="78"/>
                      </a:lnTo>
                      <a:lnTo>
                        <a:pt x="172" y="74"/>
                      </a:lnTo>
                      <a:lnTo>
                        <a:pt x="172" y="83"/>
                      </a:lnTo>
                      <a:lnTo>
                        <a:pt x="176" y="75"/>
                      </a:lnTo>
                      <a:lnTo>
                        <a:pt x="145" y="68"/>
                      </a:lnTo>
                      <a:lnTo>
                        <a:pt x="116" y="59"/>
                      </a:lnTo>
                      <a:lnTo>
                        <a:pt x="87" y="48"/>
                      </a:lnTo>
                      <a:lnTo>
                        <a:pt x="60" y="34"/>
                      </a:lnTo>
                      <a:lnTo>
                        <a:pt x="34" y="18"/>
                      </a:lnTo>
                      <a:lnTo>
                        <a:pt x="30" y="26"/>
                      </a:lnTo>
                      <a:lnTo>
                        <a:pt x="37" y="2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4047840" y="341280"/>
                  <a:ext cx="28440" cy="304920"/>
                  <a:chOff x="4047840" y="341280"/>
                  <a:chExt cx="28440" cy="3049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047840" y="532080"/>
                    <a:ext cx="2844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047840" y="341280"/>
                    <a:ext cx="28440" cy="10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3965760" y="320760"/>
                  <a:ext cx="345600" cy="377640"/>
                </a:xfrm>
                <a:custGeom>
                  <a:avLst/>
                  <a:gdLst/>
                  <a:ahLst/>
                  <a:rect l="l" t="t" r="r" b="b"/>
                  <a:pathLst>
                    <a:path w="218" h="238">
                      <a:moveTo>
                        <a:pt x="0" y="238"/>
                      </a:moveTo>
                      <a:lnTo>
                        <a:pt x="27" y="0"/>
                      </a:lnTo>
                      <a:lnTo>
                        <a:pt x="218" y="22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2320" y="401760"/>
                  <a:ext cx="380880" cy="326880"/>
                </a:xfrm>
                <a:custGeom>
                  <a:avLst/>
                  <a:gdLst/>
                  <a:ahLst/>
                  <a:rect l="l" t="t" r="r" b="b"/>
                  <a:pathLst>
                    <a:path w="240" h="206">
                      <a:moveTo>
                        <a:pt x="0" y="0"/>
                      </a:moveTo>
                      <a:lnTo>
                        <a:pt x="240" y="15"/>
                      </a:lnTo>
                      <a:lnTo>
                        <a:pt x="228" y="2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267160" y="493560"/>
                  <a:ext cx="28080" cy="22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4091040" y="417600"/>
                  <a:ext cx="1186560" cy="293760"/>
                  <a:chOff x="4091040" y="417600"/>
                  <a:chExt cx="1186560" cy="2937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5211360" y="470160"/>
                    <a:ext cx="66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8">
                        <a:moveTo>
                          <a:pt x="42" y="5"/>
                        </a:moveTo>
                        <a:lnTo>
                          <a:pt x="42" y="3"/>
                        </a:lnTo>
                        <a:lnTo>
                          <a:pt x="42" y="3"/>
                        </a:lnTo>
                        <a:lnTo>
                          <a:pt x="41" y="2"/>
                        </a:lnTo>
                        <a:lnTo>
                          <a:pt x="40" y="1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8" y="1"/>
                        </a:lnTo>
                        <a:lnTo>
                          <a:pt x="37" y="2"/>
                        </a:lnTo>
                        <a:lnTo>
                          <a:pt x="34" y="4"/>
                        </a:lnTo>
                        <a:lnTo>
                          <a:pt x="32" y="7"/>
                        </a:lnTo>
                        <a:lnTo>
                          <a:pt x="34" y="8"/>
                        </a:lnTo>
                        <a:lnTo>
                          <a:pt x="33" y="6"/>
                        </a:lnTo>
                        <a:lnTo>
                          <a:pt x="14" y="23"/>
                        </a:lnTo>
                        <a:lnTo>
                          <a:pt x="2" y="33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2" y="38"/>
                        </a:lnTo>
                        <a:lnTo>
                          <a:pt x="3" y="38"/>
                        </a:lnTo>
                        <a:lnTo>
                          <a:pt x="4" y="38"/>
                        </a:lnTo>
                        <a:lnTo>
                          <a:pt x="5" y="38"/>
                        </a:lnTo>
                        <a:lnTo>
                          <a:pt x="17" y="28"/>
                        </a:lnTo>
                        <a:lnTo>
                          <a:pt x="36" y="11"/>
                        </a:lnTo>
                        <a:lnTo>
                          <a:pt x="37" y="10"/>
                        </a:lnTo>
                        <a:lnTo>
                          <a:pt x="39" y="7"/>
                        </a:lnTo>
                        <a:lnTo>
                          <a:pt x="4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182920" y="53820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9" y="6"/>
                        </a:moveTo>
                        <a:lnTo>
                          <a:pt x="10" y="5"/>
                        </a:lnTo>
                        <a:lnTo>
                          <a:pt x="10" y="4"/>
                        </a:lnTo>
                        <a:lnTo>
                          <a:pt x="10" y="3"/>
                        </a:lnTo>
                        <a:lnTo>
                          <a:pt x="10" y="2"/>
                        </a:lnTo>
                        <a:lnTo>
                          <a:pt x="9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1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2" y="10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094000" y="561960"/>
                    <a:ext cx="74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1">
                        <a:moveTo>
                          <a:pt x="46" y="5"/>
                        </a:moveTo>
                        <a:lnTo>
                          <a:pt x="47" y="4"/>
                        </a:lnTo>
                        <a:lnTo>
                          <a:pt x="47" y="3"/>
                        </a:lnTo>
                        <a:lnTo>
                          <a:pt x="47" y="2"/>
                        </a:lnTo>
                        <a:lnTo>
                          <a:pt x="47" y="1"/>
                        </a:lnTo>
                        <a:lnTo>
                          <a:pt x="46" y="0"/>
                        </a:lnTo>
                        <a:lnTo>
                          <a:pt x="45" y="0"/>
                        </a:lnTo>
                        <a:lnTo>
                          <a:pt x="44" y="0"/>
                        </a:lnTo>
                        <a:lnTo>
                          <a:pt x="43" y="0"/>
                        </a:lnTo>
                        <a:lnTo>
                          <a:pt x="27" y="11"/>
                        </a:lnTo>
                        <a:lnTo>
                          <a:pt x="6" y="24"/>
                        </a:lnTo>
                        <a:lnTo>
                          <a:pt x="2" y="26"/>
                        </a:lnTo>
                        <a:lnTo>
                          <a:pt x="1" y="27"/>
                        </a:lnTo>
                        <a:lnTo>
                          <a:pt x="0" y="28"/>
                        </a:lnTo>
                        <a:lnTo>
                          <a:pt x="0" y="29"/>
                        </a:lnTo>
                        <a:lnTo>
                          <a:pt x="1" y="30"/>
                        </a:lnTo>
                        <a:lnTo>
                          <a:pt x="2" y="31"/>
                        </a:lnTo>
                        <a:lnTo>
                          <a:pt x="3" y="31"/>
                        </a:lnTo>
                        <a:lnTo>
                          <a:pt x="4" y="31"/>
                        </a:lnTo>
                        <a:lnTo>
                          <a:pt x="5" y="31"/>
                        </a:lnTo>
                        <a:lnTo>
                          <a:pt x="9" y="29"/>
                        </a:lnTo>
                        <a:lnTo>
                          <a:pt x="30" y="16"/>
                        </a:lnTo>
                        <a:lnTo>
                          <a:pt x="4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060520" y="615960"/>
                    <a:ext cx="18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10" y="5"/>
                        </a:moveTo>
                        <a:lnTo>
                          <a:pt x="11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1" y="7"/>
                        </a:lnTo>
                        <a:lnTo>
                          <a:pt x="2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1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963680" y="631800"/>
                    <a:ext cx="80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4">
                        <a:moveTo>
                          <a:pt x="48" y="6"/>
                        </a:moveTo>
                        <a:lnTo>
                          <a:pt x="49" y="5"/>
                        </a:lnTo>
                        <a:lnTo>
                          <a:pt x="50" y="4"/>
                        </a:lnTo>
                        <a:lnTo>
                          <a:pt x="51" y="3"/>
                        </a:lnTo>
                        <a:lnTo>
                          <a:pt x="51" y="2"/>
                        </a:lnTo>
                        <a:lnTo>
                          <a:pt x="50" y="1"/>
                        </a:lnTo>
                        <a:lnTo>
                          <a:pt x="49" y="0"/>
                        </a:lnTo>
                        <a:lnTo>
                          <a:pt x="48" y="0"/>
                        </a:lnTo>
                        <a:lnTo>
                          <a:pt x="47" y="0"/>
                        </a:lnTo>
                        <a:lnTo>
                          <a:pt x="45" y="1"/>
                        </a:lnTo>
                        <a:lnTo>
                          <a:pt x="22" y="11"/>
                        </a:lnTo>
                        <a:lnTo>
                          <a:pt x="3" y="18"/>
                        </a:lnTo>
                        <a:lnTo>
                          <a:pt x="2" y="18"/>
                        </a:lnTo>
                        <a:lnTo>
                          <a:pt x="1" y="19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1" y="22"/>
                        </a:lnTo>
                        <a:lnTo>
                          <a:pt x="2" y="23"/>
                        </a:lnTo>
                        <a:lnTo>
                          <a:pt x="3" y="24"/>
                        </a:lnTo>
                        <a:lnTo>
                          <a:pt x="4" y="24"/>
                        </a:lnTo>
                        <a:lnTo>
                          <a:pt x="23" y="17"/>
                        </a:lnTo>
                        <a:lnTo>
                          <a:pt x="46" y="7"/>
                        </a:lnTo>
                        <a:lnTo>
                          <a:pt x="48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927320" y="668520"/>
                    <a:ext cx="187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">
                        <a:moveTo>
                          <a:pt x="10" y="6"/>
                        </a:move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825800" y="677880"/>
                    <a:ext cx="83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6">
                        <a:moveTo>
                          <a:pt x="50" y="6"/>
                        </a:moveTo>
                        <a:lnTo>
                          <a:pt x="51" y="6"/>
                        </a:lnTo>
                        <a:lnTo>
                          <a:pt x="52" y="5"/>
                        </a:lnTo>
                        <a:lnTo>
                          <a:pt x="53" y="4"/>
                        </a:lnTo>
                        <a:lnTo>
                          <a:pt x="53" y="3"/>
                        </a:lnTo>
                        <a:lnTo>
                          <a:pt x="52" y="2"/>
                        </a:lnTo>
                        <a:lnTo>
                          <a:pt x="51" y="1"/>
                        </a:lnTo>
                        <a:lnTo>
                          <a:pt x="50" y="0"/>
                        </a:lnTo>
                        <a:lnTo>
                          <a:pt x="49" y="0"/>
                        </a:lnTo>
                        <a:lnTo>
                          <a:pt x="39" y="3"/>
                        </a:lnTo>
                        <a:lnTo>
                          <a:pt x="16" y="8"/>
                        </a:lnTo>
                        <a:lnTo>
                          <a:pt x="2" y="10"/>
                        </a:lnTo>
                        <a:lnTo>
                          <a:pt x="1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1" y="15"/>
                        </a:lnTo>
                        <a:lnTo>
                          <a:pt x="2" y="16"/>
                        </a:lnTo>
                        <a:lnTo>
                          <a:pt x="3" y="16"/>
                        </a:lnTo>
                        <a:lnTo>
                          <a:pt x="17" y="14"/>
                        </a:lnTo>
                        <a:lnTo>
                          <a:pt x="40" y="9"/>
                        </a:lnTo>
                        <a:lnTo>
                          <a:pt x="5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787640" y="69696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7">
                        <a:moveTo>
                          <a:pt x="10" y="6"/>
                        </a:move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3" y="7"/>
                        </a:lnTo>
                        <a:lnTo>
                          <a:pt x="4" y="7"/>
                        </a:lnTo>
                        <a:lnTo>
                          <a:pt x="1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682880" y="700200"/>
                    <a:ext cx="85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7">
                        <a:moveTo>
                          <a:pt x="52" y="6"/>
                        </a:moveTo>
                        <a:lnTo>
                          <a:pt x="53" y="6"/>
                        </a:lnTo>
                        <a:lnTo>
                          <a:pt x="54" y="5"/>
                        </a:lnTo>
                        <a:lnTo>
                          <a:pt x="54" y="4"/>
                        </a:lnTo>
                        <a:lnTo>
                          <a:pt x="54" y="3"/>
                        </a:lnTo>
                        <a:lnTo>
                          <a:pt x="54" y="2"/>
                        </a:lnTo>
                        <a:lnTo>
                          <a:pt x="53" y="1"/>
                        </a:lnTo>
                        <a:lnTo>
                          <a:pt x="52" y="0"/>
                        </a:lnTo>
                        <a:lnTo>
                          <a:pt x="51" y="0"/>
                        </a:lnTo>
                        <a:lnTo>
                          <a:pt x="33" y="1"/>
                        </a:lnTo>
                        <a:lnTo>
                          <a:pt x="9" y="1"/>
                        </a:lnTo>
                        <a:lnTo>
                          <a:pt x="10" y="4"/>
                        </a:lnTo>
                        <a:lnTo>
                          <a:pt x="10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9" y="7"/>
                        </a:lnTo>
                        <a:lnTo>
                          <a:pt x="10" y="7"/>
                        </a:lnTo>
                        <a:lnTo>
                          <a:pt x="34" y="7"/>
                        </a:lnTo>
                        <a:lnTo>
                          <a:pt x="5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644720" y="700200"/>
                    <a:ext cx="18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">
                        <a:moveTo>
                          <a:pt x="9" y="6"/>
                        </a:move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2" y="5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541400" y="685800"/>
                    <a:ext cx="83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3">
                        <a:moveTo>
                          <a:pt x="50" y="13"/>
                        </a:moveTo>
                        <a:lnTo>
                          <a:pt x="51" y="13"/>
                        </a:lnTo>
                        <a:lnTo>
                          <a:pt x="52" y="13"/>
                        </a:lnTo>
                        <a:lnTo>
                          <a:pt x="53" y="12"/>
                        </a:lnTo>
                        <a:lnTo>
                          <a:pt x="53" y="11"/>
                        </a:lnTo>
                        <a:lnTo>
                          <a:pt x="53" y="10"/>
                        </a:lnTo>
                        <a:lnTo>
                          <a:pt x="53" y="9"/>
                        </a:lnTo>
                        <a:lnTo>
                          <a:pt x="52" y="8"/>
                        </a:lnTo>
                        <a:lnTo>
                          <a:pt x="51" y="7"/>
                        </a:lnTo>
                        <a:lnTo>
                          <a:pt x="27" y="4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26" y="10"/>
                        </a:lnTo>
                        <a:lnTo>
                          <a:pt x="5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505040" y="67644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8" y="8"/>
                        </a:moveTo>
                        <a:lnTo>
                          <a:pt x="9" y="8"/>
                        </a:lnTo>
                        <a:lnTo>
                          <a:pt x="10" y="7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0" y="2"/>
                        </a:lnTo>
                        <a:lnTo>
                          <a:pt x="9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8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404960" y="642960"/>
                    <a:ext cx="80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2">
                        <a:moveTo>
                          <a:pt x="48" y="22"/>
                        </a:moveTo>
                        <a:lnTo>
                          <a:pt x="49" y="22"/>
                        </a:lnTo>
                        <a:lnTo>
                          <a:pt x="50" y="22"/>
                        </a:lnTo>
                        <a:lnTo>
                          <a:pt x="51" y="21"/>
                        </a:lnTo>
                        <a:lnTo>
                          <a:pt x="51" y="20"/>
                        </a:lnTo>
                        <a:lnTo>
                          <a:pt x="51" y="19"/>
                        </a:lnTo>
                        <a:lnTo>
                          <a:pt x="51" y="18"/>
                        </a:lnTo>
                        <a:lnTo>
                          <a:pt x="50" y="17"/>
                        </a:lnTo>
                        <a:lnTo>
                          <a:pt x="49" y="16"/>
                        </a:lnTo>
                        <a:lnTo>
                          <a:pt x="42" y="14"/>
                        </a:lnTo>
                        <a:lnTo>
                          <a:pt x="19" y="6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2" y="6"/>
                        </a:lnTo>
                        <a:lnTo>
                          <a:pt x="18" y="12"/>
                        </a:lnTo>
                        <a:lnTo>
                          <a:pt x="41" y="20"/>
                        </a:lnTo>
                        <a:lnTo>
                          <a:pt x="48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370040" y="628920"/>
                    <a:ext cx="16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8">
                        <a:moveTo>
                          <a:pt x="8" y="8"/>
                        </a:moveTo>
                        <a:lnTo>
                          <a:pt x="9" y="8"/>
                        </a:lnTo>
                        <a:lnTo>
                          <a:pt x="10" y="8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1" y="5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8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277880" y="579600"/>
                    <a:ext cx="75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3" y="29"/>
                        </a:moveTo>
                        <a:lnTo>
                          <a:pt x="44" y="29"/>
                        </a:lnTo>
                        <a:lnTo>
                          <a:pt x="45" y="29"/>
                        </a:lnTo>
                        <a:lnTo>
                          <a:pt x="46" y="29"/>
                        </a:lnTo>
                        <a:lnTo>
                          <a:pt x="47" y="28"/>
                        </a:lnTo>
                        <a:lnTo>
                          <a:pt x="48" y="27"/>
                        </a:lnTo>
                        <a:lnTo>
                          <a:pt x="48" y="26"/>
                        </a:lnTo>
                        <a:lnTo>
                          <a:pt x="47" y="25"/>
                        </a:lnTo>
                        <a:lnTo>
                          <a:pt x="46" y="24"/>
                        </a:lnTo>
                        <a:lnTo>
                          <a:pt x="32" y="16"/>
                        </a:lnTo>
                        <a:lnTo>
                          <a:pt x="10" y="4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7" y="9"/>
                        </a:lnTo>
                        <a:lnTo>
                          <a:pt x="29" y="21"/>
                        </a:lnTo>
                        <a:lnTo>
                          <a:pt x="43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246200" y="55728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6" y="9"/>
                        </a:move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1" y="7"/>
                        </a:lnTo>
                        <a:lnTo>
                          <a:pt x="11" y="6"/>
                        </a:lnTo>
                        <a:lnTo>
                          <a:pt x="10" y="5"/>
                        </a:lnTo>
                        <a:lnTo>
                          <a:pt x="9" y="4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1" y="6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163760" y="492120"/>
                    <a:ext cx="67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7">
                        <a:moveTo>
                          <a:pt x="39" y="36"/>
                        </a:moveTo>
                        <a:lnTo>
                          <a:pt x="40" y="37"/>
                        </a:lnTo>
                        <a:lnTo>
                          <a:pt x="41" y="37"/>
                        </a:lnTo>
                        <a:lnTo>
                          <a:pt x="42" y="36"/>
                        </a:lnTo>
                        <a:lnTo>
                          <a:pt x="43" y="35"/>
                        </a:lnTo>
                        <a:lnTo>
                          <a:pt x="43" y="34"/>
                        </a:lnTo>
                        <a:lnTo>
                          <a:pt x="43" y="33"/>
                        </a:lnTo>
                        <a:lnTo>
                          <a:pt x="43" y="32"/>
                        </a:lnTo>
                        <a:lnTo>
                          <a:pt x="42" y="31"/>
                        </a:lnTo>
                        <a:lnTo>
                          <a:pt x="41" y="31"/>
                        </a:lnTo>
                        <a:lnTo>
                          <a:pt x="21" y="15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1" y="5"/>
                        </a:lnTo>
                        <a:lnTo>
                          <a:pt x="2" y="6"/>
                        </a:lnTo>
                        <a:lnTo>
                          <a:pt x="18" y="20"/>
                        </a:lnTo>
                        <a:lnTo>
                          <a:pt x="38" y="36"/>
                        </a:lnTo>
                        <a:lnTo>
                          <a:pt x="39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6760" y="466920"/>
                    <a:ext cx="15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5" y="8"/>
                        </a:moveTo>
                        <a:lnTo>
                          <a:pt x="6" y="9"/>
                        </a:ln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6"/>
                        </a:lnTo>
                        <a:lnTo>
                          <a:pt x="10" y="5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5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091040" y="417600"/>
                    <a:ext cx="345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18" y="24"/>
                        </a:moveTo>
                        <a:lnTo>
                          <a:pt x="19" y="24"/>
                        </a:lnTo>
                        <a:lnTo>
                          <a:pt x="20" y="24"/>
                        </a:lnTo>
                        <a:lnTo>
                          <a:pt x="21" y="24"/>
                        </a:lnTo>
                        <a:lnTo>
                          <a:pt x="22" y="23"/>
                        </a:lnTo>
                        <a:lnTo>
                          <a:pt x="22" y="22"/>
                        </a:lnTo>
                        <a:lnTo>
                          <a:pt x="22" y="21"/>
                        </a:lnTo>
                        <a:lnTo>
                          <a:pt x="22" y="20"/>
                        </a:lnTo>
                        <a:lnTo>
                          <a:pt x="21" y="19"/>
                        </a:lnTo>
                        <a:lnTo>
                          <a:pt x="16" y="14"/>
                        </a:lnTo>
                        <a:lnTo>
                          <a:pt x="14" y="16"/>
                        </a:lnTo>
                        <a:lnTo>
                          <a:pt x="17" y="15"/>
                        </a:lnTo>
                        <a:lnTo>
                          <a:pt x="6" y="2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5"/>
                        </a:lnTo>
                        <a:lnTo>
                          <a:pt x="12" y="18"/>
                        </a:lnTo>
                        <a:lnTo>
                          <a:pt x="13" y="19"/>
                        </a:lnTo>
                        <a:lnTo>
                          <a:pt x="1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>
                  <a:off x="4047840" y="493560"/>
                  <a:ext cx="2844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138560" y="403200"/>
                  <a:ext cx="1519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091120" y="403200"/>
                  <a:ext cx="1137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195880" y="40788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48" y="61"/>
                      </a:moveTo>
                      <a:lnTo>
                        <a:pt x="61" y="48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4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052880" y="407880"/>
                  <a:ext cx="96480" cy="96840"/>
                </a:xfrm>
                <a:custGeom>
                  <a:avLst/>
                  <a:gdLst/>
                  <a:ahLst/>
                  <a:rect l="l" t="t" r="r" b="b"/>
                  <a:pathLst>
                    <a:path w="61" h="61">
                      <a:moveTo>
                        <a:pt x="0" y="48"/>
                      </a:moveTo>
                      <a:lnTo>
                        <a:pt x="13" y="61"/>
                      </a:lnTo>
                      <a:lnTo>
                        <a:pt x="61" y="13"/>
                      </a:lnTo>
                      <a:lnTo>
                        <a:pt x="48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3813120" y="2590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61040" y="4495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61040" y="46483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08760" y="4724280"/>
              <a:ext cx="228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184720" y="47242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8760" y="480060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733920" y="1981080"/>
            <a:ext cx="2133360" cy="1219320"/>
            <a:chOff x="3733920" y="1981080"/>
            <a:chExt cx="2133360" cy="1219320"/>
          </a:xfrm>
        </p:grpSpPr>
        <p:grpSp>
          <p:nvGrpSpPr>
            <p:cNvPr id="288" name=""/>
            <p:cNvGrpSpPr/>
            <p:nvPr/>
          </p:nvGrpSpPr>
          <p:grpSpPr>
            <a:xfrm>
              <a:off x="3962520" y="1981080"/>
              <a:ext cx="1753560" cy="1219320"/>
              <a:chOff x="3962520" y="1981080"/>
              <a:chExt cx="1753560" cy="1219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962520" y="1981080"/>
                <a:ext cx="1447560" cy="12193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6200000">
                <a:off x="4955760" y="2435400"/>
                <a:ext cx="1214640" cy="306000"/>
              </a:xfrm>
              <a:custGeom>
                <a:avLst/>
                <a:gdLst>
                  <a:gd name="textAreaLeft" fmla="*/ 151200 w 1214640"/>
                  <a:gd name="textAreaRight" fmla="*/ 1063440 w 1214640"/>
                  <a:gd name="textAreaTop" fmla="*/ 38160 h 306000"/>
                  <a:gd name="textAreaBottom" fmla="*/ 267840 h 30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906" y="21600"/>
                    </a:lnTo>
                    <a:lnTo>
                      <a:pt x="169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H="1">
              <a:off x="3733920" y="2590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60840" y="4114800"/>
            <a:ext cx="1981080" cy="2057400"/>
            <a:chOff x="3660840" y="4114800"/>
            <a:chExt cx="1981080" cy="2057400"/>
          </a:xfrm>
        </p:grpSpPr>
        <p:grpSp>
          <p:nvGrpSpPr>
            <p:cNvPr id="293" name=""/>
            <p:cNvGrpSpPr/>
            <p:nvPr/>
          </p:nvGrpSpPr>
          <p:grpSpPr>
            <a:xfrm>
              <a:off x="3889440" y="4419720"/>
              <a:ext cx="1676520" cy="1676160"/>
              <a:chOff x="3889440" y="4419720"/>
              <a:chExt cx="1676520" cy="16761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3889440" y="4419720"/>
                <a:ext cx="1676520" cy="1676160"/>
                <a:chOff x="3889440" y="4419720"/>
                <a:chExt cx="1676520" cy="1676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889440" y="4419720"/>
                  <a:ext cx="1676520" cy="1676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70680" y="4800600"/>
                  <a:ext cx="952560" cy="93348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042080" y="4572000"/>
                <a:ext cx="1371600" cy="1371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3660840" y="5257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75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346640" y="487692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2599" y="10782"/>
                </a:moveTo>
                <a:arcTo wR="-8201" hR="-8201" stAng="-10792455" swAng="-10807545"/>
                <a:lnTo>
                  <a:pt x="0" y="10800"/>
                </a:lnTo>
                <a:arcTo wR="10800" hR="10800" stAng="10800000" swAng="10807545"/>
                <a:lnTo>
                  <a:pt x="24300" y="10830"/>
                </a:lnTo>
                <a:lnTo>
                  <a:pt x="20292" y="14820"/>
                </a:lnTo>
                <a:lnTo>
                  <a:pt x="16301" y="10812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581280" y="1980720"/>
            <a:ext cx="2209680" cy="1219680"/>
            <a:chOff x="3581280" y="1980720"/>
            <a:chExt cx="2209680" cy="1219680"/>
          </a:xfrm>
        </p:grpSpPr>
        <p:sp>
          <p:nvSpPr>
            <p:cNvPr id="302" name=""/>
            <p:cNvSpPr/>
            <p:nvPr/>
          </p:nvSpPr>
          <p:spPr>
            <a:xfrm>
              <a:off x="3962160" y="1981080"/>
              <a:ext cx="1447920" cy="12193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114800" y="1980360"/>
              <a:ext cx="1218960" cy="7621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037760" y="2438280"/>
              <a:ext cx="1219320" cy="7621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5909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03640" y="2209680"/>
            <a:ext cx="2895120" cy="1298160"/>
            <a:chOff x="3203640" y="2209680"/>
            <a:chExt cx="2895120" cy="1298160"/>
          </a:xfrm>
        </p:grpSpPr>
        <p:sp>
          <p:nvSpPr>
            <p:cNvPr id="307" name=""/>
            <p:cNvSpPr/>
            <p:nvPr/>
          </p:nvSpPr>
          <p:spPr>
            <a:xfrm>
              <a:off x="3203640" y="2209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660480" y="2285640"/>
              <a:ext cx="456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6560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2971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194000" y="990720"/>
            <a:ext cx="1066680" cy="1981080"/>
            <a:chOff x="4194000" y="990720"/>
            <a:chExt cx="1066680" cy="1981080"/>
          </a:xfrm>
        </p:grpSpPr>
        <p:sp>
          <p:nvSpPr>
            <p:cNvPr id="312" name=""/>
            <p:cNvSpPr/>
            <p:nvPr/>
          </p:nvSpPr>
          <p:spPr>
            <a:xfrm>
              <a:off x="449892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56120" y="13716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892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94000" y="990720"/>
              <a:ext cx="1066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x=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043520" y="1447920"/>
            <a:ext cx="1297800" cy="2364480"/>
            <a:chOff x="4043520" y="1447920"/>
            <a:chExt cx="1297800" cy="2364480"/>
          </a:xfrm>
        </p:grpSpPr>
        <p:sp>
          <p:nvSpPr>
            <p:cNvPr id="317" name=""/>
            <p:cNvSpPr/>
            <p:nvPr/>
          </p:nvSpPr>
          <p:spPr>
            <a:xfrm>
              <a:off x="4956120" y="2971800"/>
              <a:ext cx="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498920" y="1599840"/>
              <a:ext cx="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3520" y="144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57920" y="335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727520" y="3962520"/>
            <a:ext cx="1302480" cy="748800"/>
            <a:chOff x="4727520" y="3962520"/>
            <a:chExt cx="1302480" cy="748800"/>
          </a:xfrm>
        </p:grpSpPr>
        <p:sp>
          <p:nvSpPr>
            <p:cNvPr id="322" name=""/>
            <p:cNvSpPr/>
            <p:nvPr/>
          </p:nvSpPr>
          <p:spPr>
            <a:xfrm>
              <a:off x="4727520" y="4454280"/>
              <a:ext cx="1143000" cy="257040"/>
            </a:xfrm>
            <a:prstGeom prst="rightArrow">
              <a:avLst>
                <a:gd name="adj1" fmla="val 28574"/>
                <a:gd name="adj2" fmla="val 6670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58040" y="3962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ru-RU" sz="24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07840" y="3276720"/>
            <a:ext cx="1752840" cy="533160"/>
            <a:chOff x="3507840" y="3276720"/>
            <a:chExt cx="1752840" cy="533160"/>
          </a:xfrm>
        </p:grpSpPr>
        <p:sp>
          <p:nvSpPr>
            <p:cNvPr id="325" name=""/>
            <p:cNvSpPr/>
            <p:nvPr/>
          </p:nvSpPr>
          <p:spPr>
            <a:xfrm>
              <a:off x="4117680" y="3809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507840" y="3809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09280" y="3276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746440" y="1981080"/>
            <a:ext cx="1218240" cy="1219320"/>
            <a:chOff x="2746440" y="1981080"/>
            <a:chExt cx="1218240" cy="1219320"/>
          </a:xfrm>
        </p:grpSpPr>
        <p:sp>
          <p:nvSpPr>
            <p:cNvPr id="329" name=""/>
            <p:cNvSpPr/>
            <p:nvPr/>
          </p:nvSpPr>
          <p:spPr>
            <a:xfrm flipH="1">
              <a:off x="2974320" y="32004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74320" y="19810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27320" y="19810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2809800" y="2376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27520" y="2590920"/>
            <a:ext cx="1752480" cy="1981080"/>
            <a:chOff x="4727520" y="2590920"/>
            <a:chExt cx="1752480" cy="1981080"/>
          </a:xfrm>
        </p:grpSpPr>
        <p:sp>
          <p:nvSpPr>
            <p:cNvPr id="334" name=""/>
            <p:cNvSpPr/>
            <p:nvPr/>
          </p:nvSpPr>
          <p:spPr>
            <a:xfrm>
              <a:off x="5946480" y="2590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7520" y="4572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7720" y="25909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5914800" y="33926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12:30:24Z</dcterms:created>
  <dc:creator>Довольный пользователь Microsoft Office</dc:creator>
  <dc:description/>
  <dc:language>en-US</dc:language>
  <cp:lastModifiedBy>Довольный пользователь Microsoft Office</cp:lastModifiedBy>
  <dcterms:modified xsi:type="dcterms:W3CDTF">2001-05-17T04:59:47Z</dcterms:modified>
  <cp:revision>16</cp:revision>
  <dc:subject/>
  <dc:title>Заголовок слайда отсутствует</dc:title>
</cp:coreProperties>
</file>