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BD6-775E-4CF5-8900-DE029898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208-08A3-489B-AE6F-ABC5EB73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287-3A67-474A-8A20-D1EDFB6A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6EB-AD51-4148-AD16-3A69208B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FFE-974C-41F4-B257-5EF0CA64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F0F-9AE4-4135-B7F0-41BE87BD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E5E-63E7-461B-AEFA-0483C5A7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706-8523-4026-84F0-B14200EF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B33-AC7D-4844-823B-97980335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2CB-1AF9-4F08-BBC6-3C3A9D4F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B72-C6EA-4645-91AD-8DF5E12C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FF3-DB00-4D4B-B2F9-5196437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D211-043C-4EE8-839C-6FE6FB0A81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37920" y="1143000"/>
            <a:ext cx="838800" cy="3733560"/>
            <a:chOff x="2437920" y="1143000"/>
            <a:chExt cx="838800" cy="3733560"/>
          </a:xfrm>
        </p:grpSpPr>
        <p:sp>
          <p:nvSpPr>
            <p:cNvPr id="42" name=""/>
            <p:cNvSpPr/>
            <p:nvPr/>
          </p:nvSpPr>
          <p:spPr>
            <a:xfrm>
              <a:off x="2438280" y="274320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38280" y="426708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38280" y="327672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8280" y="2209680"/>
              <a:ext cx="838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38280" y="167652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1143000"/>
              <a:ext cx="0" cy="35053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1143000"/>
              <a:ext cx="2286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38280" y="3809880"/>
              <a:ext cx="609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2437920" y="4647960"/>
              <a:ext cx="228600" cy="22860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666880" y="4038480"/>
            <a:ext cx="228600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505320"/>
            <a:ext cx="228600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971800"/>
            <a:ext cx="220968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438280"/>
            <a:ext cx="220968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Ш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905120"/>
            <a:ext cx="190476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З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00600" y="1905120"/>
            <a:ext cx="3962520" cy="2712960"/>
            <a:chOff x="4800600" y="1905120"/>
            <a:chExt cx="3962520" cy="2712960"/>
          </a:xfrm>
        </p:grpSpPr>
        <p:grpSp>
          <p:nvGrpSpPr>
            <p:cNvPr id="57" name=""/>
            <p:cNvGrpSpPr/>
            <p:nvPr/>
          </p:nvGrpSpPr>
          <p:grpSpPr>
            <a:xfrm>
              <a:off x="5105520" y="2971800"/>
              <a:ext cx="3657600" cy="579600"/>
              <a:chOff x="5105520" y="2971800"/>
              <a:chExt cx="3657600" cy="579600"/>
            </a:xfrm>
          </p:grpSpPr>
          <p:sp>
            <p:nvSpPr>
              <p:cNvPr id="58" name=""/>
              <p:cNvSpPr/>
              <p:nvPr/>
            </p:nvSpPr>
            <p:spPr>
              <a:xfrm>
                <a:off x="5105520" y="3276720"/>
                <a:ext cx="2819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924680" y="2971800"/>
                <a:ext cx="83844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З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952880" y="2438280"/>
              <a:ext cx="3810240" cy="579600"/>
              <a:chOff x="4952880" y="2438280"/>
              <a:chExt cx="3810240" cy="579600"/>
            </a:xfrm>
          </p:grpSpPr>
          <p:sp>
            <p:nvSpPr>
              <p:cNvPr id="61" name=""/>
              <p:cNvSpPr/>
              <p:nvPr/>
            </p:nvSpPr>
            <p:spPr>
              <a:xfrm>
                <a:off x="4952880" y="2743200"/>
                <a:ext cx="29718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24680" y="2438280"/>
                <a:ext cx="83844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Ш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800600" y="1905120"/>
              <a:ext cx="3962520" cy="579600"/>
              <a:chOff x="4800600" y="1905120"/>
              <a:chExt cx="3962520" cy="579600"/>
            </a:xfrm>
          </p:grpSpPr>
          <p:sp>
            <p:nvSpPr>
              <p:cNvPr id="64" name=""/>
              <p:cNvSpPr/>
              <p:nvPr/>
            </p:nvSpPr>
            <p:spPr>
              <a:xfrm>
                <a:off x="4800600" y="2209680"/>
                <a:ext cx="3276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77320" y="1905120"/>
                <a:ext cx="68580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З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105520" y="3505320"/>
              <a:ext cx="3657600" cy="579600"/>
              <a:chOff x="5105520" y="3505320"/>
              <a:chExt cx="3657600" cy="579600"/>
            </a:xfrm>
          </p:grpSpPr>
          <p:sp>
            <p:nvSpPr>
              <p:cNvPr id="67" name=""/>
              <p:cNvSpPr/>
              <p:nvPr/>
            </p:nvSpPr>
            <p:spPr>
              <a:xfrm>
                <a:off x="5105520" y="3733920"/>
                <a:ext cx="26668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72400" y="3505320"/>
                <a:ext cx="99072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ШВх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05520" y="4038480"/>
              <a:ext cx="3657600" cy="579600"/>
              <a:chOff x="5105520" y="4038480"/>
              <a:chExt cx="3657600" cy="579600"/>
            </a:xfrm>
          </p:grpSpPr>
          <p:sp>
            <p:nvSpPr>
              <p:cNvPr id="70" name=""/>
              <p:cNvSpPr/>
              <p:nvPr/>
            </p:nvSpPr>
            <p:spPr>
              <a:xfrm>
                <a:off x="5105520" y="4267080"/>
                <a:ext cx="28954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4038480"/>
                <a:ext cx="762120" cy="579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lang="ru-RU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Вх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800600" y="2057400"/>
              <a:ext cx="228600" cy="2362320"/>
              <a:chOff x="4800600" y="2057400"/>
              <a:chExt cx="228600" cy="2362320"/>
            </a:xfrm>
          </p:grpSpPr>
          <p:sp>
            <p:nvSpPr>
              <p:cNvPr id="73" name=""/>
              <p:cNvSpPr/>
              <p:nvPr/>
            </p:nvSpPr>
            <p:spPr>
              <a:xfrm>
                <a:off x="4800600" y="205740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00600" y="259092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00600" y="312408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00600" y="365760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00600" y="4191120"/>
                <a:ext cx="22860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4800600" y="5105520"/>
            <a:ext cx="31561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4724280"/>
            <a:ext cx="806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1600200"/>
            <a:ext cx="182880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52480" y="5029200"/>
            <a:ext cx="914400" cy="685800"/>
            <a:chOff x="1752480" y="5029200"/>
            <a:chExt cx="914400" cy="685800"/>
          </a:xfrm>
        </p:grpSpPr>
        <p:sp>
          <p:nvSpPr>
            <p:cNvPr id="82" name=""/>
            <p:cNvSpPr/>
            <p:nvPr/>
          </p:nvSpPr>
          <p:spPr>
            <a:xfrm flipH="1" flipV="1">
              <a:off x="1828440" y="5334120"/>
              <a:ext cx="609480" cy="38088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752480" y="5029200"/>
              <a:ext cx="914400" cy="3049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3581280" y="990720"/>
            <a:ext cx="426744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ХЕМА ОПРЕДЕЛЕНИЯ ПАРАМЕТРОВ ПРИВ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917800" y="380880"/>
            <a:ext cx="6224400" cy="459720"/>
            <a:chOff x="2917800" y="380880"/>
            <a:chExt cx="6224400" cy="459720"/>
          </a:xfrm>
        </p:grpSpPr>
        <p:sp>
          <p:nvSpPr>
            <p:cNvPr id="87" name=""/>
            <p:cNvSpPr/>
            <p:nvPr/>
          </p:nvSpPr>
          <p:spPr>
            <a:xfrm>
              <a:off x="2917800" y="380880"/>
              <a:ext cx="16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щ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1480" y="490680"/>
              <a:ext cx="26672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гловая скор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3400" y="38088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мен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6320" y="838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фта (И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71600"/>
            <a:ext cx="223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 выход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080" y="1905120"/>
            <a:ext cx="1660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чат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со В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80" y="2590920"/>
            <a:ext cx="209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стерня П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320" y="2971800"/>
            <a:ext cx="161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чат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есо П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" y="4572000"/>
            <a:ext cx="1968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 электр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вига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838080"/>
            <a:ext cx="914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838080"/>
            <a:ext cx="914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838080"/>
            <a:ext cx="83808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18120" y="838080"/>
            <a:ext cx="33300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576680"/>
            <a:ext cx="236196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р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715000"/>
            <a:ext cx="350532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ЭД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ЭД-П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4576680"/>
            <a:ext cx="83844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2000" y="5105520"/>
            <a:ext cx="83808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1371600"/>
            <a:ext cx="2133360" cy="579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И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00" y="3538440"/>
            <a:ext cx="221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естерня Вх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38480"/>
            <a:ext cx="223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 вход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457200"/>
            <a:ext cx="8839080" cy="4952880"/>
            <a:chOff x="0" y="457200"/>
            <a:chExt cx="8839080" cy="4952880"/>
          </a:xfrm>
        </p:grpSpPr>
        <p:grpSp>
          <p:nvGrpSpPr>
            <p:cNvPr id="108" name=""/>
            <p:cNvGrpSpPr/>
            <p:nvPr/>
          </p:nvGrpSpPr>
          <p:grpSpPr>
            <a:xfrm>
              <a:off x="0" y="1371600"/>
              <a:ext cx="8458200" cy="2133720"/>
              <a:chOff x="0" y="1371600"/>
              <a:chExt cx="8458200" cy="213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90512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3828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7180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37160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50532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0" y="457200"/>
              <a:ext cx="8839080" cy="4952880"/>
              <a:chOff x="0" y="457200"/>
              <a:chExt cx="8839080" cy="49528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0" y="457200"/>
                <a:ext cx="8839080" cy="4952880"/>
                <a:chOff x="0" y="457200"/>
                <a:chExt cx="8839080" cy="4952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0" y="457200"/>
                  <a:ext cx="883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838080"/>
                  <a:ext cx="883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590920" y="457200"/>
                  <a:ext cx="0" cy="49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952880" y="457200"/>
                  <a:ext cx="0" cy="49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72400" y="457200"/>
                  <a:ext cx="0" cy="487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0" y="4038480"/>
                <a:ext cx="876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4572000"/>
                <a:ext cx="876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5181480"/>
                <a:ext cx="8763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154240" y="2666880"/>
            <a:ext cx="3330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1080" y="5105520"/>
            <a:ext cx="33300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81480" y="1371600"/>
            <a:ext cx="762120" cy="3200400"/>
            <a:chOff x="5181480" y="1371600"/>
            <a:chExt cx="762120" cy="3200400"/>
          </a:xfrm>
        </p:grpSpPr>
        <p:sp>
          <p:nvSpPr>
            <p:cNvPr id="127" name=""/>
            <p:cNvSpPr/>
            <p:nvPr/>
          </p:nvSpPr>
          <p:spPr>
            <a:xfrm>
              <a:off x="5181480" y="1371600"/>
              <a:ext cx="762120" cy="3200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302400 h 3200400"/>
                <a:gd name="textAreaBottom" fmla="*/ 28980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41"/>
                  </a:moveTo>
                  <a:lnTo>
                    <a:pt x="0" y="19559"/>
                  </a:lnTo>
                  <a:lnTo>
                    <a:pt x="8100" y="19559"/>
                  </a:lnTo>
                  <a:lnTo>
                    <a:pt x="8100" y="20052"/>
                  </a:lnTo>
                  <a:lnTo>
                    <a:pt x="5500" y="20052"/>
                  </a:lnTo>
                  <a:lnTo>
                    <a:pt x="10800" y="21600"/>
                  </a:lnTo>
                  <a:lnTo>
                    <a:pt x="16100" y="20052"/>
                  </a:lnTo>
                  <a:lnTo>
                    <a:pt x="13500" y="20052"/>
                  </a:lnTo>
                  <a:lnTo>
                    <a:pt x="13500" y="19559"/>
                  </a:lnTo>
                  <a:lnTo>
                    <a:pt x="21600" y="19559"/>
                  </a:lnTo>
                  <a:lnTo>
                    <a:pt x="21600" y="2041"/>
                  </a:lnTo>
                  <a:lnTo>
                    <a:pt x="13500" y="2041"/>
                  </a:lnTo>
                  <a:lnTo>
                    <a:pt x="13500" y="1548"/>
                  </a:lnTo>
                  <a:lnTo>
                    <a:pt x="16100" y="1548"/>
                  </a:lnTo>
                  <a:lnTo>
                    <a:pt x="10800" y="0"/>
                  </a:lnTo>
                  <a:lnTo>
                    <a:pt x="5500" y="1548"/>
                  </a:lnTo>
                  <a:lnTo>
                    <a:pt x="8100" y="1548"/>
                  </a:lnTo>
                  <a:lnTo>
                    <a:pt x="8100" y="2041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4395240" y="2761200"/>
              <a:ext cx="2286000" cy="560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ПР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ru-RU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</a:t>
              </a:r>
              <a:r>
                <a:rPr b="1" lang="ru-RU" sz="2400" spc="-1" strike="noStrike" baseline="-25000">
                  <a:solidFill>
                    <a:srgbClr val="cc0000"/>
                  </a:solidFill>
                  <a:latin typeface="Times New Roman"/>
                </a:rPr>
                <a:t> ЭД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/ 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19920" y="2133720"/>
            <a:ext cx="609480" cy="5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19920" y="3200400"/>
            <a:ext cx="609480" cy="662400"/>
            <a:chOff x="6019920" y="3200400"/>
            <a:chExt cx="609480" cy="662400"/>
          </a:xfrm>
        </p:grpSpPr>
        <p:grpSp>
          <p:nvGrpSpPr>
            <p:cNvPr id="131" name=""/>
            <p:cNvGrpSpPr/>
            <p:nvPr/>
          </p:nvGrpSpPr>
          <p:grpSpPr>
            <a:xfrm>
              <a:off x="6019920" y="3200400"/>
              <a:ext cx="609480" cy="662400"/>
              <a:chOff x="6019920" y="3200400"/>
              <a:chExt cx="609480" cy="662400"/>
            </a:xfrm>
          </p:grpSpPr>
          <p:sp>
            <p:nvSpPr>
              <p:cNvPr id="132" name=""/>
              <p:cNvSpPr/>
              <p:nvPr/>
            </p:nvSpPr>
            <p:spPr>
              <a:xfrm>
                <a:off x="6019920" y="3200400"/>
                <a:ext cx="609480" cy="520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49960" y="3352680"/>
                <a:ext cx="302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6019920" y="3200400"/>
              <a:ext cx="609480" cy="5331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867280" y="4343400"/>
            <a:ext cx="762120" cy="5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0080" y="2666880"/>
            <a:ext cx="33300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1371600"/>
            <a:ext cx="990360" cy="5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1905120"/>
            <a:ext cx="990360" cy="5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438280"/>
            <a:ext cx="91440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2971800"/>
            <a:ext cx="990360" cy="57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510000"/>
            <a:ext cx="838080" cy="57960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4038480"/>
            <a:ext cx="990360" cy="5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031160" y="1066680"/>
            <a:ext cx="333000" cy="3965040"/>
            <a:chOff x="7031160" y="1066680"/>
            <a:chExt cx="333000" cy="3965040"/>
          </a:xfrm>
        </p:grpSpPr>
        <p:sp>
          <p:nvSpPr>
            <p:cNvPr id="144" name=""/>
            <p:cNvSpPr/>
            <p:nvPr/>
          </p:nvSpPr>
          <p:spPr>
            <a:xfrm>
              <a:off x="7031160" y="106668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31160" y="457200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790120" y="1676520"/>
            <a:ext cx="353880" cy="2818800"/>
            <a:chOff x="8790120" y="1676520"/>
            <a:chExt cx="353880" cy="2818800"/>
          </a:xfrm>
        </p:grpSpPr>
        <p:sp>
          <p:nvSpPr>
            <p:cNvPr id="147" name=""/>
            <p:cNvSpPr/>
            <p:nvPr/>
          </p:nvSpPr>
          <p:spPr>
            <a:xfrm>
              <a:off x="8790120" y="2819520"/>
              <a:ext cx="3330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15400" y="1676520"/>
              <a:ext cx="228600" cy="1143000"/>
            </a:xfrm>
            <a:prstGeom prst="upArrow">
              <a:avLst>
                <a:gd name="adj1" fmla="val 50000"/>
                <a:gd name="adj2" fmla="val 1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15400" y="3351960"/>
              <a:ext cx="228600" cy="1143000"/>
            </a:xfrm>
            <a:prstGeom prst="upArrow">
              <a:avLst>
                <a:gd name="adj1" fmla="val 50000"/>
                <a:gd name="adj2" fmla="val 1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6172200" y="487620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257800" y="5410080"/>
            <a:ext cx="2742840" cy="560880"/>
            <a:chOff x="5257800" y="5410080"/>
            <a:chExt cx="2742840" cy="560880"/>
          </a:xfrm>
        </p:grpSpPr>
        <p:sp>
          <p:nvSpPr>
            <p:cNvPr id="152" name=""/>
            <p:cNvSpPr/>
            <p:nvPr/>
          </p:nvSpPr>
          <p:spPr>
            <a:xfrm>
              <a:off x="5257800" y="5410080"/>
              <a:ext cx="2742840" cy="56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РП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ПР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Б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70160" y="5492880"/>
              <a:ext cx="25704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93080" y="2666880"/>
            <a:ext cx="333000" cy="1526760"/>
            <a:chOff x="6193080" y="2666880"/>
            <a:chExt cx="333000" cy="1526760"/>
          </a:xfrm>
        </p:grpSpPr>
        <p:sp>
          <p:nvSpPr>
            <p:cNvPr id="155" name=""/>
            <p:cNvSpPr/>
            <p:nvPr/>
          </p:nvSpPr>
          <p:spPr>
            <a:xfrm>
              <a:off x="6193080" y="266688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93080" y="3733920"/>
              <a:ext cx="33300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648320" y="1447920"/>
            <a:ext cx="457200" cy="4572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91520" y="1447920"/>
            <a:ext cx="380880" cy="38088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07200" y="6095880"/>
            <a:ext cx="2100960" cy="5796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И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6095880"/>
            <a:ext cx="2133720" cy="5796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П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1600200"/>
            <a:ext cx="38124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1371600"/>
            <a:ext cx="761760" cy="579600"/>
          </a:xfrm>
          <a:prstGeom prst="rect">
            <a:avLst/>
          </a:prstGeom>
          <a:solidFill>
            <a:srgbClr val="cc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В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607400">
            <a:off x="4299480" y="50950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cc0000"/>
                </a:solidFill>
                <a:latin typeface="Times New Roman"/>
              </a:rPr>
              <a:t>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9:15:42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19T18:52:10Z</dcterms:modified>
  <cp:revision>9</cp:revision>
  <dc:subject/>
  <dc:title>Заголовок слайда отсутствует</dc:title>
</cp:coreProperties>
</file>