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868-8177-46CA-B8AA-B38593DC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437-A58A-4175-A283-737DC301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CC2-4DA2-429B-A5B9-B8B5BBAE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66B-1D96-427B-A656-1D5A052B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8C3-F5F7-4D2B-8EB7-1060525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ED5-F736-40C3-A89C-6404773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C17-87C0-4DE7-ACD4-256E0616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6B2-15BA-4F5F-97A4-15DCC45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D53-EAE0-4A0E-B211-6584F00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9EA-3125-48AB-8A6F-7BEC39F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F5F-613A-4209-936A-A7A0A70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456-2215-47B8-B371-45AD804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267-2D5C-4AF0-A293-249EA9648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19320" y="380880"/>
            <a:ext cx="1828800" cy="3353040"/>
            <a:chOff x="1219320" y="380880"/>
            <a:chExt cx="1828800" cy="3353040"/>
          </a:xfrm>
        </p:grpSpPr>
        <p:grpSp>
          <p:nvGrpSpPr>
            <p:cNvPr id="42" name=""/>
            <p:cNvGrpSpPr/>
            <p:nvPr/>
          </p:nvGrpSpPr>
          <p:grpSpPr>
            <a:xfrm>
              <a:off x="1219320" y="380880"/>
              <a:ext cx="1828800" cy="3353040"/>
              <a:chOff x="1219320" y="380880"/>
              <a:chExt cx="1828800" cy="33530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1219320" y="380880"/>
                <a:ext cx="1828800" cy="990720"/>
                <a:chOff x="1219320" y="380880"/>
                <a:chExt cx="1828800" cy="9907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1295640" y="1143000"/>
                  <a:ext cx="167652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1295640" y="546120"/>
                  <a:ext cx="1676520" cy="596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295640" y="380880"/>
                  <a:ext cx="1676520" cy="247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219320" y="46368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1219320" y="2743200"/>
                <a:ext cx="1828800" cy="990720"/>
                <a:chOff x="1219320" y="2743200"/>
                <a:chExt cx="1828800" cy="9907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295640" y="2743200"/>
                  <a:ext cx="1676520" cy="762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95640" y="3505320"/>
                  <a:ext cx="167652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19320" y="365760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"/>
            <p:cNvSpPr/>
            <p:nvPr/>
          </p:nvSpPr>
          <p:spPr>
            <a:xfrm>
              <a:off x="1295640" y="11430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72160" y="11430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971800" y="1143000"/>
            <a:ext cx="380880" cy="1981080"/>
            <a:chOff x="2971800" y="1143000"/>
            <a:chExt cx="380880" cy="1981080"/>
          </a:xfrm>
        </p:grpSpPr>
        <p:grpSp>
          <p:nvGrpSpPr>
            <p:cNvPr id="55" name=""/>
            <p:cNvGrpSpPr/>
            <p:nvPr/>
          </p:nvGrpSpPr>
          <p:grpSpPr>
            <a:xfrm>
              <a:off x="2971800" y="1143000"/>
              <a:ext cx="380880" cy="1981080"/>
              <a:chOff x="2971800" y="1143000"/>
              <a:chExt cx="380880" cy="1981080"/>
            </a:xfrm>
          </p:grpSpPr>
          <p:sp>
            <p:nvSpPr>
              <p:cNvPr id="56" name=""/>
              <p:cNvSpPr/>
              <p:nvPr/>
            </p:nvSpPr>
            <p:spPr>
              <a:xfrm>
                <a:off x="2971800" y="1143000"/>
                <a:ext cx="380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71800" y="2895480"/>
                <a:ext cx="3808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971800" y="12952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2680" y="12952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37520" y="38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9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990720"/>
            <a:ext cx="2743200" cy="2438280"/>
            <a:chOff x="762120" y="990720"/>
            <a:chExt cx="2743200" cy="2438280"/>
          </a:xfrm>
        </p:grpSpPr>
        <p:sp>
          <p:nvSpPr>
            <p:cNvPr id="62" name=""/>
            <p:cNvSpPr/>
            <p:nvPr/>
          </p:nvSpPr>
          <p:spPr>
            <a:xfrm>
              <a:off x="990720" y="1066680"/>
              <a:ext cx="304560" cy="2133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1371600"/>
              <a:ext cx="2057400" cy="1523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99072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99072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21337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30040" y="2209680"/>
            <a:ext cx="1386000" cy="519120"/>
            <a:chOff x="230040" y="2209680"/>
            <a:chExt cx="1386000" cy="519120"/>
          </a:xfrm>
        </p:grpSpPr>
        <p:sp>
          <p:nvSpPr>
            <p:cNvPr id="68" name=""/>
            <p:cNvSpPr/>
            <p:nvPr/>
          </p:nvSpPr>
          <p:spPr>
            <a:xfrm>
              <a:off x="230040" y="220968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а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3920" y="24238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080" y="3200400"/>
            <a:ext cx="1675440" cy="551160"/>
            <a:chOff x="1080" y="3200400"/>
            <a:chExt cx="1675440" cy="551160"/>
          </a:xfrm>
        </p:grpSpPr>
        <p:sp>
          <p:nvSpPr>
            <p:cNvPr id="71" name=""/>
            <p:cNvSpPr/>
            <p:nvPr/>
          </p:nvSpPr>
          <p:spPr>
            <a:xfrm>
              <a:off x="1080" y="3200400"/>
              <a:ext cx="1293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тупиц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естерн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143000" y="323208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62120" y="3962520"/>
            <a:ext cx="2743200" cy="2819160"/>
            <a:chOff x="762120" y="3962520"/>
            <a:chExt cx="2743200" cy="2819160"/>
          </a:xfrm>
        </p:grpSpPr>
        <p:sp>
          <p:nvSpPr>
            <p:cNvPr id="74" name=""/>
            <p:cNvSpPr/>
            <p:nvPr/>
          </p:nvSpPr>
          <p:spPr>
            <a:xfrm>
              <a:off x="1295280" y="6019920"/>
              <a:ext cx="1676520" cy="609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4114800"/>
              <a:ext cx="1676520" cy="609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95280" y="4648320"/>
              <a:ext cx="2057400" cy="15238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447920" y="5181480"/>
              <a:ext cx="1447560" cy="457200"/>
              <a:chOff x="1447920" y="5181480"/>
              <a:chExt cx="144756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2438280" y="518148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7920" y="518148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76520" y="51814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765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971800" y="4419720"/>
              <a:ext cx="38088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6172200"/>
              <a:ext cx="38088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411480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720" y="4343400"/>
              <a:ext cx="304560" cy="21337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411480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5400000">
              <a:off x="2095200" y="544824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2095200" y="285732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410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295280" y="1371600"/>
            <a:ext cx="1701720" cy="380880"/>
            <a:chOff x="1295280" y="1371600"/>
            <a:chExt cx="1701720" cy="380880"/>
          </a:xfrm>
        </p:grpSpPr>
        <p:sp>
          <p:nvSpPr>
            <p:cNvPr id="92" name=""/>
            <p:cNvSpPr/>
            <p:nvPr/>
          </p:nvSpPr>
          <p:spPr>
            <a:xfrm>
              <a:off x="1295280" y="1371600"/>
              <a:ext cx="1701720" cy="380880"/>
            </a:xfrm>
            <a:custGeom>
              <a:avLst/>
              <a:gdLst/>
              <a:ahLst/>
              <a:rect l="l" t="t" r="r" b="b"/>
              <a:pathLst>
                <a:path w="1072" h="267">
                  <a:moveTo>
                    <a:pt x="6" y="0"/>
                  </a:moveTo>
                  <a:cubicBezTo>
                    <a:pt x="16" y="70"/>
                    <a:pt x="0" y="110"/>
                    <a:pt x="66" y="132"/>
                  </a:cubicBezTo>
                  <a:cubicBezTo>
                    <a:pt x="87" y="195"/>
                    <a:pt x="71" y="157"/>
                    <a:pt x="126" y="240"/>
                  </a:cubicBezTo>
                  <a:cubicBezTo>
                    <a:pt x="144" y="267"/>
                    <a:pt x="222" y="264"/>
                    <a:pt x="222" y="264"/>
                  </a:cubicBezTo>
                  <a:cubicBezTo>
                    <a:pt x="426" y="257"/>
                    <a:pt x="621" y="253"/>
                    <a:pt x="822" y="228"/>
                  </a:cubicBezTo>
                  <a:cubicBezTo>
                    <a:pt x="853" y="218"/>
                    <a:pt x="889" y="220"/>
                    <a:pt x="918" y="204"/>
                  </a:cubicBezTo>
                  <a:cubicBezTo>
                    <a:pt x="931" y="197"/>
                    <a:pt x="932" y="178"/>
                    <a:pt x="942" y="168"/>
                  </a:cubicBezTo>
                  <a:cubicBezTo>
                    <a:pt x="966" y="144"/>
                    <a:pt x="996" y="125"/>
                    <a:pt x="1026" y="108"/>
                  </a:cubicBezTo>
                  <a:cubicBezTo>
                    <a:pt x="1037" y="102"/>
                    <a:pt x="1058" y="108"/>
                    <a:pt x="1062" y="96"/>
                  </a:cubicBezTo>
                  <a:cubicBezTo>
                    <a:pt x="1072" y="70"/>
                    <a:pt x="1062" y="40"/>
                    <a:pt x="1062" y="12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47560" y="1371600"/>
              <a:ext cx="1371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47920" y="1219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66880" y="457200"/>
            <a:ext cx="2590920" cy="914400"/>
            <a:chOff x="2666880" y="457200"/>
            <a:chExt cx="2590920" cy="914400"/>
          </a:xfrm>
        </p:grpSpPr>
        <p:sp>
          <p:nvSpPr>
            <p:cNvPr id="96" name=""/>
            <p:cNvSpPr/>
            <p:nvPr/>
          </p:nvSpPr>
          <p:spPr>
            <a:xfrm>
              <a:off x="3124080" y="457200"/>
              <a:ext cx="2133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по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зматическ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666880" y="990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5600" y="144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05520" y="228600"/>
            <a:ext cx="2743200" cy="3657600"/>
            <a:chOff x="5105520" y="228600"/>
            <a:chExt cx="2743200" cy="3657600"/>
          </a:xfrm>
        </p:grpSpPr>
        <p:grpSp>
          <p:nvGrpSpPr>
            <p:cNvPr id="100" name=""/>
            <p:cNvGrpSpPr/>
            <p:nvPr/>
          </p:nvGrpSpPr>
          <p:grpSpPr>
            <a:xfrm>
              <a:off x="7315200" y="1143000"/>
              <a:ext cx="380880" cy="1981080"/>
              <a:chOff x="7315200" y="1143000"/>
              <a:chExt cx="380880" cy="19810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315200" y="1143000"/>
                <a:ext cx="380880" cy="1981080"/>
                <a:chOff x="7315200" y="1143000"/>
                <a:chExt cx="380880" cy="19810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315200" y="1143000"/>
                  <a:ext cx="380880" cy="228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315200" y="2895480"/>
                  <a:ext cx="380880" cy="22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7315200" y="129528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96080" y="1295280"/>
                <a:ext cx="0" cy="16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105520" y="990720"/>
              <a:ext cx="2743200" cy="2438280"/>
              <a:chOff x="5105520" y="990720"/>
              <a:chExt cx="2743200" cy="2438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334120" y="1066680"/>
                <a:ext cx="304560" cy="21337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38680" y="1371600"/>
                <a:ext cx="2057400" cy="15238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81480" y="990720"/>
                <a:ext cx="228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20120" y="990720"/>
                <a:ext cx="228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05520" y="21337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562720" y="2895480"/>
              <a:ext cx="1828800" cy="990720"/>
              <a:chOff x="5562720" y="2895480"/>
              <a:chExt cx="18288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5638680" y="2895480"/>
                <a:ext cx="1676520" cy="762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38680" y="3657600"/>
                <a:ext cx="16765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62720" y="38098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715000" y="1371600"/>
              <a:ext cx="1523880" cy="609480"/>
            </a:xfrm>
            <a:custGeom>
              <a:avLst/>
              <a:gdLst/>
              <a:ahLst/>
              <a:rect l="l" t="t" r="r" b="b"/>
              <a:pathLst>
                <a:path w="1116" h="290">
                  <a:moveTo>
                    <a:pt x="0" y="12"/>
                  </a:moveTo>
                  <a:cubicBezTo>
                    <a:pt x="8" y="71"/>
                    <a:pt x="12" y="135"/>
                    <a:pt x="72" y="168"/>
                  </a:cubicBezTo>
                  <a:cubicBezTo>
                    <a:pt x="94" y="180"/>
                    <a:pt x="144" y="192"/>
                    <a:pt x="144" y="192"/>
                  </a:cubicBezTo>
                  <a:cubicBezTo>
                    <a:pt x="152" y="204"/>
                    <a:pt x="154" y="226"/>
                    <a:pt x="168" y="228"/>
                  </a:cubicBezTo>
                  <a:cubicBezTo>
                    <a:pt x="275" y="246"/>
                    <a:pt x="384" y="241"/>
                    <a:pt x="492" y="252"/>
                  </a:cubicBezTo>
                  <a:cubicBezTo>
                    <a:pt x="569" y="260"/>
                    <a:pt x="644" y="278"/>
                    <a:pt x="720" y="288"/>
                  </a:cubicBezTo>
                  <a:cubicBezTo>
                    <a:pt x="812" y="284"/>
                    <a:pt x="905" y="290"/>
                    <a:pt x="996" y="276"/>
                  </a:cubicBezTo>
                  <a:cubicBezTo>
                    <a:pt x="1013" y="273"/>
                    <a:pt x="1024" y="255"/>
                    <a:pt x="1032" y="240"/>
                  </a:cubicBezTo>
                  <a:cubicBezTo>
                    <a:pt x="1032" y="240"/>
                    <a:pt x="1062" y="150"/>
                    <a:pt x="1068" y="132"/>
                  </a:cubicBezTo>
                  <a:cubicBezTo>
                    <a:pt x="1083" y="87"/>
                    <a:pt x="1116" y="52"/>
                    <a:pt x="1116" y="0"/>
                  </a:cubicBez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715000" y="228600"/>
              <a:ext cx="1600200" cy="1600200"/>
              <a:chOff x="5715000" y="228600"/>
              <a:chExt cx="1600200" cy="160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5791320" y="380880"/>
                <a:ext cx="1447920" cy="14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15000" y="228600"/>
                <a:ext cx="160020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91320" y="12193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562720" y="380880"/>
              <a:ext cx="1828800" cy="762120"/>
              <a:chOff x="5562720" y="380880"/>
              <a:chExt cx="1828800" cy="762120"/>
            </a:xfrm>
          </p:grpSpPr>
          <p:sp>
            <p:nvSpPr>
              <p:cNvPr id="122" name=""/>
              <p:cNvSpPr/>
              <p:nvPr/>
            </p:nvSpPr>
            <p:spPr>
              <a:xfrm>
                <a:off x="5638680" y="533520"/>
                <a:ext cx="1676520" cy="6094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38680" y="380880"/>
                <a:ext cx="167652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62720" y="4572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6172560" y="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858000" y="547560"/>
            <a:ext cx="2314800" cy="900360"/>
            <a:chOff x="6858000" y="547560"/>
            <a:chExt cx="2314800" cy="900360"/>
          </a:xfrm>
        </p:grpSpPr>
        <p:sp>
          <p:nvSpPr>
            <p:cNvPr id="127" name=""/>
            <p:cNvSpPr/>
            <p:nvPr/>
          </p:nvSpPr>
          <p:spPr>
            <a:xfrm>
              <a:off x="7681320" y="547560"/>
              <a:ext cx="149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пон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гмент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858000" y="838080"/>
              <a:ext cx="990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05520" y="3962520"/>
            <a:ext cx="2743200" cy="2819160"/>
            <a:chOff x="5105520" y="3962520"/>
            <a:chExt cx="274320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5105520" y="4114800"/>
              <a:ext cx="2743200" cy="2666880"/>
              <a:chOff x="5105520" y="4114800"/>
              <a:chExt cx="2743200" cy="2666880"/>
            </a:xfrm>
          </p:grpSpPr>
          <p:sp>
            <p:nvSpPr>
              <p:cNvPr id="131" name=""/>
              <p:cNvSpPr/>
              <p:nvPr/>
            </p:nvSpPr>
            <p:spPr>
              <a:xfrm>
                <a:off x="5638680" y="6019920"/>
                <a:ext cx="1676520" cy="60948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38680" y="4114800"/>
                <a:ext cx="1676520" cy="60948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38680" y="4648320"/>
                <a:ext cx="2057400" cy="15238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91320" y="5181480"/>
                <a:ext cx="1447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15200" y="4419720"/>
                <a:ext cx="380880" cy="2286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15200" y="6172200"/>
                <a:ext cx="380880" cy="2286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543800" y="4114800"/>
                <a:ext cx="228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34120" y="4343400"/>
                <a:ext cx="304560" cy="21337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81480" y="4114800"/>
                <a:ext cx="228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6438600" y="5448240"/>
                <a:ext cx="228600" cy="24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05520" y="541008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5400000">
              <a:off x="6438600" y="2857320"/>
              <a:ext cx="22860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4792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920" y="611640"/>
            <a:ext cx="1218960" cy="988560"/>
            <a:chOff x="304920" y="611640"/>
            <a:chExt cx="1218960" cy="988560"/>
          </a:xfrm>
        </p:grpSpPr>
        <p:sp>
          <p:nvSpPr>
            <p:cNvPr id="145" name=""/>
            <p:cNvSpPr/>
            <p:nvPr/>
          </p:nvSpPr>
          <p:spPr>
            <a:xfrm>
              <a:off x="457200" y="1600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219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3520" y="990360"/>
              <a:ext cx="0" cy="609840"/>
              <a:chOff x="533520" y="990360"/>
              <a:chExt cx="0" cy="609840"/>
            </a:xfrm>
          </p:grpSpPr>
          <p:sp>
            <p:nvSpPr>
              <p:cNvPr id="148" name=""/>
              <p:cNvSpPr/>
              <p:nvPr/>
            </p:nvSpPr>
            <p:spPr>
              <a:xfrm>
                <a:off x="533520" y="1219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33520" y="990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rot="16200000">
              <a:off x="359640" y="556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666880" y="4497120"/>
            <a:ext cx="1221840" cy="1141560"/>
            <a:chOff x="2666880" y="4497120"/>
            <a:chExt cx="1221840" cy="1141560"/>
          </a:xfrm>
        </p:grpSpPr>
        <p:sp>
          <p:nvSpPr>
            <p:cNvPr id="152" name=""/>
            <p:cNvSpPr/>
            <p:nvPr/>
          </p:nvSpPr>
          <p:spPr>
            <a:xfrm>
              <a:off x="2666880" y="5181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66880" y="5638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576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3492360" y="443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47920" y="4724280"/>
            <a:ext cx="1447560" cy="685800"/>
            <a:chOff x="1447920" y="4724280"/>
            <a:chExt cx="1447560" cy="685800"/>
          </a:xfrm>
        </p:grpSpPr>
        <p:sp>
          <p:nvSpPr>
            <p:cNvPr id="158" name=""/>
            <p:cNvSpPr/>
            <p:nvPr/>
          </p:nvSpPr>
          <p:spPr>
            <a:xfrm>
              <a:off x="14479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9548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7920" y="49528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8480" y="47242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33520" y="540720"/>
            <a:ext cx="837720" cy="1554840"/>
            <a:chOff x="533520" y="540720"/>
            <a:chExt cx="837720" cy="1554840"/>
          </a:xfrm>
        </p:grpSpPr>
        <p:sp>
          <p:nvSpPr>
            <p:cNvPr id="163" name=""/>
            <p:cNvSpPr/>
            <p:nvPr/>
          </p:nvSpPr>
          <p:spPr>
            <a:xfrm flipH="1">
              <a:off x="685440" y="1371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87240" y="914400"/>
              <a:ext cx="287280" cy="914040"/>
              <a:chOff x="687240" y="914400"/>
              <a:chExt cx="287280" cy="914040"/>
            </a:xfrm>
          </p:grpSpPr>
          <p:sp>
            <p:nvSpPr>
              <p:cNvPr id="165" name=""/>
              <p:cNvSpPr/>
              <p:nvPr/>
            </p:nvSpPr>
            <p:spPr>
              <a:xfrm>
                <a:off x="838080" y="914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838080" y="1599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8080" y="1143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7240" y="11430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rot="16200000">
              <a:off x="630360" y="1732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687240" y="46296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76520" y="5105520"/>
            <a:ext cx="990360" cy="1119600"/>
            <a:chOff x="1676520" y="5105520"/>
            <a:chExt cx="990360" cy="1119600"/>
          </a:xfrm>
        </p:grpSpPr>
        <p:sp>
          <p:nvSpPr>
            <p:cNvPr id="172" name=""/>
            <p:cNvSpPr/>
            <p:nvPr/>
          </p:nvSpPr>
          <p:spPr>
            <a:xfrm>
              <a:off x="1676520" y="5105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66880" y="5105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520" y="5867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1080" y="5715000"/>
              <a:ext cx="3700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6:10:31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3-21T18:31:26Z</dcterms:modified>
  <cp:revision>3</cp:revision>
  <dc:subject/>
  <dc:title>Заголовок слайда отсутствует</dc:title>
</cp:coreProperties>
</file>