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B3D-5D37-43A9-AF61-DAB3DCAE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466-A398-4B9B-A719-56737CCE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9E6-8ABD-4273-BA18-4A7D4E85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0EA-66FE-4C2C-B537-9F15DB16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FDC-2C7F-40AF-9237-8FCEDCB3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03B-6368-482E-8B28-0E6785B5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8ED-992E-4437-9207-9D1C39B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C29-EFF9-4DD8-95B9-DD6ADD9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20D-93B5-406C-9A3B-DB708FF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96A-27CB-4E8D-991B-491EE55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09A-5D7E-42A5-929A-28C1BC17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DD2-A056-4C4D-8C38-2392BD8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12F-148B-4A18-8DAE-568E25ED4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57600" y="228600"/>
            <a:ext cx="2282760" cy="4419720"/>
            <a:chOff x="3657600" y="228600"/>
            <a:chExt cx="2282760" cy="4419720"/>
          </a:xfrm>
        </p:grpSpPr>
        <p:sp>
          <p:nvSpPr>
            <p:cNvPr id="42" name=""/>
            <p:cNvSpPr/>
            <p:nvPr/>
          </p:nvSpPr>
          <p:spPr>
            <a:xfrm>
              <a:off x="3886200" y="228600"/>
              <a:ext cx="12193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0d0d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380400">
              <a:off x="4393440" y="1617120"/>
              <a:ext cx="1218600" cy="12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24" y="1770"/>
                  </a:moveTo>
                  <a:arcTo wR="10800" hR="10800" stAng="-3404149" swAng="3404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24" y="1770"/>
                  </a:moveTo>
                  <a:arcTo wR="10800" hR="10800" stAng="-3404149" swAng="3404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57600" y="22860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886200" y="167652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886200" y="190476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886200" y="159984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886200" y="220932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64520" y="17524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86200" y="129492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86200" y="251424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609480"/>
              <a:ext cx="0" cy="38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609480"/>
              <a:ext cx="0" cy="38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67080" y="23623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68800">
              <a:off x="4502160" y="274284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1143000"/>
            <a:ext cx="2209680" cy="5029200"/>
            <a:chOff x="685800" y="1143000"/>
            <a:chExt cx="2209680" cy="5029200"/>
          </a:xfrm>
        </p:grpSpPr>
        <p:sp>
          <p:nvSpPr>
            <p:cNvPr id="57" name=""/>
            <p:cNvSpPr/>
            <p:nvPr/>
          </p:nvSpPr>
          <p:spPr>
            <a:xfrm>
              <a:off x="990360" y="1143000"/>
              <a:ext cx="12189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0d0d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2860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360" y="3429000"/>
              <a:ext cx="1218960" cy="274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9a9a9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4800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360" y="4495680"/>
              <a:ext cx="12189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90360" y="2209320"/>
              <a:ext cx="12189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90360" y="1904760"/>
              <a:ext cx="12189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-4320" y="2133720"/>
            <a:ext cx="918360" cy="1218960"/>
            <a:chOff x="-4320" y="2133720"/>
            <a:chExt cx="918360" cy="1218960"/>
          </a:xfrm>
        </p:grpSpPr>
        <p:sp>
          <p:nvSpPr>
            <p:cNvPr id="65" name=""/>
            <p:cNvSpPr/>
            <p:nvPr/>
          </p:nvSpPr>
          <p:spPr>
            <a:xfrm flipH="1">
              <a:off x="304560" y="2590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04560" y="2895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123200">
              <a:off x="64080" y="253152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59520" y="1219320"/>
            <a:ext cx="1492920" cy="2209680"/>
            <a:chOff x="659520" y="1219320"/>
            <a:chExt cx="1492920" cy="2209680"/>
          </a:xfrm>
        </p:grpSpPr>
        <p:sp>
          <p:nvSpPr>
            <p:cNvPr id="71" name=""/>
            <p:cNvSpPr/>
            <p:nvPr/>
          </p:nvSpPr>
          <p:spPr>
            <a:xfrm rot="20499000">
              <a:off x="796320" y="1679040"/>
              <a:ext cx="121896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2320" y="12193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6680" y="1295280"/>
              <a:ext cx="9144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15440" y="1819800"/>
            <a:ext cx="514080" cy="1228320"/>
            <a:chOff x="1315440" y="1819800"/>
            <a:chExt cx="514080" cy="1228320"/>
          </a:xfrm>
        </p:grpSpPr>
        <p:sp>
          <p:nvSpPr>
            <p:cNvPr id="75" name=""/>
            <p:cNvSpPr/>
            <p:nvPr/>
          </p:nvSpPr>
          <p:spPr>
            <a:xfrm>
              <a:off x="1600200" y="251460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315440" y="1819800"/>
              <a:ext cx="514080" cy="1220760"/>
              <a:chOff x="1315440" y="1819800"/>
              <a:chExt cx="514080" cy="1220760"/>
            </a:xfrm>
          </p:grpSpPr>
          <p:sp>
            <p:nvSpPr>
              <p:cNvPr id="77" name=""/>
              <p:cNvSpPr/>
              <p:nvPr/>
            </p:nvSpPr>
            <p:spPr>
              <a:xfrm>
                <a:off x="1315440" y="1819800"/>
                <a:ext cx="18828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68800">
                <a:off x="1378080" y="2514240"/>
                <a:ext cx="432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1" i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 rot="268800">
            <a:off x="1372680" y="380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86200" y="4025880"/>
            <a:ext cx="1219320" cy="484200"/>
            <a:chOff x="3886200" y="4025880"/>
            <a:chExt cx="1219320" cy="484200"/>
          </a:xfrm>
        </p:grpSpPr>
        <p:sp>
          <p:nvSpPr>
            <p:cNvPr id="81" name=""/>
            <p:cNvSpPr/>
            <p:nvPr/>
          </p:nvSpPr>
          <p:spPr>
            <a:xfrm>
              <a:off x="3886200" y="4343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68800">
              <a:off x="4236840" y="403812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112560" y="1671120"/>
            <a:ext cx="1992960" cy="1006920"/>
            <a:chOff x="3112560" y="1671120"/>
            <a:chExt cx="1992960" cy="1006920"/>
          </a:xfrm>
        </p:grpSpPr>
        <p:sp>
          <p:nvSpPr>
            <p:cNvPr id="84" name=""/>
            <p:cNvSpPr/>
            <p:nvPr/>
          </p:nvSpPr>
          <p:spPr>
            <a:xfrm>
              <a:off x="3886200" y="182880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6200" y="266688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5053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5053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1280" y="1828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79200">
              <a:off x="2881080" y="1919160"/>
              <a:ext cx="99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72200" y="685800"/>
            <a:ext cx="2743200" cy="3352680"/>
            <a:chOff x="6172200" y="685800"/>
            <a:chExt cx="2743200" cy="3352680"/>
          </a:xfrm>
        </p:grpSpPr>
        <p:sp>
          <p:nvSpPr>
            <p:cNvPr id="91" name=""/>
            <p:cNvSpPr/>
            <p:nvPr/>
          </p:nvSpPr>
          <p:spPr>
            <a:xfrm>
              <a:off x="6400800" y="990720"/>
              <a:ext cx="2286000" cy="25905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2286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43800" y="6858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flipV="1" rot="16200000">
            <a:off x="6781320" y="190476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680 h 1143000"/>
              <a:gd name="textAreaBottom" fmla="*/ 11203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7"/>
                </a:cubicBezTo>
                <a:lnTo>
                  <a:pt x="10800" y="10350"/>
                </a:lnTo>
                <a:cubicBezTo>
                  <a:pt x="10800" y="11044"/>
                  <a:pt x="5400" y="11737"/>
                  <a:pt x="0" y="11737"/>
                </a:cubicBezTo>
                <a:cubicBezTo>
                  <a:pt x="5400" y="11737"/>
                  <a:pt x="10800" y="12431"/>
                  <a:pt x="10800" y="13124"/>
                </a:cubicBezTo>
                <a:lnTo>
                  <a:pt x="10800" y="20213"/>
                </a:lnTo>
                <a:cubicBezTo>
                  <a:pt x="10800" y="2090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 rot="10800000">
            <a:off x="7620120" y="99072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920 h 1295280"/>
              <a:gd name="textAreaBottom" fmla="*/ 12693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7"/>
                </a:cubicBezTo>
                <a:lnTo>
                  <a:pt x="10800" y="10350"/>
                </a:lnTo>
                <a:cubicBezTo>
                  <a:pt x="10800" y="11044"/>
                  <a:pt x="5400" y="11737"/>
                  <a:pt x="0" y="11737"/>
                </a:cubicBezTo>
                <a:cubicBezTo>
                  <a:pt x="5400" y="11737"/>
                  <a:pt x="10800" y="12431"/>
                  <a:pt x="10800" y="13124"/>
                </a:cubicBezTo>
                <a:lnTo>
                  <a:pt x="10800" y="20213"/>
                </a:lnTo>
                <a:cubicBezTo>
                  <a:pt x="10800" y="2090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1569400">
            <a:off x="6629040" y="25142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68800">
            <a:off x="8001720" y="144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1361800">
            <a:off x="4287240" y="380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N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1562800">
            <a:off x="7087320" y="380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9360" y="533520"/>
            <a:ext cx="2152800" cy="3355200"/>
            <a:chOff x="459360" y="533520"/>
            <a:chExt cx="2152800" cy="3355200"/>
          </a:xfrm>
        </p:grpSpPr>
        <p:sp>
          <p:nvSpPr>
            <p:cNvPr id="102" name=""/>
            <p:cNvSpPr/>
            <p:nvPr/>
          </p:nvSpPr>
          <p:spPr>
            <a:xfrm>
              <a:off x="914400" y="838080"/>
              <a:ext cx="15228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429000"/>
              <a:ext cx="15264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360" y="53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1184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61240" y="3581280"/>
            <a:ext cx="985320" cy="856080"/>
            <a:chOff x="6861240" y="3581280"/>
            <a:chExt cx="985320" cy="856080"/>
          </a:xfrm>
        </p:grpSpPr>
        <p:sp>
          <p:nvSpPr>
            <p:cNvPr id="107" name=""/>
            <p:cNvSpPr/>
            <p:nvPr/>
          </p:nvSpPr>
          <p:spPr>
            <a:xfrm flipH="1">
              <a:off x="7162560" y="35812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61240" y="403848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ллип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944320" y="914400"/>
            <a:ext cx="3123360" cy="3142080"/>
            <a:chOff x="5944320" y="914400"/>
            <a:chExt cx="3123360" cy="3142080"/>
          </a:xfrm>
        </p:grpSpPr>
        <p:sp>
          <p:nvSpPr>
            <p:cNvPr id="110" name=""/>
            <p:cNvSpPr/>
            <p:nvPr/>
          </p:nvSpPr>
          <p:spPr>
            <a:xfrm>
              <a:off x="6400800" y="914400"/>
              <a:ext cx="2666880" cy="27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360" y="1371600"/>
              <a:ext cx="20574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600400">
              <a:off x="7302960" y="1439640"/>
              <a:ext cx="45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4320" y="365760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круж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705360" y="34286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990720" y="1553760"/>
            <a:ext cx="2053800" cy="1349280"/>
            <a:chOff x="990720" y="1553760"/>
            <a:chExt cx="2053800" cy="1349280"/>
          </a:xfrm>
        </p:grpSpPr>
        <p:sp>
          <p:nvSpPr>
            <p:cNvPr id="116" name=""/>
            <p:cNvSpPr/>
            <p:nvPr/>
          </p:nvSpPr>
          <p:spPr>
            <a:xfrm rot="380400">
              <a:off x="1421640" y="1617120"/>
              <a:ext cx="1218600" cy="12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24" y="1770"/>
                  </a:moveTo>
                  <a:arcTo wR="10800" hR="10800" stAng="-3404149" swAng="34041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24" y="1770"/>
                  </a:moveTo>
                  <a:arcTo wR="10800" hR="10800" stAng="-3404149" swAng="34041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68680" y="17524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990720" y="167652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743200" y="4572000"/>
            <a:ext cx="3886200" cy="1958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tg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b sin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791320"/>
            <a:ext cx="184464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4648320"/>
            <a:ext cx="2057400" cy="56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945760" y="2271600"/>
            <a:ext cx="475560" cy="534960"/>
            <a:chOff x="5945760" y="2271600"/>
            <a:chExt cx="475560" cy="534960"/>
          </a:xfrm>
        </p:grpSpPr>
        <p:sp>
          <p:nvSpPr>
            <p:cNvPr id="123" name=""/>
            <p:cNvSpPr/>
            <p:nvPr/>
          </p:nvSpPr>
          <p:spPr>
            <a:xfrm>
              <a:off x="5945760" y="22860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45360" y="2271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7:50:48Z</dcterms:created>
  <dc:creator>Владимир Жуков</dc:creator>
  <dc:description/>
  <dc:language>en-US</dc:language>
  <cp:lastModifiedBy>Владимир Жуков</cp:lastModifiedBy>
  <dcterms:modified xsi:type="dcterms:W3CDTF">2002-03-13T18:53:04Z</dcterms:modified>
  <cp:revision>5</cp:revision>
  <dc:subject/>
  <dc:title>Заголовок слайда отсутствует</dc:title>
</cp:coreProperties>
</file>