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C57-E000-4DA2-AFBA-23792E57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0B2-5270-4713-9A76-C6E02F7B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8F5-718E-4AF8-9BA5-E2A5C6AA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53C-EC26-4F7C-8D8A-26010F2F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D4B-F9D5-4373-BCC8-EF116AE8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AEA2-BD0D-4B9C-87CC-83E82726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9C2-A9A9-47BA-810C-51CB584D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E75-59B8-446A-8DD3-DFCE9266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5C1-A369-43BC-B5E2-B48D6E69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D7C-2554-49BE-B1B1-933BB3BE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70E6-89AA-4233-B30A-556D1634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608-9AD8-40A9-90C1-EA8A5710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438F-8A7E-40C9-85D8-B3E1CE8DF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87880" y="5257800"/>
            <a:ext cx="2666880" cy="1523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6309600">
            <a:off x="7602120" y="48769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4160" y="11199"/>
                </a:moveTo>
                <a:arcTo wR="-6652" hR="-6652" stAng="10593703" swAng="-9617699"/>
                <a:lnTo>
                  <a:pt x="432" y="7775"/>
                </a:lnTo>
                <a:arcTo wR="10800" hR="10800" stAng="-9823996" swAng="9617699"/>
                <a:lnTo>
                  <a:pt x="24276" y="9990"/>
                </a:lnTo>
                <a:lnTo>
                  <a:pt x="19797" y="15042"/>
                </a:lnTo>
                <a:lnTo>
                  <a:pt x="14745" y="105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429000"/>
            <a:ext cx="4343400" cy="1676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58880" y="3048120"/>
            <a:ext cx="990000" cy="1752120"/>
            <a:chOff x="1658880" y="3048120"/>
            <a:chExt cx="990000" cy="1752120"/>
          </a:xfrm>
        </p:grpSpPr>
        <p:sp>
          <p:nvSpPr>
            <p:cNvPr id="45" name=""/>
            <p:cNvSpPr/>
            <p:nvPr/>
          </p:nvSpPr>
          <p:spPr>
            <a:xfrm rot="16200000">
              <a:off x="1873080" y="3186000"/>
              <a:ext cx="380880" cy="104760"/>
            </a:xfrm>
            <a:custGeom>
              <a:avLst/>
              <a:gdLst/>
              <a:ahLst/>
              <a:rect l="l" t="t" r="r" b="b"/>
              <a:pathLst>
                <a:path w="192" h="53">
                  <a:moveTo>
                    <a:pt x="0" y="0"/>
                  </a:moveTo>
                  <a:lnTo>
                    <a:pt x="0" y="48"/>
                  </a:lnTo>
                  <a:lnTo>
                    <a:pt x="192" y="53"/>
                  </a:lnTo>
                  <a:lnTo>
                    <a:pt x="192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6200000">
              <a:off x="1284120" y="3651120"/>
              <a:ext cx="1506240" cy="75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16200000">
              <a:off x="1772640" y="3923640"/>
              <a:ext cx="1523880" cy="228600"/>
            </a:xfrm>
            <a:custGeom>
              <a:avLst/>
              <a:gdLst>
                <a:gd name="textAreaLeft" fmla="*/ 243360 w 1523880"/>
                <a:gd name="textAreaRight" fmla="*/ 1280520 w 1523880"/>
                <a:gd name="textAreaTop" fmla="*/ 36360 h 228600"/>
                <a:gd name="textAreaBottom" fmla="*/ 1922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36" y="21600"/>
                  </a:lnTo>
                  <a:lnTo>
                    <a:pt x="306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392800" y="3886200"/>
            <a:ext cx="1904400" cy="729720"/>
            <a:chOff x="5392800" y="3886200"/>
            <a:chExt cx="1904400" cy="729720"/>
          </a:xfrm>
        </p:grpSpPr>
        <p:sp>
          <p:nvSpPr>
            <p:cNvPr id="49" name=""/>
            <p:cNvSpPr/>
            <p:nvPr/>
          </p:nvSpPr>
          <p:spPr>
            <a:xfrm>
              <a:off x="7152480" y="43261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92800" y="3886200"/>
              <a:ext cx="975960" cy="228600"/>
            </a:xfrm>
            <a:prstGeom prst="leftArrow">
              <a:avLst>
                <a:gd name="adj1" fmla="val 50000"/>
                <a:gd name="adj2" fmla="val 106732"/>
              </a:avLst>
            </a:prstGeom>
            <a:gradFill rotWithShape="0">
              <a:gsLst>
                <a:gs pos="0">
                  <a:srgbClr val="5e6c75"/>
                </a:gs>
                <a:gs pos="50000">
                  <a:srgbClr val="ccecff"/>
                </a:gs>
                <a:gs pos="100000">
                  <a:srgbClr val="5e6c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21040" y="4038840"/>
              <a:ext cx="167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Т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И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708800" y="3276720"/>
            <a:ext cx="1736280" cy="578160"/>
            <a:chOff x="4708800" y="3276720"/>
            <a:chExt cx="1736280" cy="578160"/>
          </a:xfrm>
        </p:grpSpPr>
        <p:sp>
          <p:nvSpPr>
            <p:cNvPr id="53" name=""/>
            <p:cNvSpPr/>
            <p:nvPr/>
          </p:nvSpPr>
          <p:spPr>
            <a:xfrm rot="10800000">
              <a:off x="5468760" y="3547800"/>
              <a:ext cx="976320" cy="228600"/>
            </a:xfrm>
            <a:prstGeom prst="leftArrow">
              <a:avLst>
                <a:gd name="adj1" fmla="val 50000"/>
                <a:gd name="adj2" fmla="val 106772"/>
              </a:avLst>
            </a:prstGeom>
            <a:gradFill rotWithShape="0">
              <a:gsLst>
                <a:gs pos="0">
                  <a:srgbClr val="755e75"/>
                </a:gs>
                <a:gs pos="50000">
                  <a:srgbClr val="ffccff"/>
                </a:gs>
                <a:gs pos="100000">
                  <a:srgbClr val="755e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4708800" y="3276720"/>
              <a:ext cx="730800" cy="578160"/>
              <a:chOff x="4708800" y="3276720"/>
              <a:chExt cx="730800" cy="578160"/>
            </a:xfrm>
          </p:grpSpPr>
          <p:sp>
            <p:nvSpPr>
              <p:cNvPr id="55" name=""/>
              <p:cNvSpPr/>
              <p:nvPr/>
            </p:nvSpPr>
            <p:spPr>
              <a:xfrm>
                <a:off x="4708800" y="3276720"/>
                <a:ext cx="424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Symbol"/>
                    <a:ea typeface="Symbol"/>
                  </a:rPr>
                  <a:t>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952520" y="354780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00"/>
                    </a:solidFill>
                    <a:latin typeface="Times New Roman"/>
                  </a:rPr>
                  <a:t>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45680" y="3048120"/>
            <a:ext cx="1441800" cy="779760"/>
            <a:chOff x="445680" y="3048120"/>
            <a:chExt cx="1441800" cy="779760"/>
          </a:xfrm>
        </p:grpSpPr>
        <p:sp>
          <p:nvSpPr>
            <p:cNvPr id="58" name=""/>
            <p:cNvSpPr/>
            <p:nvPr/>
          </p:nvSpPr>
          <p:spPr>
            <a:xfrm>
              <a:off x="445680" y="3429000"/>
              <a:ext cx="8895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Шки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1353960" y="30481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459480" y="3581280"/>
            <a:ext cx="380880" cy="914400"/>
            <a:chOff x="6459480" y="3581280"/>
            <a:chExt cx="380880" cy="914400"/>
          </a:xfrm>
        </p:grpSpPr>
        <p:sp>
          <p:nvSpPr>
            <p:cNvPr id="61" name=""/>
            <p:cNvSpPr/>
            <p:nvPr/>
          </p:nvSpPr>
          <p:spPr>
            <a:xfrm>
              <a:off x="6459480" y="3581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35800" y="4038480"/>
              <a:ext cx="30456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840360" y="3733920"/>
            <a:ext cx="2133720" cy="560880"/>
          </a:xfrm>
          <a:prstGeom prst="rect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Р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ИМ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Т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ИМ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40160" y="6019920"/>
            <a:ext cx="2362320" cy="57960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п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Р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Р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26200" y="4114800"/>
            <a:ext cx="984600" cy="459720"/>
            <a:chOff x="826200" y="4114800"/>
            <a:chExt cx="984600" cy="459720"/>
          </a:xfrm>
        </p:grpSpPr>
        <p:sp>
          <p:nvSpPr>
            <p:cNvPr id="66" name=""/>
            <p:cNvSpPr/>
            <p:nvPr/>
          </p:nvSpPr>
          <p:spPr>
            <a:xfrm>
              <a:off x="826200" y="4114800"/>
              <a:ext cx="598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Э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430280" y="4190760"/>
              <a:ext cx="3805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240160" y="5334120"/>
            <a:ext cx="2149560" cy="5608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Э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И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75480" y="464832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Известно, зада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68160" y="4876920"/>
            <a:ext cx="3352680" cy="1523880"/>
            <a:chOff x="668160" y="4876920"/>
            <a:chExt cx="3352680" cy="1523880"/>
          </a:xfrm>
        </p:grpSpPr>
        <p:sp>
          <p:nvSpPr>
            <p:cNvPr id="71" name=""/>
            <p:cNvSpPr/>
            <p:nvPr/>
          </p:nvSpPr>
          <p:spPr>
            <a:xfrm>
              <a:off x="668160" y="4876920"/>
              <a:ext cx="3352680" cy="1523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9600" y="4876920"/>
              <a:ext cx="17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еизвест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496960" y="4876920"/>
            <a:ext cx="648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Р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Э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96960" y="5273640"/>
            <a:ext cx="762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Э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35200" y="5715000"/>
            <a:ext cx="220968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baseline="-25000">
                <a:solidFill>
                  <a:srgbClr val="990033"/>
                </a:solidFill>
                <a:latin typeface="Times New Roman"/>
              </a:rPr>
              <a:t>пр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33"/>
                </a:solidFill>
                <a:latin typeface="Symbol"/>
                <a:ea typeface="Symbol"/>
              </a:rPr>
              <a:t></a:t>
            </a:r>
            <a:r>
              <a:rPr b="1" lang="ru-RU" sz="2400" spc="-1" strike="noStrike" baseline="-25000">
                <a:solidFill>
                  <a:srgbClr val="990033"/>
                </a:solidFill>
                <a:latin typeface="Times New Roman"/>
              </a:rPr>
              <a:t>ЭД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/ </a:t>
            </a:r>
            <a:r>
              <a:rPr b="1" lang="ru-RU" sz="2800" spc="-1" strike="noStrike">
                <a:solidFill>
                  <a:srgbClr val="990033"/>
                </a:solidFill>
                <a:latin typeface="Symbol"/>
                <a:ea typeface="Symbol"/>
              </a:rPr>
              <a:t></a:t>
            </a:r>
            <a:r>
              <a:rPr b="1" lang="ru-RU" sz="2400" spc="-1" strike="noStrike" baseline="-25000">
                <a:solidFill>
                  <a:srgbClr val="990033"/>
                </a:solidFill>
                <a:latin typeface="Times New Roman"/>
              </a:rPr>
              <a:t>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97160" y="5715000"/>
            <a:ext cx="838440" cy="380880"/>
          </a:xfrm>
          <a:prstGeom prst="leftArrow">
            <a:avLst>
              <a:gd name="adj1" fmla="val 50000"/>
              <a:gd name="adj2" fmla="val 550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895480" y="0"/>
            <a:ext cx="4114800" cy="3200400"/>
            <a:chOff x="2895480" y="0"/>
            <a:chExt cx="4114800" cy="3200400"/>
          </a:xfrm>
        </p:grpSpPr>
        <p:sp>
          <p:nvSpPr>
            <p:cNvPr id="78" name=""/>
            <p:cNvSpPr/>
            <p:nvPr/>
          </p:nvSpPr>
          <p:spPr>
            <a:xfrm>
              <a:off x="2895480" y="0"/>
              <a:ext cx="4114800" cy="31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047760" y="380880"/>
              <a:ext cx="3809880" cy="2437560"/>
              <a:chOff x="3047760" y="380880"/>
              <a:chExt cx="3809880" cy="243756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5638320" y="2482920"/>
                <a:ext cx="609480" cy="335520"/>
                <a:chOff x="5638320" y="2482920"/>
                <a:chExt cx="609480" cy="3355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5638320" y="2818440"/>
                  <a:ext cx="2286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19200" y="2818440"/>
                  <a:ext cx="2286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638320" y="2482920"/>
                  <a:ext cx="0" cy="3355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247800" y="2482920"/>
                  <a:ext cx="0" cy="3355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419360" y="380880"/>
                <a:ext cx="609480" cy="335880"/>
                <a:chOff x="4419360" y="380880"/>
                <a:chExt cx="609480" cy="335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419360" y="380880"/>
                  <a:ext cx="0" cy="335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419360" y="380880"/>
                  <a:ext cx="6094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028840" y="380880"/>
                  <a:ext cx="0" cy="335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>
                <a:off x="3047760" y="717120"/>
                <a:ext cx="0" cy="1765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3276360" y="380880"/>
                <a:ext cx="609480" cy="335880"/>
                <a:chOff x="3276360" y="380880"/>
                <a:chExt cx="609480" cy="3358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3276360" y="380880"/>
                  <a:ext cx="0" cy="335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276360" y="380880"/>
                  <a:ext cx="6094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885840" y="380880"/>
                  <a:ext cx="0" cy="335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638320" y="380880"/>
                <a:ext cx="609480" cy="335880"/>
                <a:chOff x="5638320" y="380880"/>
                <a:chExt cx="609480" cy="3358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638320" y="380880"/>
                  <a:ext cx="0" cy="335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638320" y="380880"/>
                  <a:ext cx="6094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247800" y="380880"/>
                  <a:ext cx="0" cy="335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419000" y="2482920"/>
                <a:ext cx="609480" cy="335520"/>
                <a:chOff x="4419000" y="2482920"/>
                <a:chExt cx="609480" cy="33552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5028480" y="2482920"/>
                  <a:ext cx="0" cy="3355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4419000" y="2818440"/>
                  <a:ext cx="6094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V="1">
                  <a:off x="4419000" y="2482920"/>
                  <a:ext cx="0" cy="3355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276360" y="2482920"/>
                <a:ext cx="609480" cy="335520"/>
                <a:chOff x="3276360" y="2482920"/>
                <a:chExt cx="609480" cy="3355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276360" y="2818440"/>
                  <a:ext cx="2286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657240" y="2818440"/>
                  <a:ext cx="2286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276360" y="2482920"/>
                  <a:ext cx="0" cy="3355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885840" y="2482920"/>
                  <a:ext cx="0" cy="3355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3885840" y="71712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028840" y="717120"/>
                <a:ext cx="609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85840" y="248292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028840" y="2482920"/>
                <a:ext cx="609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47760" y="71712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47760" y="248292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57640" y="717120"/>
                <a:ext cx="0" cy="1765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8160" y="2482920"/>
                <a:ext cx="609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48160" y="717120"/>
                <a:ext cx="609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581280" y="380880"/>
              <a:ext cx="0" cy="281952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3600" y="380880"/>
              <a:ext cx="0" cy="281952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811160" y="2666880"/>
            <a:ext cx="2362320" cy="533520"/>
            <a:chOff x="1811160" y="2666880"/>
            <a:chExt cx="2362320" cy="533520"/>
          </a:xfrm>
        </p:grpSpPr>
        <p:grpSp>
          <p:nvGrpSpPr>
            <p:cNvPr id="119" name=""/>
            <p:cNvGrpSpPr/>
            <p:nvPr/>
          </p:nvGrpSpPr>
          <p:grpSpPr>
            <a:xfrm>
              <a:off x="1811160" y="2964960"/>
              <a:ext cx="2362320" cy="235440"/>
              <a:chOff x="1811160" y="2964960"/>
              <a:chExt cx="2362320" cy="235440"/>
            </a:xfrm>
          </p:grpSpPr>
          <p:sp>
            <p:nvSpPr>
              <p:cNvPr id="120" name=""/>
              <p:cNvSpPr/>
              <p:nvPr/>
            </p:nvSpPr>
            <p:spPr>
              <a:xfrm rot="16200000">
                <a:off x="1945800" y="2829960"/>
                <a:ext cx="235080" cy="504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10800000"/>
              </a:gra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400000">
                <a:off x="3411000" y="2438280"/>
                <a:ext cx="228600" cy="1295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10800000"/>
              </a:gra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811160" y="3124080"/>
                <a:ext cx="2362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1811160" y="3048120"/>
                <a:ext cx="2362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563640" y="266688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468760" y="2666880"/>
            <a:ext cx="914400" cy="761760"/>
            <a:chOff x="5468760" y="2666880"/>
            <a:chExt cx="914400" cy="761760"/>
          </a:xfrm>
        </p:grpSpPr>
        <p:grpSp>
          <p:nvGrpSpPr>
            <p:cNvPr id="126" name=""/>
            <p:cNvGrpSpPr/>
            <p:nvPr/>
          </p:nvGrpSpPr>
          <p:grpSpPr>
            <a:xfrm>
              <a:off x="5468760" y="2895480"/>
              <a:ext cx="914400" cy="533160"/>
              <a:chOff x="5468760" y="2895480"/>
              <a:chExt cx="914400" cy="533160"/>
            </a:xfrm>
          </p:grpSpPr>
          <p:sp>
            <p:nvSpPr>
              <p:cNvPr id="127" name=""/>
              <p:cNvSpPr/>
              <p:nvPr/>
            </p:nvSpPr>
            <p:spPr>
              <a:xfrm>
                <a:off x="5621400" y="3124080"/>
                <a:ext cx="75960" cy="304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54560" y="3124080"/>
                <a:ext cx="76320" cy="304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68760" y="2895480"/>
                <a:ext cx="914400" cy="304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10800000"/>
              </a:gra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925960" y="2666880"/>
              <a:ext cx="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87880" y="533520"/>
            <a:ext cx="1660320" cy="2209320"/>
            <a:chOff x="5087880" y="533520"/>
            <a:chExt cx="1660320" cy="2209320"/>
          </a:xfrm>
        </p:grpSpPr>
        <p:grpSp>
          <p:nvGrpSpPr>
            <p:cNvPr id="132" name=""/>
            <p:cNvGrpSpPr/>
            <p:nvPr/>
          </p:nvGrpSpPr>
          <p:grpSpPr>
            <a:xfrm>
              <a:off x="5697360" y="533520"/>
              <a:ext cx="457200" cy="152280"/>
              <a:chOff x="5697360" y="533520"/>
              <a:chExt cx="457200" cy="152280"/>
            </a:xfrm>
          </p:grpSpPr>
          <p:sp>
            <p:nvSpPr>
              <p:cNvPr id="133" name=""/>
              <p:cNvSpPr/>
              <p:nvPr/>
            </p:nvSpPr>
            <p:spPr>
              <a:xfrm>
                <a:off x="5697360" y="533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02280" y="533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925960" y="533520"/>
              <a:ext cx="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25960" y="1676160"/>
              <a:ext cx="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087880" y="1295280"/>
              <a:ext cx="1660320" cy="404280"/>
              <a:chOff x="5087880" y="1295280"/>
              <a:chExt cx="1660320" cy="404280"/>
            </a:xfrm>
          </p:grpSpPr>
          <p:sp>
            <p:nvSpPr>
              <p:cNvPr id="138" name=""/>
              <p:cNvSpPr/>
              <p:nvPr/>
            </p:nvSpPr>
            <p:spPr>
              <a:xfrm>
                <a:off x="5087880" y="1295280"/>
                <a:ext cx="1660320" cy="404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697000" y="1295280"/>
                <a:ext cx="228240" cy="38052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49640" y="1295280"/>
                <a:ext cx="228240" cy="38052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01920" y="1295280"/>
                <a:ext cx="228240" cy="38052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697360" y="2361960"/>
              <a:ext cx="457200" cy="152280"/>
              <a:chOff x="5697360" y="2361960"/>
              <a:chExt cx="457200" cy="152280"/>
            </a:xfrm>
          </p:grpSpPr>
          <p:sp>
            <p:nvSpPr>
              <p:cNvPr id="143" name=""/>
              <p:cNvSpPr/>
              <p:nvPr/>
            </p:nvSpPr>
            <p:spPr>
              <a:xfrm>
                <a:off x="5697360" y="2361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02280" y="2361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6535440" y="755640"/>
            <a:ext cx="2600640" cy="692280"/>
            <a:chOff x="6535440" y="755640"/>
            <a:chExt cx="2600640" cy="692280"/>
          </a:xfrm>
        </p:grpSpPr>
        <p:sp>
          <p:nvSpPr>
            <p:cNvPr id="146" name=""/>
            <p:cNvSpPr/>
            <p:nvPr/>
          </p:nvSpPr>
          <p:spPr>
            <a:xfrm>
              <a:off x="7196760" y="755640"/>
              <a:ext cx="1939320" cy="49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Зубчатое колесо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выходного вала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535440" y="1066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925960" y="2362320"/>
            <a:ext cx="3039120" cy="457200"/>
            <a:chOff x="5925960" y="2362320"/>
            <a:chExt cx="3039120" cy="457200"/>
          </a:xfrm>
        </p:grpSpPr>
        <p:sp>
          <p:nvSpPr>
            <p:cNvPr id="149" name=""/>
            <p:cNvSpPr/>
            <p:nvPr/>
          </p:nvSpPr>
          <p:spPr>
            <a:xfrm>
              <a:off x="7229880" y="2362320"/>
              <a:ext cx="1735200" cy="38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Вал выходной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925960" y="2666880"/>
              <a:ext cx="1295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230880" y="3047760"/>
            <a:ext cx="1341360" cy="366120"/>
            <a:chOff x="6230880" y="3047760"/>
            <a:chExt cx="1341360" cy="366120"/>
          </a:xfrm>
        </p:grpSpPr>
        <p:sp>
          <p:nvSpPr>
            <p:cNvPr id="152" name=""/>
            <p:cNvSpPr/>
            <p:nvPr/>
          </p:nvSpPr>
          <p:spPr>
            <a:xfrm>
              <a:off x="6688080" y="3124080"/>
              <a:ext cx="884160" cy="28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Муфта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6230880" y="304776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40000" y="1600200"/>
            <a:ext cx="1484640" cy="609480"/>
            <a:chOff x="6840000" y="1600200"/>
            <a:chExt cx="1484640" cy="609480"/>
          </a:xfrm>
        </p:grpSpPr>
        <p:sp>
          <p:nvSpPr>
            <p:cNvPr id="155" name=""/>
            <p:cNvSpPr/>
            <p:nvPr/>
          </p:nvSpPr>
          <p:spPr>
            <a:xfrm>
              <a:off x="7221240" y="1600200"/>
              <a:ext cx="1103400" cy="57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Редуктор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840000" y="1905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182760" y="533520"/>
            <a:ext cx="685800" cy="2133360"/>
            <a:chOff x="3182760" y="533520"/>
            <a:chExt cx="685800" cy="2133360"/>
          </a:xfrm>
        </p:grpSpPr>
        <p:sp>
          <p:nvSpPr>
            <p:cNvPr id="158" name=""/>
            <p:cNvSpPr/>
            <p:nvPr/>
          </p:nvSpPr>
          <p:spPr>
            <a:xfrm>
              <a:off x="3563640" y="533520"/>
              <a:ext cx="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63640" y="990720"/>
              <a:ext cx="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182760" y="838080"/>
              <a:ext cx="685800" cy="381240"/>
              <a:chOff x="3182760" y="838080"/>
              <a:chExt cx="685800" cy="381240"/>
            </a:xfrm>
          </p:grpSpPr>
          <p:sp>
            <p:nvSpPr>
              <p:cNvPr id="161" name=""/>
              <p:cNvSpPr/>
              <p:nvPr/>
            </p:nvSpPr>
            <p:spPr>
              <a:xfrm>
                <a:off x="3182760" y="838080"/>
                <a:ext cx="685800" cy="38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34400" y="838080"/>
                <a:ext cx="94320" cy="35856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97400" y="838080"/>
                <a:ext cx="94320" cy="35856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60400" y="838080"/>
                <a:ext cx="94320" cy="35856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182760" y="1752480"/>
              <a:ext cx="685800" cy="381240"/>
              <a:chOff x="3182760" y="1752480"/>
              <a:chExt cx="685800" cy="381240"/>
            </a:xfrm>
          </p:grpSpPr>
          <p:sp>
            <p:nvSpPr>
              <p:cNvPr id="166" name=""/>
              <p:cNvSpPr/>
              <p:nvPr/>
            </p:nvSpPr>
            <p:spPr>
              <a:xfrm>
                <a:off x="3182760" y="1752480"/>
                <a:ext cx="685800" cy="381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34400" y="1752480"/>
                <a:ext cx="94320" cy="35856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497400" y="1752480"/>
                <a:ext cx="94320" cy="35856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60400" y="1752480"/>
                <a:ext cx="94320" cy="35856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335040" y="2362320"/>
              <a:ext cx="457200" cy="152280"/>
              <a:chOff x="3335040" y="2362320"/>
              <a:chExt cx="457200" cy="152280"/>
            </a:xfrm>
          </p:grpSpPr>
          <p:sp>
            <p:nvSpPr>
              <p:cNvPr id="171" name=""/>
              <p:cNvSpPr/>
              <p:nvPr/>
            </p:nvSpPr>
            <p:spPr>
              <a:xfrm>
                <a:off x="3335040" y="2362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9960" y="2362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3335040" y="533520"/>
              <a:ext cx="457200" cy="152280"/>
              <a:chOff x="3335040" y="533520"/>
              <a:chExt cx="457200" cy="152280"/>
            </a:xfrm>
          </p:grpSpPr>
          <p:sp>
            <p:nvSpPr>
              <p:cNvPr id="174" name=""/>
              <p:cNvSpPr/>
              <p:nvPr/>
            </p:nvSpPr>
            <p:spPr>
              <a:xfrm>
                <a:off x="3335040" y="533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39960" y="533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573280" y="3124080"/>
            <a:ext cx="1301760" cy="610200"/>
            <a:chOff x="2573280" y="3124080"/>
            <a:chExt cx="1301760" cy="610200"/>
          </a:xfrm>
        </p:grpSpPr>
        <p:sp>
          <p:nvSpPr>
            <p:cNvPr id="177" name=""/>
            <p:cNvSpPr/>
            <p:nvPr/>
          </p:nvSpPr>
          <p:spPr>
            <a:xfrm>
              <a:off x="2954160" y="3429000"/>
              <a:ext cx="92088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Ремен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73280" y="312408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81000" y="1981080"/>
            <a:ext cx="2582640" cy="914400"/>
            <a:chOff x="981000" y="1981080"/>
            <a:chExt cx="2582640" cy="914400"/>
          </a:xfrm>
        </p:grpSpPr>
        <p:sp>
          <p:nvSpPr>
            <p:cNvPr id="180" name=""/>
            <p:cNvSpPr/>
            <p:nvPr/>
          </p:nvSpPr>
          <p:spPr>
            <a:xfrm>
              <a:off x="981000" y="1981080"/>
              <a:ext cx="1547640" cy="38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Вал входной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34840" y="236232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828360" y="914040"/>
            <a:ext cx="2583000" cy="991080"/>
            <a:chOff x="828360" y="914040"/>
            <a:chExt cx="2583000" cy="991080"/>
          </a:xfrm>
        </p:grpSpPr>
        <p:sp>
          <p:nvSpPr>
            <p:cNvPr id="183" name=""/>
            <p:cNvSpPr/>
            <p:nvPr/>
          </p:nvSpPr>
          <p:spPr>
            <a:xfrm>
              <a:off x="828360" y="1060560"/>
              <a:ext cx="1729080" cy="49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Шестерни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входного вала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90920" y="1447920"/>
              <a:ext cx="820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590920" y="914040"/>
              <a:ext cx="744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8840" y="152280"/>
            <a:ext cx="4332600" cy="2371680"/>
            <a:chOff x="618840" y="152280"/>
            <a:chExt cx="4332600" cy="2371680"/>
          </a:xfrm>
        </p:grpSpPr>
        <p:sp>
          <p:nvSpPr>
            <p:cNvPr id="187" name=""/>
            <p:cNvSpPr/>
            <p:nvPr/>
          </p:nvSpPr>
          <p:spPr>
            <a:xfrm>
              <a:off x="4722840" y="542880"/>
              <a:ext cx="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2840" y="1228680"/>
              <a:ext cx="0" cy="129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494240" y="542880"/>
              <a:ext cx="457200" cy="152280"/>
              <a:chOff x="4494240" y="542880"/>
              <a:chExt cx="457200" cy="152280"/>
            </a:xfrm>
          </p:grpSpPr>
          <p:sp>
            <p:nvSpPr>
              <p:cNvPr id="190" name=""/>
              <p:cNvSpPr/>
              <p:nvPr/>
            </p:nvSpPr>
            <p:spPr>
              <a:xfrm>
                <a:off x="4494240" y="542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799160" y="542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494240" y="2371680"/>
              <a:ext cx="457200" cy="152280"/>
              <a:chOff x="4494240" y="2371680"/>
              <a:chExt cx="457200" cy="152280"/>
            </a:xfrm>
          </p:grpSpPr>
          <p:sp>
            <p:nvSpPr>
              <p:cNvPr id="193" name=""/>
              <p:cNvSpPr/>
              <p:nvPr/>
            </p:nvSpPr>
            <p:spPr>
              <a:xfrm>
                <a:off x="4494240" y="2371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99160" y="2371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618840" y="152280"/>
              <a:ext cx="2457720" cy="38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Вал промежуточный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8120" y="152280"/>
              <a:ext cx="167616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718440" y="1219320"/>
            <a:ext cx="1385280" cy="532800"/>
            <a:chOff x="3718440" y="1219320"/>
            <a:chExt cx="1385280" cy="532800"/>
          </a:xfrm>
        </p:grpSpPr>
        <p:grpSp>
          <p:nvGrpSpPr>
            <p:cNvPr id="198" name=""/>
            <p:cNvGrpSpPr/>
            <p:nvPr/>
          </p:nvGrpSpPr>
          <p:grpSpPr>
            <a:xfrm>
              <a:off x="4265640" y="1219320"/>
              <a:ext cx="838080" cy="532800"/>
              <a:chOff x="4265640" y="1219320"/>
              <a:chExt cx="838080" cy="532800"/>
            </a:xfrm>
          </p:grpSpPr>
          <p:sp>
            <p:nvSpPr>
              <p:cNvPr id="199" name=""/>
              <p:cNvSpPr/>
              <p:nvPr/>
            </p:nvSpPr>
            <p:spPr>
              <a:xfrm>
                <a:off x="4265640" y="1219320"/>
                <a:ext cx="838080" cy="532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73080" y="1219320"/>
                <a:ext cx="115200" cy="50148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50120" y="1219320"/>
                <a:ext cx="115200" cy="50148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27160" y="1219320"/>
                <a:ext cx="115200" cy="50148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718440" y="121932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Шп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886200" y="838080"/>
            <a:ext cx="1660680" cy="304920"/>
            <a:chOff x="3886200" y="838080"/>
            <a:chExt cx="1660680" cy="304920"/>
          </a:xfrm>
        </p:grpSpPr>
        <p:sp>
          <p:nvSpPr>
            <p:cNvPr id="205" name=""/>
            <p:cNvSpPr/>
            <p:nvPr/>
          </p:nvSpPr>
          <p:spPr>
            <a:xfrm>
              <a:off x="3886200" y="838080"/>
              <a:ext cx="16606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95680" y="838080"/>
              <a:ext cx="228600" cy="2869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48320" y="838080"/>
              <a:ext cx="228600" cy="2869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00600" y="838080"/>
              <a:ext cx="228600" cy="2869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812040" y="762120"/>
            <a:ext cx="9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Зкп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885840" y="1828800"/>
            <a:ext cx="1660680" cy="304920"/>
            <a:chOff x="3885840" y="1828800"/>
            <a:chExt cx="1660680" cy="304920"/>
          </a:xfrm>
        </p:grpSpPr>
        <p:sp>
          <p:nvSpPr>
            <p:cNvPr id="211" name=""/>
            <p:cNvSpPr/>
            <p:nvPr/>
          </p:nvSpPr>
          <p:spPr>
            <a:xfrm flipH="1">
              <a:off x="3885480" y="1828800"/>
              <a:ext cx="16606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708440" y="1828800"/>
              <a:ext cx="228600" cy="2869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555800" y="1828800"/>
              <a:ext cx="228600" cy="2869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403520" y="1828800"/>
              <a:ext cx="228600" cy="2869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16:05:42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3-03T15:41:54Z</dcterms:modified>
  <cp:revision>15</cp:revision>
  <dc:subject/>
  <dc:title>Заголовок слайда отсутствует</dc:title>
</cp:coreProperties>
</file>