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17C-46F4-444A-BEDE-3C62B7F5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287-A719-4EBD-A254-F9AC5DD5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C96-9CB3-4548-B471-789DB9D8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5DD-C15B-43C9-9765-6B2F4CC7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694-8E2F-437B-AD73-AB839E5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2CF-2091-4340-963A-8A93BF0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AC6-76B4-4A05-9E96-805CB209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3EE-0EC4-400C-8C89-02D70294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34A-D5D1-4630-B64E-14619757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251-33C0-4044-ACD4-BBFDF18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F37-23ED-46E1-8A42-AF118EB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DFB-551D-4DBE-80D6-955264E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FBB-C539-4FFC-AA0D-6C5D72D09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121360" y="533520"/>
            <a:ext cx="2971800" cy="3657600"/>
            <a:chOff x="5121360" y="533520"/>
            <a:chExt cx="2971800" cy="3657600"/>
          </a:xfrm>
        </p:grpSpPr>
        <p:grpSp>
          <p:nvGrpSpPr>
            <p:cNvPr id="42" name=""/>
            <p:cNvGrpSpPr/>
            <p:nvPr/>
          </p:nvGrpSpPr>
          <p:grpSpPr>
            <a:xfrm>
              <a:off x="5486400" y="533520"/>
              <a:ext cx="1905120" cy="3657600"/>
              <a:chOff x="5486400" y="533520"/>
              <a:chExt cx="1905120" cy="3657600"/>
            </a:xfrm>
          </p:grpSpPr>
          <p:sp>
            <p:nvSpPr>
              <p:cNvPr id="43" name=""/>
              <p:cNvSpPr/>
              <p:nvPr/>
            </p:nvSpPr>
            <p:spPr>
              <a:xfrm>
                <a:off x="5486400" y="3124080"/>
                <a:ext cx="1905120" cy="1067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6400" y="1600200"/>
                <a:ext cx="1905120" cy="1523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86400" y="533520"/>
                <a:ext cx="1905120" cy="1066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5121360" y="23623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90720" y="3429000"/>
            <a:ext cx="45720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3124080"/>
            <a:ext cx="4572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86400" y="1600200"/>
            <a:ext cx="1752480" cy="1523880"/>
            <a:chOff x="5486400" y="1600200"/>
            <a:chExt cx="1752480" cy="1523880"/>
          </a:xfrm>
        </p:grpSpPr>
        <p:sp>
          <p:nvSpPr>
            <p:cNvPr id="50" name=""/>
            <p:cNvSpPr/>
            <p:nvPr/>
          </p:nvSpPr>
          <p:spPr>
            <a:xfrm flipH="1">
              <a:off x="5486400" y="1600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08680" y="1600200"/>
              <a:ext cx="34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411880" y="2095920"/>
              <a:ext cx="878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0" y="1295280"/>
            <a:ext cx="1727280" cy="2210040"/>
            <a:chOff x="0" y="1295280"/>
            <a:chExt cx="1727280" cy="2210040"/>
          </a:xfrm>
        </p:grpSpPr>
        <p:grpSp>
          <p:nvGrpSpPr>
            <p:cNvPr id="54" name=""/>
            <p:cNvGrpSpPr/>
            <p:nvPr/>
          </p:nvGrpSpPr>
          <p:grpSpPr>
            <a:xfrm>
              <a:off x="0" y="1596960"/>
              <a:ext cx="1727280" cy="1808280"/>
              <a:chOff x="0" y="1596960"/>
              <a:chExt cx="1727280" cy="180828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1596960"/>
                <a:ext cx="1524240" cy="18082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14600"/>
                <a:ext cx="17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1295280"/>
              <a:ext cx="2541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467480" y="1523880"/>
            <a:ext cx="1676160" cy="2133360"/>
            <a:chOff x="7467480" y="1523880"/>
            <a:chExt cx="1676160" cy="2133360"/>
          </a:xfrm>
        </p:grpSpPr>
        <p:grpSp>
          <p:nvGrpSpPr>
            <p:cNvPr id="59" name=""/>
            <p:cNvGrpSpPr/>
            <p:nvPr/>
          </p:nvGrpSpPr>
          <p:grpSpPr>
            <a:xfrm>
              <a:off x="7467480" y="1523880"/>
              <a:ext cx="1479240" cy="2040120"/>
              <a:chOff x="7467480" y="1523880"/>
              <a:chExt cx="1479240" cy="2040120"/>
            </a:xfrm>
          </p:grpSpPr>
          <p:sp>
            <p:nvSpPr>
              <p:cNvPr id="60" name=""/>
              <p:cNvSpPr/>
              <p:nvPr/>
            </p:nvSpPr>
            <p:spPr>
              <a:xfrm>
                <a:off x="7467480" y="1616760"/>
                <a:ext cx="1479240" cy="19472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53880" y="1523880"/>
                <a:ext cx="29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897400" y="1616760"/>
              <a:ext cx="246240" cy="204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200" y="4495680"/>
            <a:ext cx="9102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системе отверстия минимальное значение диаметра 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ято равным номинальным значениям D отверстия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вал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200" y="6019920"/>
            <a:ext cx="847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cc0000"/>
                </a:solidFill>
                <a:latin typeface="Times New Roman"/>
              </a:rPr>
              <a:t>min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 +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де 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допуск для отверс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000" y="5486400"/>
            <a:ext cx="71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cc0000"/>
                </a:solidFill>
                <a:latin typeface="Times New Roman"/>
              </a:rPr>
              <a:t>max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де 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к для ва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" y="38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9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57200"/>
            <a:ext cx="2057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114800"/>
            <a:ext cx="2057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077320" y="1600200"/>
            <a:ext cx="510120" cy="1981080"/>
            <a:chOff x="8077320" y="1600200"/>
            <a:chExt cx="510120" cy="1981080"/>
          </a:xfrm>
        </p:grpSpPr>
        <p:sp>
          <p:nvSpPr>
            <p:cNvPr id="70" name=""/>
            <p:cNvSpPr/>
            <p:nvPr/>
          </p:nvSpPr>
          <p:spPr>
            <a:xfrm rot="16200000">
              <a:off x="8008920" y="2239200"/>
              <a:ext cx="6469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5480" y="2819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385480" y="1600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305920" y="14479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91520" y="3124080"/>
            <a:ext cx="814680" cy="1197720"/>
            <a:chOff x="7391520" y="3124080"/>
            <a:chExt cx="814680" cy="1197720"/>
          </a:xfrm>
        </p:grpSpPr>
        <p:sp>
          <p:nvSpPr>
            <p:cNvPr id="75" name=""/>
            <p:cNvSpPr/>
            <p:nvPr/>
          </p:nvSpPr>
          <p:spPr>
            <a:xfrm>
              <a:off x="7391520" y="312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3124080"/>
              <a:ext cx="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7593840" y="3709440"/>
              <a:ext cx="71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i="1" lang="ru-RU" sz="2400" spc="-1" strike="noStrike" baseline="-25000">
                  <a:solidFill>
                    <a:srgbClr val="cc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04920" y="1600200"/>
            <a:ext cx="8610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00400" y="2057040"/>
            <a:ext cx="2362320" cy="1676880"/>
            <a:chOff x="3200400" y="2057040"/>
            <a:chExt cx="2362320" cy="1676880"/>
          </a:xfrm>
        </p:grpSpPr>
        <p:grpSp>
          <p:nvGrpSpPr>
            <p:cNvPr id="80" name=""/>
            <p:cNvGrpSpPr/>
            <p:nvPr/>
          </p:nvGrpSpPr>
          <p:grpSpPr>
            <a:xfrm>
              <a:off x="4114800" y="2057040"/>
              <a:ext cx="510120" cy="1295640"/>
              <a:chOff x="4114800" y="2057040"/>
              <a:chExt cx="510120" cy="129564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4419720" y="2666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4419720" y="3048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4019040" y="2152800"/>
                <a:ext cx="701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3399"/>
                    </a:solidFill>
                    <a:latin typeface="Times New Roman"/>
                  </a:rPr>
                  <a:t>T</a:t>
                </a:r>
                <a:r>
                  <a:rPr b="1" i="1" lang="ru-RU" sz="2400" spc="-1" strike="noStrike" baseline="-25000">
                    <a:solidFill>
                      <a:srgbClr val="003399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4114800" y="3124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32767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41972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828800" y="457200"/>
            <a:ext cx="2057400" cy="3657600"/>
            <a:chOff x="1828800" y="457200"/>
            <a:chExt cx="2057400" cy="3657600"/>
          </a:xfrm>
        </p:grpSpPr>
        <p:grpSp>
          <p:nvGrpSpPr>
            <p:cNvPr id="88" name=""/>
            <p:cNvGrpSpPr/>
            <p:nvPr/>
          </p:nvGrpSpPr>
          <p:grpSpPr>
            <a:xfrm>
              <a:off x="1828800" y="457200"/>
              <a:ext cx="1920960" cy="3657600"/>
              <a:chOff x="1828800" y="457200"/>
              <a:chExt cx="1920960" cy="3657600"/>
            </a:xfrm>
          </p:grpSpPr>
          <p:sp>
            <p:nvSpPr>
              <p:cNvPr id="89" name=""/>
              <p:cNvSpPr/>
              <p:nvPr/>
            </p:nvSpPr>
            <p:spPr>
              <a:xfrm>
                <a:off x="1844640" y="1600200"/>
                <a:ext cx="1905120" cy="1676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44640" y="457200"/>
                <a:ext cx="1905120" cy="1143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8800" y="3276720"/>
                <a:ext cx="1905120" cy="8380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28800" y="2438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52480" y="4114800"/>
            <a:ext cx="2057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8088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520" y="2265480"/>
            <a:ext cx="965520" cy="1468080"/>
            <a:chOff x="1676520" y="2265480"/>
            <a:chExt cx="965520" cy="1468080"/>
          </a:xfrm>
        </p:grpSpPr>
        <p:sp>
          <p:nvSpPr>
            <p:cNvPr id="96" name=""/>
            <p:cNvSpPr/>
            <p:nvPr/>
          </p:nvSpPr>
          <p:spPr>
            <a:xfrm>
              <a:off x="167652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43828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297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044080" y="2352960"/>
              <a:ext cx="6854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i="1" lang="ru-RU" sz="2400" spc="-1" strike="noStrike" baseline="-25000">
                  <a:solidFill>
                    <a:srgbClr val="cc000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>
            <a:off x="914040" y="35812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598840"/>
            <a:ext cx="510120" cy="1287000"/>
            <a:chOff x="914400" y="2598840"/>
            <a:chExt cx="510120" cy="1287000"/>
          </a:xfrm>
        </p:grpSpPr>
        <p:sp>
          <p:nvSpPr>
            <p:cNvPr id="103" name=""/>
            <p:cNvSpPr/>
            <p:nvPr/>
          </p:nvSpPr>
          <p:spPr>
            <a:xfrm flipV="1">
              <a:off x="1143000" y="3580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941760" y="2571120"/>
              <a:ext cx="4550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r>
                <a:rPr b="1" i="1" lang="ru-RU" sz="2400" spc="-1" strike="noStrike" baseline="-25000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5760" y="1600200"/>
            <a:ext cx="510120" cy="1828440"/>
            <a:chOff x="455760" y="1600200"/>
            <a:chExt cx="510120" cy="1828440"/>
          </a:xfrm>
        </p:grpSpPr>
        <p:sp>
          <p:nvSpPr>
            <p:cNvPr id="108" name=""/>
            <p:cNvSpPr/>
            <p:nvPr/>
          </p:nvSpPr>
          <p:spPr>
            <a:xfrm rot="16200000">
              <a:off x="401760" y="2158200"/>
              <a:ext cx="618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5360" y="2725560"/>
              <a:ext cx="0" cy="7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65360" y="1600200"/>
              <a:ext cx="0" cy="4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68560" y="1600200"/>
            <a:ext cx="510120" cy="1676160"/>
            <a:chOff x="2968560" y="1600200"/>
            <a:chExt cx="510120" cy="1676160"/>
          </a:xfrm>
        </p:grpSpPr>
        <p:sp>
          <p:nvSpPr>
            <p:cNvPr id="112" name=""/>
            <p:cNvSpPr/>
            <p:nvPr/>
          </p:nvSpPr>
          <p:spPr>
            <a:xfrm rot="16200000">
              <a:off x="2866320" y="2010240"/>
              <a:ext cx="7142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9960" y="2631960"/>
              <a:ext cx="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279960" y="160020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04:50:50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4-21T18:08:46Z</dcterms:modified>
  <cp:revision>6</cp:revision>
  <dc:subject/>
  <dc:title>Заголовок слайда отсутствует</dc:title>
</cp:coreProperties>
</file>