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F084-9683-47AA-8324-5199F56B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949F-BFE1-4D97-AF15-9BDEC86D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D014-8A29-4117-A10D-0071BE09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B9E-F4E9-41CB-91AA-2E67BB40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538F-D036-40F3-8A50-C25396C2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6C1-0E13-4172-BE94-E2598D12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326-DD05-4B06-A5C1-48FC8DD1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322-3AA5-4C33-84FB-6EA0489D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C78D-9D0B-4186-8B89-5FE77C2F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D7C6-CDFB-48D6-A097-3CEAC980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CA9-AE76-4198-982C-3F9B9BB8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83E-AE18-4F76-9B2B-17D263D9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8C19-C7B7-4F1D-8CF9-406F1E15B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6217560" y="12606840"/>
            <a:ext cx="259920" cy="46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 rot="373200">
            <a:off x="4541400" y="13409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 flipV="1">
            <a:off x="3594600" y="9169560"/>
            <a:ext cx="1978560" cy="2124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2722200">
            <a:off x="5856480" y="5573520"/>
            <a:ext cx="3321000" cy="52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 rot="5481000">
            <a:off x="2950200" y="-4550760"/>
            <a:ext cx="3500280" cy="498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53400">
            <a:off x="3026160" y="7184160"/>
            <a:ext cx="3500640" cy="498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22560" y="3693600"/>
            <a:ext cx="8805240" cy="10778760"/>
            <a:chOff x="322560" y="3693600"/>
            <a:chExt cx="8805240" cy="10778760"/>
          </a:xfrm>
        </p:grpSpPr>
        <p:grpSp>
          <p:nvGrpSpPr>
            <p:cNvPr id="48" name=""/>
            <p:cNvGrpSpPr/>
            <p:nvPr/>
          </p:nvGrpSpPr>
          <p:grpSpPr>
            <a:xfrm>
              <a:off x="322560" y="3693600"/>
              <a:ext cx="8805240" cy="10383840"/>
              <a:chOff x="322560" y="3693600"/>
              <a:chExt cx="8805240" cy="1038384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471240" y="3693600"/>
                <a:ext cx="8426880" cy="10383840"/>
                <a:chOff x="471240" y="3693600"/>
                <a:chExt cx="8426880" cy="10383840"/>
              </a:xfrm>
            </p:grpSpPr>
            <p:grpSp>
              <p:nvGrpSpPr>
                <p:cNvPr id="50" name=""/>
                <p:cNvGrpSpPr/>
                <p:nvPr/>
              </p:nvGrpSpPr>
              <p:grpSpPr>
                <a:xfrm>
                  <a:off x="2544840" y="3693600"/>
                  <a:ext cx="4275720" cy="3400560"/>
                  <a:chOff x="2544840" y="3693600"/>
                  <a:chExt cx="4275720" cy="3400560"/>
                </a:xfrm>
              </p:grpSpPr>
              <p:sp>
                <p:nvSpPr>
                  <p:cNvPr id="51" name=""/>
                  <p:cNvSpPr/>
                  <p:nvPr/>
                </p:nvSpPr>
                <p:spPr>
                  <a:xfrm rot="19312800">
                    <a:off x="4263840" y="4845600"/>
                    <a:ext cx="1828080" cy="1885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398" y="1564"/>
                        </a:moveTo>
                        <a:arcTo wR="10800" hR="10800" stAng="-3526688" swAng="194588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398" y="1564"/>
                        </a:moveTo>
                        <a:arcTo wR="10800" hR="10800" stAng="-3526688" swAng="1945887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2544840" y="3693600"/>
                    <a:ext cx="4275720" cy="3313800"/>
                    <a:chOff x="2544840" y="3693600"/>
                    <a:chExt cx="4275720" cy="3313800"/>
                  </a:xfrm>
                </p:grpSpPr>
                <p:sp>
                  <p:nvSpPr>
                    <p:cNvPr id="53" name=""/>
                    <p:cNvSpPr/>
                    <p:nvPr/>
                  </p:nvSpPr>
                  <p:spPr>
                    <a:xfrm flipV="1" rot="20629200">
                      <a:off x="3077640" y="4179240"/>
                      <a:ext cx="374400" cy="771840"/>
                    </a:xfrm>
                    <a:prstGeom prst="triangle">
                      <a:avLst>
                        <a:gd name="adj" fmla="val 45917"/>
                      </a:avLst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4" name=""/>
                    <p:cNvGrpSpPr/>
                    <p:nvPr/>
                  </p:nvGrpSpPr>
                  <p:grpSpPr>
                    <a:xfrm>
                      <a:off x="2544840" y="3693600"/>
                      <a:ext cx="4275720" cy="3313800"/>
                      <a:chOff x="2544840" y="3693600"/>
                      <a:chExt cx="4275720" cy="3313800"/>
                    </a:xfrm>
                  </p:grpSpPr>
                  <p:grpSp>
                    <p:nvGrpSpPr>
                      <p:cNvPr id="55" name=""/>
                      <p:cNvGrpSpPr/>
                      <p:nvPr/>
                    </p:nvGrpSpPr>
                    <p:grpSpPr>
                      <a:xfrm>
                        <a:off x="2713680" y="3693600"/>
                        <a:ext cx="4106880" cy="3313800"/>
                        <a:chOff x="2713680" y="3693600"/>
                        <a:chExt cx="4106880" cy="3313800"/>
                      </a:xfrm>
                    </p:grpSpPr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 rot="17640000">
                          <a:off x="3417840" y="4762440"/>
                          <a:ext cx="1814040" cy="201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7206" y="2105"/>
                              </a:moveTo>
                              <a:arcTo wR="10800" hR="10800" stAng="-3217199" swAng="1792947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7206" y="2105"/>
                              </a:moveTo>
                              <a:arcTo wR="10800" hR="10800" stAng="-3217199" swAng="1792947"/>
                            </a:path>
                          </a:pathLst>
                        </a:custGeom>
                        <a:noFill/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7" name=""/>
                        <p:cNvGrpSpPr/>
                        <p:nvPr/>
                      </p:nvGrpSpPr>
                      <p:grpSpPr>
                        <a:xfrm>
                          <a:off x="4195080" y="3693600"/>
                          <a:ext cx="1103040" cy="2436120"/>
                          <a:chOff x="4195080" y="3693600"/>
                          <a:chExt cx="1103040" cy="2436120"/>
                        </a:xfrm>
                      </p:grpSpPr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flipV="1" rot="43800">
                            <a:off x="4552560" y="3849840"/>
                            <a:ext cx="374400" cy="771480"/>
                          </a:xfrm>
                          <a:prstGeom prst="triangle">
                            <a:avLst>
                              <a:gd name="adj" fmla="val 45917"/>
                            </a:avLst>
                          </a:prstGeom>
                          <a:solidFill>
                            <a:srgbClr val="ccffcc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6388400">
                            <a:off x="3581280" y="4454640"/>
                            <a:ext cx="2389680" cy="9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1269" y="10"/>
                                </a:moveTo>
                                <a:arcTo wR="10800" hR="10800" stAng="-5250552" swAng="3361822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1269" y="10"/>
                                </a:moveTo>
                                <a:arcTo wR="10800" hR="10800" stAng="-5250552" swAng="3361822"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flipH="1" rot="5411400">
                            <a:off x="3462480" y="4457520"/>
                            <a:ext cx="2386440" cy="913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>
                            <a:off x="4629600" y="3871800"/>
                            <a:ext cx="239760" cy="115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280" bIns="-35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2" name=""/>
                        <p:cNvGrpSpPr/>
                        <p:nvPr/>
                      </p:nvGrpSpPr>
                      <p:grpSpPr>
                        <a:xfrm>
                          <a:off x="5060880" y="3829680"/>
                          <a:ext cx="1759680" cy="2588400"/>
                          <a:chOff x="5060880" y="3829680"/>
                          <a:chExt cx="1759680" cy="2588400"/>
                        </a:xfrm>
                      </p:grpSpPr>
                      <p:sp>
                        <p:nvSpPr>
                          <p:cNvPr id="63" name=""/>
                          <p:cNvSpPr/>
                          <p:nvPr/>
                        </p:nvSpPr>
                        <p:spPr>
                          <a:xfrm flipV="1" rot="1088400">
                            <a:off x="5953320" y="4096440"/>
                            <a:ext cx="374400" cy="771120"/>
                          </a:xfrm>
                          <a:prstGeom prst="triangle">
                            <a:avLst>
                              <a:gd name="adj" fmla="val 45917"/>
                            </a:avLst>
                          </a:prstGeom>
                          <a:solidFill>
                            <a:srgbClr val="ccffcc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" name=""/>
                          <p:cNvSpPr/>
                          <p:nvPr/>
                        </p:nvSpPr>
                        <p:spPr>
                          <a:xfrm rot="17433600">
                            <a:off x="4778280" y="4681440"/>
                            <a:ext cx="2389680" cy="9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1269" y="10"/>
                                </a:moveTo>
                                <a:arcTo wR="10800" hR="10800" stAng="-5250552" swAng="3361822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1269" y="10"/>
                                </a:moveTo>
                                <a:arcTo wR="10800" hR="10800" stAng="-5250552" swAng="3361822"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" name=""/>
                          <p:cNvSpPr/>
                          <p:nvPr/>
                        </p:nvSpPr>
                        <p:spPr>
                          <a:xfrm flipH="1" rot="6457200">
                            <a:off x="4664160" y="4647960"/>
                            <a:ext cx="2386440" cy="913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" name=""/>
                          <p:cNvSpPr/>
                          <p:nvPr/>
                        </p:nvSpPr>
                        <p:spPr>
                          <a:xfrm>
                            <a:off x="6144480" y="4102200"/>
                            <a:ext cx="225360" cy="8280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6000" bIns="360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rot="15374400">
                          <a:off x="2246760" y="4629600"/>
                          <a:ext cx="2388600" cy="9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7925" y="390"/>
                              </a:moveTo>
                              <a:arcTo wR="10800" hR="10800" stAng="-6326178" swAng="4437448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7925" y="390"/>
                              </a:moveTo>
                              <a:arcTo wR="10800" hR="10800" stAng="-6326178" swAng="4437448"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8" name=""/>
                      <p:cNvSpPr/>
                      <p:nvPr/>
                    </p:nvSpPr>
                    <p:spPr>
                      <a:xfrm flipH="1" rot="4396800">
                        <a:off x="2132280" y="4663800"/>
                        <a:ext cx="2386440" cy="9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941" y="1"/>
                            </a:moveTo>
                            <a:arcTo wR="10800" hR="10800" stAng="-5355229" swAng="351798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941" y="1"/>
                            </a:moveTo>
                            <a:arcTo wR="10800" hR="10800" stAng="-5355229" swAng="3517985"/>
                          </a:path>
                        </a:pathLst>
                      </a:custGeom>
                      <a:solidFill>
                        <a:srgbClr val="ccffcc"/>
                      </a:solidFill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9" name=""/>
                    <p:cNvSpPr/>
                    <p:nvPr/>
                  </p:nvSpPr>
                  <p:spPr>
                    <a:xfrm flipV="1">
                      <a:off x="2957040" y="4090680"/>
                      <a:ext cx="276480" cy="1062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0" name=""/>
                <p:cNvSpPr/>
                <p:nvPr/>
              </p:nvSpPr>
              <p:spPr>
                <a:xfrm rot="21435000">
                  <a:off x="684000" y="4822920"/>
                  <a:ext cx="8001000" cy="906768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" name=""/>
              <p:cNvSpPr/>
              <p:nvPr/>
            </p:nvSpPr>
            <p:spPr>
              <a:xfrm rot="21435000">
                <a:off x="533160" y="4273200"/>
                <a:ext cx="8383320" cy="8991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 flipV="1">
              <a:off x="4227840" y="3805200"/>
              <a:ext cx="154800" cy="106671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057400" y="5257800"/>
            <a:ext cx="1600200" cy="2438280"/>
            <a:chOff x="2057400" y="5257800"/>
            <a:chExt cx="1600200" cy="2438280"/>
          </a:xfrm>
        </p:grpSpPr>
        <p:sp>
          <p:nvSpPr>
            <p:cNvPr id="74" name=""/>
            <p:cNvSpPr/>
            <p:nvPr/>
          </p:nvSpPr>
          <p:spPr>
            <a:xfrm>
              <a:off x="2057400" y="5257800"/>
              <a:ext cx="160020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27800" y="6400800"/>
              <a:ext cx="38808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-677880" y="-5855400"/>
            <a:ext cx="10499760" cy="11558160"/>
            <a:chOff x="-677880" y="-5855400"/>
            <a:chExt cx="10499760" cy="11558160"/>
          </a:xfrm>
        </p:grpSpPr>
        <p:sp>
          <p:nvSpPr>
            <p:cNvPr id="77" name=""/>
            <p:cNvSpPr/>
            <p:nvPr/>
          </p:nvSpPr>
          <p:spPr>
            <a:xfrm flipH="1">
              <a:off x="7238880" y="5002200"/>
              <a:ext cx="7632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-677880" y="-5855400"/>
              <a:ext cx="10499760" cy="11233800"/>
              <a:chOff x="-677880" y="-5855400"/>
              <a:chExt cx="10499760" cy="11233800"/>
            </a:xfrm>
          </p:grpSpPr>
          <p:grpSp>
            <p:nvGrpSpPr>
              <p:cNvPr id="79" name=""/>
              <p:cNvGrpSpPr/>
              <p:nvPr/>
            </p:nvGrpSpPr>
            <p:grpSpPr>
              <a:xfrm>
                <a:off x="-82800" y="-5855400"/>
                <a:ext cx="9385200" cy="10774440"/>
                <a:chOff x="-82800" y="-5855400"/>
                <a:chExt cx="9385200" cy="10774440"/>
              </a:xfrm>
            </p:grpSpPr>
            <p:grpSp>
              <p:nvGrpSpPr>
                <p:cNvPr id="80" name=""/>
                <p:cNvGrpSpPr/>
                <p:nvPr/>
              </p:nvGrpSpPr>
              <p:grpSpPr>
                <a:xfrm>
                  <a:off x="1847880" y="1560600"/>
                  <a:ext cx="4254120" cy="3358440"/>
                  <a:chOff x="1847880" y="1560600"/>
                  <a:chExt cx="4254120" cy="335844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V="1" rot="2691600">
                    <a:off x="3746160" y="1929960"/>
                    <a:ext cx="1827360" cy="1885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398" y="1564"/>
                        </a:moveTo>
                        <a:arcTo wR="10800" hR="10800" stAng="-3526688" swAng="194588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398" y="1564"/>
                        </a:moveTo>
                        <a:arcTo wR="10800" hR="10800" stAng="-3526688" swAng="1945887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2" name=""/>
                  <p:cNvGrpSpPr/>
                  <p:nvPr/>
                </p:nvGrpSpPr>
                <p:grpSpPr>
                  <a:xfrm>
                    <a:off x="1847880" y="1628640"/>
                    <a:ext cx="4254120" cy="3290400"/>
                    <a:chOff x="1847880" y="1628640"/>
                    <a:chExt cx="4254120" cy="329040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 rot="1374600">
                      <a:off x="2345760" y="3587760"/>
                      <a:ext cx="374760" cy="771480"/>
                    </a:xfrm>
                    <a:prstGeom prst="triangle">
                      <a:avLst>
                        <a:gd name="adj" fmla="val 45917"/>
                      </a:avLst>
                    </a:pr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1847880" y="1628640"/>
                      <a:ext cx="4254120" cy="3290400"/>
                      <a:chOff x="1847880" y="1628640"/>
                      <a:chExt cx="4254120" cy="3290400"/>
                    </a:xfrm>
                  </p:grpSpPr>
                  <p:grpSp>
                    <p:nvGrpSpPr>
                      <p:cNvPr id="85" name=""/>
                      <p:cNvGrpSpPr/>
                      <p:nvPr/>
                    </p:nvGrpSpPr>
                    <p:grpSpPr>
                      <a:xfrm>
                        <a:off x="2005200" y="1628640"/>
                        <a:ext cx="4096800" cy="3290400"/>
                        <a:chOff x="2005200" y="1628640"/>
                        <a:chExt cx="4096800" cy="3290400"/>
                      </a:xfrm>
                    </p:grpSpPr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V="1" rot="4363800">
                          <a:off x="2902320" y="1786320"/>
                          <a:ext cx="1814040" cy="2014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7206" y="2105"/>
                              </a:moveTo>
                              <a:arcTo wR="10800" hR="10800" stAng="-3217199" swAng="1792947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7206" y="2105"/>
                              </a:moveTo>
                              <a:arcTo wR="10800" hR="10800" stAng="-3217199" swAng="1792947"/>
                            </a:path>
                          </a:pathLst>
                        </a:custGeom>
                        <a:noFill/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87" name=""/>
                        <p:cNvGrpSpPr/>
                        <p:nvPr/>
                      </p:nvGrpSpPr>
                      <p:grpSpPr>
                        <a:xfrm>
                          <a:off x="3447720" y="2443680"/>
                          <a:ext cx="1241280" cy="2475360"/>
                          <a:chOff x="3447720" y="2443680"/>
                          <a:chExt cx="1241280" cy="2475360"/>
                        </a:xfrm>
                      </p:grpSpPr>
                      <p:sp>
                        <p:nvSpPr>
                          <p:cNvPr id="88" name=""/>
                          <p:cNvSpPr/>
                          <p:nvPr/>
                        </p:nvSpPr>
                        <p:spPr>
                          <a:xfrm rot="360600">
                            <a:off x="3854160" y="3979440"/>
                            <a:ext cx="374760" cy="771480"/>
                          </a:xfrm>
                          <a:prstGeom prst="triangle">
                            <a:avLst>
                              <a:gd name="adj" fmla="val 45917"/>
                            </a:avLst>
                          </a:prstGeom>
                          <a:solidFill>
                            <a:srgbClr val="ccffcc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9" name=""/>
                          <p:cNvSpPr/>
                          <p:nvPr/>
                        </p:nvSpPr>
                        <p:spPr>
                          <a:xfrm flipV="1" rot="5616000">
                            <a:off x="2962440" y="3240000"/>
                            <a:ext cx="2389680" cy="914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1269" y="10"/>
                                </a:moveTo>
                                <a:arcTo wR="10800" hR="10800" stAng="-5250552" swAng="3361822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1269" y="10"/>
                                </a:moveTo>
                                <a:arcTo wR="10800" hR="10800" stAng="-5250552" swAng="3361822"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0" name=""/>
                          <p:cNvSpPr/>
                          <p:nvPr/>
                        </p:nvSpPr>
                        <p:spPr>
                          <a:xfrm flipH="1" flipV="1" rot="16593000">
                            <a:off x="2844360" y="3223440"/>
                            <a:ext cx="2386440" cy="914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1" name=""/>
                          <p:cNvSpPr/>
                          <p:nvPr/>
                        </p:nvSpPr>
                        <p:spPr>
                          <a:xfrm>
                            <a:off x="3889080" y="4714200"/>
                            <a:ext cx="239400" cy="1692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2" name=""/>
                        <p:cNvGrpSpPr/>
                        <p:nvPr/>
                      </p:nvGrpSpPr>
                      <p:grpSpPr>
                        <a:xfrm>
                          <a:off x="4579200" y="2343240"/>
                          <a:ext cx="1522800" cy="2547720"/>
                          <a:chOff x="4579200" y="2343240"/>
                          <a:chExt cx="1522800" cy="2547720"/>
                        </a:xfrm>
                      </p:grpSpPr>
                      <p:sp>
                        <p:nvSpPr>
                          <p:cNvPr id="93" name=""/>
                          <p:cNvSpPr/>
                          <p:nvPr/>
                        </p:nvSpPr>
                        <p:spPr>
                          <a:xfrm rot="20915400">
                            <a:off x="5274360" y="3898440"/>
                            <a:ext cx="374760" cy="771480"/>
                          </a:xfrm>
                          <a:prstGeom prst="triangle">
                            <a:avLst>
                              <a:gd name="adj" fmla="val 45917"/>
                            </a:avLst>
                          </a:prstGeom>
                          <a:solidFill>
                            <a:srgbClr val="ccffcc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4" name=""/>
                          <p:cNvSpPr/>
                          <p:nvPr/>
                        </p:nvSpPr>
                        <p:spPr>
                          <a:xfrm flipV="1" rot="4570800">
                            <a:off x="4177440" y="3155040"/>
                            <a:ext cx="2389680" cy="914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1269" y="10"/>
                                </a:moveTo>
                                <a:arcTo wR="10800" hR="10800" stAng="-5250552" swAng="3361822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1269" y="10"/>
                                </a:moveTo>
                                <a:arcTo wR="10800" hR="10800" stAng="-5250552" swAng="3361822"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5" name=""/>
                          <p:cNvSpPr/>
                          <p:nvPr/>
                        </p:nvSpPr>
                        <p:spPr>
                          <a:xfrm flipH="1" flipV="1" rot="15547200">
                            <a:off x="4059720" y="3175200"/>
                            <a:ext cx="2386440" cy="914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941" y="1"/>
                                </a:moveTo>
                                <a:arcTo wR="10800" hR="10800" stAng="-5355229" swAng="3517985"/>
                              </a:path>
                            </a:pathLst>
                          </a:custGeom>
                          <a:solidFill>
                            <a:srgbClr val="ccffcc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6" name=""/>
                          <p:cNvSpPr/>
                          <p:nvPr/>
                        </p:nvSpPr>
                        <p:spPr>
                          <a:xfrm flipV="1">
                            <a:off x="5420520" y="4607640"/>
                            <a:ext cx="234000" cy="554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8640" bIns="86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 rot="6630000">
                          <a:off x="1657440" y="2910240"/>
                          <a:ext cx="2388600" cy="914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7925" y="390"/>
                              </a:moveTo>
                              <a:arcTo wR="10800" hR="10800" stAng="-6326178" swAng="4437448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7925" y="390"/>
                              </a:moveTo>
                              <a:arcTo wR="10800" hR="10800" stAng="-6326178" swAng="4437448"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98" name=""/>
                      <p:cNvSpPr/>
                      <p:nvPr/>
                    </p:nvSpPr>
                    <p:spPr>
                      <a:xfrm flipH="1" flipV="1" rot="17606400">
                        <a:off x="1548360" y="2861280"/>
                        <a:ext cx="2386440" cy="9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941" y="1"/>
                            </a:moveTo>
                            <a:arcTo wR="10800" hR="10800" stAng="-5355229" swAng="351798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941" y="1"/>
                            </a:moveTo>
                            <a:arcTo wR="10800" hR="10800" stAng="-5355229" swAng="3517985"/>
                          </a:path>
                        </a:pathLst>
                      </a:custGeom>
                      <a:solidFill>
                        <a:srgbClr val="ccffcc"/>
                      </a:solidFill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2285280" y="4263840"/>
                      <a:ext cx="225000" cy="85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0" name=""/>
                <p:cNvSpPr/>
                <p:nvPr/>
              </p:nvSpPr>
              <p:spPr>
                <a:xfrm flipV="1" rot="568800">
                  <a:off x="609120" y="-5258520"/>
                  <a:ext cx="8001000" cy="906768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-677880" y="-5388480"/>
                <a:ext cx="10499760" cy="10766880"/>
                <a:chOff x="-677880" y="-5388480"/>
                <a:chExt cx="10499760" cy="107668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334040" y="9720"/>
                  <a:ext cx="18720" cy="536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2585160" y="-361440"/>
                  <a:ext cx="1938600" cy="455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 flipV="1">
                  <a:off x="3439440" y="108000"/>
                  <a:ext cx="1989720" cy="2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V="1" rot="568800">
                  <a:off x="374400" y="-4393080"/>
                  <a:ext cx="8381880" cy="8458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V="1" rot="568800">
                  <a:off x="0" y="-4697280"/>
                  <a:ext cx="9144000" cy="8991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242480" y="455760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392960" y="425304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735720" y="21607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429000" y="231300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114800" y="24652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V="1">
                  <a:off x="1828800" y="-277920"/>
                  <a:ext cx="2819520" cy="327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683440" y="1738440"/>
                  <a:ext cx="476640" cy="510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191120" y="-125280"/>
                  <a:ext cx="2668320" cy="384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72440" y="1814400"/>
                  <a:ext cx="388080" cy="510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220760" y="4253040"/>
                  <a:ext cx="65530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" name=""/>
            <p:cNvSpPr/>
            <p:nvPr/>
          </p:nvSpPr>
          <p:spPr>
            <a:xfrm>
              <a:off x="927720" y="2934720"/>
              <a:ext cx="7189560" cy="2768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34120" y="5410080"/>
            <a:ext cx="2818800" cy="2286000"/>
            <a:chOff x="5334120" y="5410080"/>
            <a:chExt cx="2818800" cy="2286000"/>
          </a:xfrm>
        </p:grpSpPr>
        <p:sp>
          <p:nvSpPr>
            <p:cNvPr id="119" name=""/>
            <p:cNvSpPr/>
            <p:nvPr/>
          </p:nvSpPr>
          <p:spPr>
            <a:xfrm flipH="1">
              <a:off x="5334120" y="5410080"/>
              <a:ext cx="28188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59840" y="6216840"/>
              <a:ext cx="510120" cy="510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 rot="568800">
            <a:off x="-382320" y="-4266720"/>
            <a:ext cx="9526680" cy="8991360"/>
          </a:xfrm>
          <a:prstGeom prst="ellipse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 rot="2437800">
            <a:off x="-914040" y="-1981800"/>
            <a:ext cx="3500280" cy="498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962520" y="-304920"/>
            <a:ext cx="3809880" cy="3810240"/>
            <a:chOff x="3962520" y="-304920"/>
            <a:chExt cx="3809880" cy="3810240"/>
          </a:xfrm>
        </p:grpSpPr>
        <p:sp>
          <p:nvSpPr>
            <p:cNvPr id="124" name=""/>
            <p:cNvSpPr/>
            <p:nvPr/>
          </p:nvSpPr>
          <p:spPr>
            <a:xfrm>
              <a:off x="3962520" y="-304920"/>
              <a:ext cx="3809880" cy="38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39240" y="1981080"/>
              <a:ext cx="510120" cy="510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V="1" rot="19727400">
            <a:off x="6400440" y="-2362320"/>
            <a:ext cx="3321000" cy="528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3886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13600" y="3276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4572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61520" y="48006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21031200">
            <a:off x="-229680" y="3886200"/>
            <a:ext cx="9526320" cy="8991720"/>
          </a:xfrm>
          <a:prstGeom prst="ellipse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9543800">
            <a:off x="-228600" y="5562360"/>
            <a:ext cx="3500280" cy="498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60320" y="131040"/>
            <a:ext cx="3736440" cy="7184160"/>
            <a:chOff x="760320" y="131040"/>
            <a:chExt cx="3736440" cy="7184160"/>
          </a:xfrm>
        </p:grpSpPr>
        <p:sp>
          <p:nvSpPr>
            <p:cNvPr id="134" name=""/>
            <p:cNvSpPr/>
            <p:nvPr/>
          </p:nvSpPr>
          <p:spPr>
            <a:xfrm>
              <a:off x="990720" y="60199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760320" y="131040"/>
              <a:ext cx="3736440" cy="5815080"/>
              <a:chOff x="760320" y="131040"/>
              <a:chExt cx="3736440" cy="5815080"/>
            </a:xfrm>
          </p:grpSpPr>
          <p:sp>
            <p:nvSpPr>
              <p:cNvPr id="136" name=""/>
              <p:cNvSpPr/>
              <p:nvPr/>
            </p:nvSpPr>
            <p:spPr>
              <a:xfrm flipH="1">
                <a:off x="760320" y="131040"/>
                <a:ext cx="3736440" cy="4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990720" y="151920"/>
                <a:ext cx="0" cy="533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2120" y="5486400"/>
                <a:ext cx="488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1081080" y="5486400"/>
            <a:ext cx="10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429360" y="-360"/>
            <a:ext cx="1828440" cy="6858360"/>
            <a:chOff x="3429360" y="-360"/>
            <a:chExt cx="1828440" cy="6858360"/>
          </a:xfrm>
        </p:grpSpPr>
        <p:sp>
          <p:nvSpPr>
            <p:cNvPr id="141" name=""/>
            <p:cNvSpPr/>
            <p:nvPr/>
          </p:nvSpPr>
          <p:spPr>
            <a:xfrm flipH="1">
              <a:off x="3881520" y="5867280"/>
              <a:ext cx="6760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r>
                <a:rPr b="1" lang="en-US" sz="4000" spc="-1" strike="noStrike" baseline="-25000">
                  <a:solidFill>
                    <a:srgbClr val="a50021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29360" y="5576760"/>
              <a:ext cx="1676520" cy="128124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281240"/>
                <a:gd name="textAreaBottom" fmla="*/ 1281240 h 12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395" y="11617"/>
                  </a:moveTo>
                  <a:arcTo wR="-8445" hR="-8445" stAng="10466923" swAng="-11069599"/>
                  <a:lnTo>
                    <a:pt x="166" y="12684"/>
                  </a:lnTo>
                  <a:arcTo wR="10800" hR="10800" stAng="10197324" swAng="11069599"/>
                  <a:lnTo>
                    <a:pt x="24237" y="9494"/>
                  </a:lnTo>
                  <a:lnTo>
                    <a:pt x="20752" y="13728"/>
                  </a:lnTo>
                  <a:lnTo>
                    <a:pt x="16518" y="10244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581640" y="-720"/>
              <a:ext cx="1676160" cy="128124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1281240"/>
                <a:gd name="textAreaBottom" fmla="*/ 1281240 h 12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395" y="11617"/>
                  </a:moveTo>
                  <a:arcTo wR="-8445" hR="-8445" stAng="10466923" swAng="-11069599"/>
                  <a:lnTo>
                    <a:pt x="166" y="12684"/>
                  </a:lnTo>
                  <a:arcTo wR="10800" hR="10800" stAng="10197324" swAng="11069599"/>
                  <a:lnTo>
                    <a:pt x="24237" y="9494"/>
                  </a:lnTo>
                  <a:lnTo>
                    <a:pt x="20752" y="13728"/>
                  </a:lnTo>
                  <a:lnTo>
                    <a:pt x="16518" y="10244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957840" y="380880"/>
              <a:ext cx="6760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r>
                <a:rPr b="1" lang="en-US" sz="4000" spc="-1" strike="noStrike" baseline="-25000">
                  <a:solidFill>
                    <a:srgbClr val="a50021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7543800" y="3581280"/>
            <a:ext cx="4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19720" y="4267080"/>
            <a:ext cx="358128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9440" y="5181480"/>
            <a:ext cx="5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Times New Roman"/>
              </a:rPr>
              <a:t>v</a:t>
            </a:r>
            <a:r>
              <a:rPr b="1" lang="ru-RU" sz="4000" spc="-1" strike="noStrike" baseline="-25000">
                <a:solidFill>
                  <a:srgbClr val="a50021"/>
                </a:solidFill>
                <a:latin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63840" y="4267080"/>
            <a:ext cx="5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Times New Roman"/>
              </a:rPr>
              <a:t>v</a:t>
            </a:r>
            <a:r>
              <a:rPr b="1" lang="ru-RU" sz="4000" spc="-1" strike="noStrike" baseline="-25000">
                <a:solidFill>
                  <a:srgbClr val="a50021"/>
                </a:solidFill>
                <a:latin typeface="Times New Roman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419720" y="3123720"/>
            <a:ext cx="3504960" cy="1143360"/>
            <a:chOff x="4419720" y="3123720"/>
            <a:chExt cx="3504960" cy="1143360"/>
          </a:xfrm>
        </p:grpSpPr>
        <p:sp>
          <p:nvSpPr>
            <p:cNvPr id="150" name=""/>
            <p:cNvSpPr/>
            <p:nvPr/>
          </p:nvSpPr>
          <p:spPr>
            <a:xfrm flipH="1">
              <a:off x="4419720" y="3124080"/>
              <a:ext cx="45720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4876920" y="3123720"/>
              <a:ext cx="3047760" cy="114300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>
            <a:off x="7543800" y="4267080"/>
            <a:ext cx="3808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4191120"/>
            <a:ext cx="3276720" cy="129528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267080" y="419040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19:23:10Z</dcterms:created>
  <dc:creator>Довольный пользователь Microsoft Office</dc:creator>
  <dc:description/>
  <dc:language>en-US</dc:language>
  <cp:lastModifiedBy>Владимир Жуков</cp:lastModifiedBy>
  <dcterms:modified xsi:type="dcterms:W3CDTF">2002-02-19T09:53:36Z</dcterms:modified>
  <cp:revision>35</cp:revision>
  <dc:subject/>
  <dc:title>Заголовок слайда отсутствует</dc:title>
</cp:coreProperties>
</file>