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98D-A88E-4050-AB5E-9A3C3FE1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EB6-5931-409C-9061-8C56659E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45B-A2F7-4167-895E-42BA79AF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068-C0F3-48B9-87CD-155AA255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6EC-380B-4F08-85E4-C0B98CF9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9FC-C915-4158-A66F-996F889F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42C-8EC6-44EE-8330-997A0AE5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448-78E2-40FA-93A5-62295652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1E9-3886-43CA-B7F0-E0B1BB68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82D-CA04-4ED5-A38C-1C6D9273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ECF-5C64-4108-8880-E870672E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F3E-0060-4C8B-B16E-89D30587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D30F-FD40-45BD-9574-50C1DE187C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3733560"/>
            <a:ext cx="7696080" cy="2972160"/>
            <a:chOff x="609480" y="3733560"/>
            <a:chExt cx="7696080" cy="2972160"/>
          </a:xfrm>
        </p:grpSpPr>
        <p:grpSp>
          <p:nvGrpSpPr>
            <p:cNvPr id="42" name=""/>
            <p:cNvGrpSpPr/>
            <p:nvPr/>
          </p:nvGrpSpPr>
          <p:grpSpPr>
            <a:xfrm>
              <a:off x="6324480" y="3962520"/>
              <a:ext cx="1981080" cy="2743200"/>
              <a:chOff x="6324480" y="3962520"/>
              <a:chExt cx="1981080" cy="27432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324480" y="3962520"/>
                <a:ext cx="1981080" cy="2743200"/>
                <a:chOff x="6324480" y="3962520"/>
                <a:chExt cx="1981080" cy="274320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6400440" y="3962520"/>
                  <a:ext cx="1676160" cy="2743200"/>
                  <a:chOff x="6400440" y="3962520"/>
                  <a:chExt cx="1676160" cy="274320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6400440" y="6096240"/>
                    <a:ext cx="1676160" cy="60948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6400440" y="3962520"/>
                    <a:ext cx="1676160" cy="60948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400440" y="4419720"/>
                    <a:ext cx="0" cy="1752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8076600" y="4419720"/>
                    <a:ext cx="0" cy="1752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" name=""/>
                <p:cNvSpPr/>
                <p:nvPr/>
              </p:nvSpPr>
              <p:spPr>
                <a:xfrm>
                  <a:off x="6324480" y="5334120"/>
                  <a:ext cx="198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6553080" y="609624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09480" y="3733560"/>
              <a:ext cx="2971800" cy="2972160"/>
              <a:chOff x="609480" y="3733560"/>
              <a:chExt cx="2971800" cy="2972160"/>
            </a:xfrm>
          </p:grpSpPr>
          <p:sp>
            <p:nvSpPr>
              <p:cNvPr id="52" name=""/>
              <p:cNvSpPr/>
              <p:nvPr/>
            </p:nvSpPr>
            <p:spPr>
              <a:xfrm>
                <a:off x="1066680" y="5105520"/>
                <a:ext cx="304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6200000">
                <a:off x="647280" y="3924360"/>
                <a:ext cx="2819520" cy="274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609480" y="3733560"/>
                <a:ext cx="2971800" cy="2971800"/>
                <a:chOff x="609480" y="3733560"/>
                <a:chExt cx="2971800" cy="2971800"/>
              </a:xfrm>
            </p:grpSpPr>
            <p:sp>
              <p:nvSpPr>
                <p:cNvPr id="55" name=""/>
                <p:cNvSpPr/>
                <p:nvPr/>
              </p:nvSpPr>
              <p:spPr>
                <a:xfrm rot="5400000">
                  <a:off x="1294560" y="4572000"/>
                  <a:ext cx="1524240" cy="152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142640" y="5105520"/>
                  <a:ext cx="38124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71240" y="4648320"/>
                  <a:ext cx="1371600" cy="1371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09480" y="5334120"/>
                  <a:ext cx="297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2057040" y="3733560"/>
                  <a:ext cx="0" cy="29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" name=""/>
          <p:cNvSpPr/>
          <p:nvPr/>
        </p:nvSpPr>
        <p:spPr>
          <a:xfrm>
            <a:off x="6324480" y="3657600"/>
            <a:ext cx="266724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-152640"/>
            <a:ext cx="3504960" cy="4114440"/>
            <a:chOff x="304920" y="-152640"/>
            <a:chExt cx="3504960" cy="4114440"/>
          </a:xfrm>
        </p:grpSpPr>
        <p:grpSp>
          <p:nvGrpSpPr>
            <p:cNvPr id="62" name=""/>
            <p:cNvGrpSpPr/>
            <p:nvPr/>
          </p:nvGrpSpPr>
          <p:grpSpPr>
            <a:xfrm>
              <a:off x="1295280" y="1067040"/>
              <a:ext cx="1524240" cy="1676160"/>
              <a:chOff x="1295280" y="1067040"/>
              <a:chExt cx="1524240" cy="1676160"/>
            </a:xfrm>
          </p:grpSpPr>
          <p:sp>
            <p:nvSpPr>
              <p:cNvPr id="63" name=""/>
              <p:cNvSpPr/>
              <p:nvPr/>
            </p:nvSpPr>
            <p:spPr>
              <a:xfrm rot="10800000">
                <a:off x="1828800" y="1067040"/>
                <a:ext cx="4572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1295280" y="1218960"/>
                <a:ext cx="1523880" cy="1524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04920" y="-152640"/>
              <a:ext cx="3504960" cy="4114440"/>
              <a:chOff x="304920" y="-152640"/>
              <a:chExt cx="3504960" cy="4114440"/>
            </a:xfrm>
          </p:grpSpPr>
          <p:sp>
            <p:nvSpPr>
              <p:cNvPr id="66" name=""/>
              <p:cNvSpPr/>
              <p:nvPr/>
            </p:nvSpPr>
            <p:spPr>
              <a:xfrm>
                <a:off x="304920" y="1990800"/>
                <a:ext cx="35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2057400" y="-152640"/>
                <a:ext cx="0" cy="41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1080" y="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9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419720" y="838080"/>
            <a:ext cx="2743200" cy="2438280"/>
            <a:chOff x="4419720" y="838080"/>
            <a:chExt cx="2743200" cy="2438280"/>
          </a:xfrm>
        </p:grpSpPr>
        <p:sp>
          <p:nvSpPr>
            <p:cNvPr id="70" name=""/>
            <p:cNvSpPr/>
            <p:nvPr/>
          </p:nvSpPr>
          <p:spPr>
            <a:xfrm>
              <a:off x="4648320" y="914040"/>
              <a:ext cx="304560" cy="21337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52880" y="1218960"/>
              <a:ext cx="2057400" cy="15238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95680" y="838080"/>
              <a:ext cx="22860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34320" y="838080"/>
              <a:ext cx="22860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19810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87640" y="2057400"/>
            <a:ext cx="1386000" cy="519120"/>
            <a:chOff x="3887640" y="2057400"/>
            <a:chExt cx="1386000" cy="519120"/>
          </a:xfrm>
        </p:grpSpPr>
        <p:sp>
          <p:nvSpPr>
            <p:cNvPr id="76" name=""/>
            <p:cNvSpPr/>
            <p:nvPr/>
          </p:nvSpPr>
          <p:spPr>
            <a:xfrm>
              <a:off x="3887640" y="205740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а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11520" y="22716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495680" y="3962520"/>
            <a:ext cx="228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1219320"/>
            <a:ext cx="1981080" cy="380880"/>
            <a:chOff x="4952880" y="1219320"/>
            <a:chExt cx="1981080" cy="380880"/>
          </a:xfrm>
        </p:grpSpPr>
        <p:sp>
          <p:nvSpPr>
            <p:cNvPr id="80" name=""/>
            <p:cNvSpPr/>
            <p:nvPr/>
          </p:nvSpPr>
          <p:spPr>
            <a:xfrm>
              <a:off x="4952880" y="1219320"/>
              <a:ext cx="1981080" cy="380880"/>
            </a:xfrm>
            <a:custGeom>
              <a:avLst/>
              <a:gdLst/>
              <a:ahLst/>
              <a:rect l="l" t="t" r="r" b="b"/>
              <a:pathLst>
                <a:path w="1072" h="267">
                  <a:moveTo>
                    <a:pt x="6" y="0"/>
                  </a:moveTo>
                  <a:cubicBezTo>
                    <a:pt x="16" y="70"/>
                    <a:pt x="0" y="110"/>
                    <a:pt x="66" y="132"/>
                  </a:cubicBezTo>
                  <a:cubicBezTo>
                    <a:pt x="87" y="195"/>
                    <a:pt x="71" y="157"/>
                    <a:pt x="126" y="240"/>
                  </a:cubicBezTo>
                  <a:cubicBezTo>
                    <a:pt x="144" y="267"/>
                    <a:pt x="222" y="264"/>
                    <a:pt x="222" y="264"/>
                  </a:cubicBezTo>
                  <a:cubicBezTo>
                    <a:pt x="426" y="257"/>
                    <a:pt x="621" y="253"/>
                    <a:pt x="822" y="228"/>
                  </a:cubicBezTo>
                  <a:cubicBezTo>
                    <a:pt x="853" y="218"/>
                    <a:pt x="889" y="220"/>
                    <a:pt x="918" y="204"/>
                  </a:cubicBezTo>
                  <a:cubicBezTo>
                    <a:pt x="931" y="197"/>
                    <a:pt x="932" y="178"/>
                    <a:pt x="942" y="168"/>
                  </a:cubicBezTo>
                  <a:cubicBezTo>
                    <a:pt x="966" y="144"/>
                    <a:pt x="996" y="125"/>
                    <a:pt x="1026" y="108"/>
                  </a:cubicBezTo>
                  <a:cubicBezTo>
                    <a:pt x="1037" y="102"/>
                    <a:pt x="1058" y="108"/>
                    <a:pt x="1062" y="96"/>
                  </a:cubicBezTo>
                  <a:cubicBezTo>
                    <a:pt x="1072" y="70"/>
                    <a:pt x="1062" y="40"/>
                    <a:pt x="1062" y="12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30000" y="1219320"/>
              <a:ext cx="1596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086600" y="228600"/>
            <a:ext cx="1905120" cy="3352320"/>
            <a:chOff x="7086600" y="228600"/>
            <a:chExt cx="1905120" cy="3352320"/>
          </a:xfrm>
        </p:grpSpPr>
        <p:grpSp>
          <p:nvGrpSpPr>
            <p:cNvPr id="83" name=""/>
            <p:cNvGrpSpPr/>
            <p:nvPr/>
          </p:nvGrpSpPr>
          <p:grpSpPr>
            <a:xfrm>
              <a:off x="7162920" y="228600"/>
              <a:ext cx="1828800" cy="3352320"/>
              <a:chOff x="7162920" y="228600"/>
              <a:chExt cx="1828800" cy="335232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7162920" y="228600"/>
                <a:ext cx="1828800" cy="3352320"/>
                <a:chOff x="7162920" y="228600"/>
                <a:chExt cx="1828800" cy="3352320"/>
              </a:xfrm>
            </p:grpSpPr>
            <p:grpSp>
              <p:nvGrpSpPr>
                <p:cNvPr id="85" name=""/>
                <p:cNvGrpSpPr/>
                <p:nvPr/>
              </p:nvGrpSpPr>
              <p:grpSpPr>
                <a:xfrm>
                  <a:off x="7162920" y="228600"/>
                  <a:ext cx="1828800" cy="1066320"/>
                  <a:chOff x="7162920" y="228600"/>
                  <a:chExt cx="1828800" cy="106632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7239240" y="1049040"/>
                    <a:ext cx="1676520" cy="245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239240" y="406440"/>
                    <a:ext cx="1676520" cy="64260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239240" y="228600"/>
                    <a:ext cx="1676520" cy="266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162920" y="317520"/>
                    <a:ext cx="1828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" name=""/>
                <p:cNvGrpSpPr/>
                <p:nvPr/>
              </p:nvGrpSpPr>
              <p:grpSpPr>
                <a:xfrm>
                  <a:off x="7162920" y="2666880"/>
                  <a:ext cx="1828800" cy="914040"/>
                  <a:chOff x="7162920" y="2666880"/>
                  <a:chExt cx="1828800" cy="91404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7239240" y="2666880"/>
                    <a:ext cx="1676520" cy="70308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39240" y="3369960"/>
                    <a:ext cx="1676520" cy="210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62920" y="3510720"/>
                    <a:ext cx="1828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7239240" y="99036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915400" y="990360"/>
                <a:ext cx="0" cy="22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086600" y="1981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248520" y="76320"/>
            <a:ext cx="2895480" cy="3657600"/>
            <a:chOff x="6248520" y="76320"/>
            <a:chExt cx="2895480" cy="3657600"/>
          </a:xfrm>
        </p:grpSpPr>
        <p:grpSp>
          <p:nvGrpSpPr>
            <p:cNvPr id="98" name=""/>
            <p:cNvGrpSpPr/>
            <p:nvPr/>
          </p:nvGrpSpPr>
          <p:grpSpPr>
            <a:xfrm>
              <a:off x="6248520" y="76320"/>
              <a:ext cx="2895480" cy="3657600"/>
              <a:chOff x="6248520" y="76320"/>
              <a:chExt cx="2895480" cy="365760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6324480" y="76320"/>
                <a:ext cx="2819520" cy="3657600"/>
                <a:chOff x="6324480" y="76320"/>
                <a:chExt cx="2819520" cy="36576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858000" y="76320"/>
                  <a:ext cx="2286000" cy="365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6324480" y="228600"/>
                  <a:ext cx="2180520" cy="3352320"/>
                  <a:chOff x="6324480" y="228600"/>
                  <a:chExt cx="2180520" cy="335232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6324480" y="228600"/>
                    <a:ext cx="2180520" cy="3352320"/>
                    <a:chOff x="6324480" y="228600"/>
                    <a:chExt cx="2180520" cy="335232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6324480" y="228600"/>
                      <a:ext cx="2180520" cy="1066320"/>
                      <a:chOff x="6324480" y="228600"/>
                      <a:chExt cx="2180520" cy="1066320"/>
                    </a:xfrm>
                  </p:grpSpPr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6415200" y="1049040"/>
                        <a:ext cx="1999080" cy="245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6415200" y="406440"/>
                        <a:ext cx="1999080" cy="642600"/>
                      </a:xfrm>
                      <a:prstGeom prst="rect">
                        <a:avLst/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6415200" y="228600"/>
                        <a:ext cx="1999080" cy="2664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6324480" y="317520"/>
                        <a:ext cx="218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8" name=""/>
                    <p:cNvGrpSpPr/>
                    <p:nvPr/>
                  </p:nvGrpSpPr>
                  <p:grpSpPr>
                    <a:xfrm>
                      <a:off x="6324480" y="2666880"/>
                      <a:ext cx="2180520" cy="914040"/>
                      <a:chOff x="6324480" y="2666880"/>
                      <a:chExt cx="2180520" cy="914040"/>
                    </a:xfrm>
                  </p:grpSpPr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6415200" y="2666880"/>
                        <a:ext cx="1999080" cy="703080"/>
                      </a:xfrm>
                      <a:prstGeom prst="rect">
                        <a:avLst/>
                      </a:prstGeom>
                      <a:blipFill rotWithShape="0">
                        <a:blip r:embed="rId7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6415200" y="3369960"/>
                        <a:ext cx="1999080" cy="210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6324480" y="3510720"/>
                        <a:ext cx="218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2" name=""/>
                  <p:cNvSpPr/>
                  <p:nvPr/>
                </p:nvSpPr>
                <p:spPr>
                  <a:xfrm>
                    <a:off x="6414840" y="990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415360" y="990720"/>
                    <a:ext cx="0" cy="228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>
                  <a:off x="6858000" y="1295640"/>
                  <a:ext cx="1440" cy="1447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400800" y="2667240"/>
                  <a:ext cx="453960" cy="7596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400800" y="1219320"/>
                  <a:ext cx="453960" cy="763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6248520" y="198144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391520" y="1828800"/>
              <a:ext cx="976320" cy="257400"/>
            </a:xfrm>
            <a:prstGeom prst="leftArrow">
              <a:avLst>
                <a:gd name="adj1" fmla="val 50000"/>
                <a:gd name="adj2" fmla="val 9482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04920" y="-228600"/>
            <a:ext cx="3504960" cy="4114800"/>
            <a:chOff x="304920" y="-228600"/>
            <a:chExt cx="3504960" cy="4114800"/>
          </a:xfrm>
        </p:grpSpPr>
        <p:sp>
          <p:nvSpPr>
            <p:cNvPr id="120" name=""/>
            <p:cNvSpPr/>
            <p:nvPr/>
          </p:nvSpPr>
          <p:spPr>
            <a:xfrm>
              <a:off x="533160" y="304920"/>
              <a:ext cx="3047760" cy="320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04200" y="228600"/>
              <a:ext cx="3505320" cy="3352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198108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057040" y="-2286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085400" y="894960"/>
              <a:ext cx="1951920" cy="2057040"/>
              <a:chOff x="1085400" y="894960"/>
              <a:chExt cx="1951920" cy="2057040"/>
            </a:xfrm>
          </p:grpSpPr>
          <p:sp>
            <p:nvSpPr>
              <p:cNvPr id="125" name=""/>
              <p:cNvSpPr/>
              <p:nvPr/>
            </p:nvSpPr>
            <p:spPr>
              <a:xfrm rot="15041400">
                <a:off x="1296720" y="1211040"/>
                <a:ext cx="1528560" cy="153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559" y="17119"/>
                    </a:moveTo>
                    <a:arcTo wR="10800" hR="10800" stAng="2148529" swAng="192293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559" y="17119"/>
                    </a:moveTo>
                    <a:arcTo wR="10800" hR="10800" stAng="2148529" swAng="19229375"/>
                  </a:path>
                </a:pathLst>
              </a:cu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1733760" y="894960"/>
                <a:ext cx="559800" cy="419760"/>
                <a:chOff x="1733760" y="894960"/>
                <a:chExt cx="559800" cy="419760"/>
              </a:xfrm>
            </p:grpSpPr>
            <p:sp>
              <p:nvSpPr>
                <p:cNvPr id="127" name=""/>
                <p:cNvSpPr/>
                <p:nvPr/>
              </p:nvSpPr>
              <p:spPr>
                <a:xfrm flipV="1">
                  <a:off x="1733760" y="894960"/>
                  <a:ext cx="531720" cy="3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733760" y="934920"/>
                  <a:ext cx="28080" cy="37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265480" y="894960"/>
                  <a:ext cx="28080" cy="37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0" name=""/>
          <p:cNvSpPr/>
          <p:nvPr/>
        </p:nvSpPr>
        <p:spPr>
          <a:xfrm>
            <a:off x="2286000" y="1066680"/>
            <a:ext cx="0" cy="2286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914400"/>
            <a:ext cx="533520" cy="45720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09640" y="449568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..1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8400" y="3581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..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419720" y="4267080"/>
            <a:ext cx="2971800" cy="2133360"/>
            <a:chOff x="4419720" y="4267080"/>
            <a:chExt cx="2971800" cy="2133360"/>
          </a:xfrm>
        </p:grpSpPr>
        <p:sp>
          <p:nvSpPr>
            <p:cNvPr id="135" name=""/>
            <p:cNvSpPr/>
            <p:nvPr/>
          </p:nvSpPr>
          <p:spPr>
            <a:xfrm>
              <a:off x="6629400" y="4647960"/>
              <a:ext cx="457200" cy="13716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29400" y="46479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53240" y="4571640"/>
              <a:ext cx="1523880" cy="15242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4267080"/>
              <a:ext cx="304920" cy="21333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16200000">
              <a:off x="5751720" y="5219280"/>
              <a:ext cx="1524240" cy="228600"/>
            </a:xfrm>
            <a:custGeom>
              <a:avLst/>
              <a:gdLst>
                <a:gd name="textAreaLeft" fmla="*/ 152280 w 1524240"/>
                <a:gd name="textAreaRight" fmla="*/ 1371960 w 1524240"/>
                <a:gd name="textAreaTop" fmla="*/ 22680 h 228600"/>
                <a:gd name="textAreaBottom" fmla="*/ 2059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58" y="21600"/>
                  </a:lnTo>
                  <a:lnTo>
                    <a:pt x="74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029200" y="5105160"/>
              <a:ext cx="1676520" cy="457200"/>
              <a:chOff x="5029200" y="5105160"/>
              <a:chExt cx="1676520" cy="457200"/>
            </a:xfrm>
          </p:grpSpPr>
          <p:sp>
            <p:nvSpPr>
              <p:cNvPr id="141" name=""/>
              <p:cNvSpPr/>
              <p:nvPr/>
            </p:nvSpPr>
            <p:spPr>
              <a:xfrm>
                <a:off x="6248520" y="510516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29200" y="510516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57800" y="5105160"/>
                <a:ext cx="12193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57800" y="51051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81840" y="55623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105520" y="45716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0640" y="4571640"/>
              <a:ext cx="152280" cy="152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533376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477120" y="502920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10666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3733560"/>
            <a:ext cx="2971800" cy="2971800"/>
            <a:chOff x="609480" y="3733560"/>
            <a:chExt cx="2971800" cy="2971800"/>
          </a:xfrm>
        </p:grpSpPr>
        <p:sp>
          <p:nvSpPr>
            <p:cNvPr id="152" name=""/>
            <p:cNvSpPr/>
            <p:nvPr/>
          </p:nvSpPr>
          <p:spPr>
            <a:xfrm rot="5400000">
              <a:off x="1294560" y="4572000"/>
              <a:ext cx="152424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2640" y="5105520"/>
              <a:ext cx="381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240" y="464832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480" y="53341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057040" y="373356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76920" y="3962520"/>
            <a:ext cx="1981080" cy="2743200"/>
            <a:chOff x="4876920" y="3962520"/>
            <a:chExt cx="1981080" cy="2743200"/>
          </a:xfrm>
        </p:grpSpPr>
        <p:grpSp>
          <p:nvGrpSpPr>
            <p:cNvPr id="158" name=""/>
            <p:cNvGrpSpPr/>
            <p:nvPr/>
          </p:nvGrpSpPr>
          <p:grpSpPr>
            <a:xfrm>
              <a:off x="4876920" y="3962520"/>
              <a:ext cx="1981080" cy="2743200"/>
              <a:chOff x="4876920" y="3962520"/>
              <a:chExt cx="1981080" cy="274320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4952880" y="3962520"/>
                <a:ext cx="1676160" cy="2743200"/>
                <a:chOff x="4952880" y="3962520"/>
                <a:chExt cx="1676160" cy="27432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952880" y="6096240"/>
                  <a:ext cx="1676160" cy="60948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52880" y="3962520"/>
                  <a:ext cx="1676160" cy="6094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952880" y="4419720"/>
                  <a:ext cx="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629040" y="4419720"/>
                  <a:ext cx="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4876920" y="5334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5105520" y="60962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876920" y="380880"/>
            <a:ext cx="1218960" cy="838080"/>
            <a:chOff x="4876920" y="380880"/>
            <a:chExt cx="1218960" cy="838080"/>
          </a:xfrm>
        </p:grpSpPr>
        <p:sp>
          <p:nvSpPr>
            <p:cNvPr id="167" name=""/>
            <p:cNvSpPr/>
            <p:nvPr/>
          </p:nvSpPr>
          <p:spPr>
            <a:xfrm>
              <a:off x="4876920" y="380880"/>
              <a:ext cx="12189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пон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81480" y="685440"/>
              <a:ext cx="837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166760" y="3276720"/>
            <a:ext cx="5234040" cy="2949480"/>
            <a:chOff x="1166760" y="3276720"/>
            <a:chExt cx="5234040" cy="2949480"/>
          </a:xfrm>
        </p:grpSpPr>
        <p:sp>
          <p:nvSpPr>
            <p:cNvPr id="170" name=""/>
            <p:cNvSpPr/>
            <p:nvPr/>
          </p:nvSpPr>
          <p:spPr>
            <a:xfrm rot="10135200">
              <a:off x="1298520" y="4570560"/>
              <a:ext cx="1522080" cy="15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77" y="16158"/>
                  </a:moveTo>
                  <a:arcTo wR="10800" hR="10800" stAng="1784692" swAng="19567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77" y="16158"/>
                  </a:moveTo>
                  <a:arcTo wR="10800" hR="10800" stAng="1784692" swAng="19567627"/>
                </a:path>
              </a:pathLst>
            </a:cu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285640" y="3276720"/>
              <a:ext cx="4115160" cy="2819160"/>
              <a:chOff x="2285640" y="3276720"/>
              <a:chExt cx="4115160" cy="281916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4953240" y="3276720"/>
                <a:ext cx="1447560" cy="2819160"/>
                <a:chOff x="4953240" y="3276720"/>
                <a:chExt cx="1447560" cy="2819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953240" y="6095880"/>
                  <a:ext cx="1447560" cy="0"/>
                </a:xfrm>
                <a:prstGeom prst="line">
                  <a:avLst/>
                </a:prstGeom>
                <a:ln w="763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3240" y="4571640"/>
                  <a:ext cx="1447560" cy="0"/>
                </a:xfrm>
                <a:prstGeom prst="line">
                  <a:avLst/>
                </a:prstGeom>
                <a:ln w="7632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43600" y="3276720"/>
                  <a:ext cx="228600" cy="12949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 flipH="1">
                <a:off x="2285640" y="3276720"/>
                <a:ext cx="2590920" cy="129492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666880" y="2438280"/>
            <a:ext cx="3961800" cy="916920"/>
            <a:chOff x="2666880" y="2438280"/>
            <a:chExt cx="3961800" cy="916920"/>
          </a:xfrm>
        </p:grpSpPr>
        <p:grpSp>
          <p:nvGrpSpPr>
            <p:cNvPr id="178" name=""/>
            <p:cNvGrpSpPr/>
            <p:nvPr/>
          </p:nvGrpSpPr>
          <p:grpSpPr>
            <a:xfrm>
              <a:off x="4940640" y="2666880"/>
              <a:ext cx="1688040" cy="688320"/>
              <a:chOff x="4940640" y="2666880"/>
              <a:chExt cx="1688040" cy="688320"/>
            </a:xfrm>
          </p:grpSpPr>
          <p:sp>
            <p:nvSpPr>
              <p:cNvPr id="179" name=""/>
              <p:cNvSpPr/>
              <p:nvPr/>
            </p:nvSpPr>
            <p:spPr>
              <a:xfrm>
                <a:off x="4940640" y="289548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Натя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5942880" y="2666880"/>
                <a:ext cx="685800" cy="6094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 flipH="1" flipV="1">
              <a:off x="2666880" y="2438280"/>
              <a:ext cx="2209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095880" y="3809880"/>
            <a:ext cx="1373040" cy="1447560"/>
            <a:chOff x="6095880" y="3809880"/>
            <a:chExt cx="1373040" cy="1447560"/>
          </a:xfrm>
        </p:grpSpPr>
        <p:grpSp>
          <p:nvGrpSpPr>
            <p:cNvPr id="183" name=""/>
            <p:cNvGrpSpPr/>
            <p:nvPr/>
          </p:nvGrpSpPr>
          <p:grpSpPr>
            <a:xfrm>
              <a:off x="6095880" y="3809880"/>
              <a:ext cx="1373040" cy="1447560"/>
              <a:chOff x="6095880" y="3809880"/>
              <a:chExt cx="1373040" cy="1447560"/>
            </a:xfrm>
          </p:grpSpPr>
          <p:sp>
            <p:nvSpPr>
              <p:cNvPr id="184" name=""/>
              <p:cNvSpPr/>
              <p:nvPr/>
            </p:nvSpPr>
            <p:spPr>
              <a:xfrm>
                <a:off x="6629040" y="4571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400440" y="457164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99000" y="4575600"/>
                <a:ext cx="106992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14840" y="4267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7162200" y="487656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400440" y="38098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29040" y="38098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95880" y="38858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00440" y="38858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6628680" y="38858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629040" y="4571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279240" y="0"/>
            <a:ext cx="12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74480" y="4114800"/>
            <a:ext cx="13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4191120"/>
            <a:ext cx="152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5:21:58Z</dcterms:created>
  <dc:creator>Довольный пользователь Microsoft Office</dc:creator>
  <dc:description/>
  <dc:language>en-US</dc:language>
  <cp:lastModifiedBy>Довольный пользователь Microsoft Office</cp:lastModifiedBy>
  <dcterms:modified xsi:type="dcterms:W3CDTF">2001-03-30T16:22:12Z</dcterms:modified>
  <cp:revision>8</cp:revision>
  <dc:subject/>
  <dc:title>Заголовок слайда отсутствует</dc:title>
</cp:coreProperties>
</file>