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6219-D4AA-4F61-B030-8EBAADC8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D555-F5D2-42F4-804F-28984914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E1C2-1469-4606-85D7-956F2151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344F-750A-4659-A1B6-44D38DE2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ADCD-3536-40EB-B063-B901EDE0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DA33-3B74-4D56-9D91-0D6E4AC3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8BEC-1594-4099-9BA4-7207CC52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9C32-80A5-4C60-B2A0-3BF74B68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966D-7C43-47FC-B14C-1222A02A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C13-49D3-468C-9BD9-60D8C7FC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02C0-74FA-48B1-A394-8FA9ACBA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171-EB9C-4C97-A6ED-5B57F3D3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9B52-B3C9-4F84-B4E0-43F6A6260F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14400" y="4267080"/>
            <a:ext cx="7467480" cy="609840"/>
            <a:chOff x="914400" y="4267080"/>
            <a:chExt cx="7467480" cy="609840"/>
          </a:xfrm>
        </p:grpSpPr>
        <p:sp>
          <p:nvSpPr>
            <p:cNvPr id="42" name=""/>
            <p:cNvSpPr/>
            <p:nvPr/>
          </p:nvSpPr>
          <p:spPr>
            <a:xfrm>
              <a:off x="914400" y="4267080"/>
              <a:ext cx="7467480" cy="609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324480" y="4267080"/>
              <a:ext cx="60984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1219320" y="2209680"/>
            <a:ext cx="2133000" cy="2057400"/>
            <a:chOff x="1219320" y="2209680"/>
            <a:chExt cx="2133000" cy="2057400"/>
          </a:xfrm>
        </p:grpSpPr>
        <p:sp>
          <p:nvSpPr>
            <p:cNvPr id="45" name=""/>
            <p:cNvSpPr/>
            <p:nvPr/>
          </p:nvSpPr>
          <p:spPr>
            <a:xfrm>
              <a:off x="1295280" y="2209680"/>
              <a:ext cx="1828800" cy="1600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1219320" y="3809880"/>
              <a:ext cx="1904760" cy="457200"/>
            </a:xfrm>
            <a:custGeom>
              <a:avLst/>
              <a:gdLst>
                <a:gd name="textAreaLeft" fmla="*/ 248400 w 1904760"/>
                <a:gd name="textAreaRight" fmla="*/ 1656360 w 1904760"/>
                <a:gd name="textAreaTop" fmla="*/ 59400 h 457200"/>
                <a:gd name="textAreaBottom" fmla="*/ 3978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75" y="21600"/>
                  </a:lnTo>
                  <a:lnTo>
                    <a:pt x="1925" y="216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3123360" y="297180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30960" y="2286000"/>
              <a:ext cx="665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Э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5105520" y="1743120"/>
            <a:ext cx="2819160" cy="4809960"/>
            <a:chOff x="5105520" y="1743120"/>
            <a:chExt cx="2819160" cy="4809960"/>
          </a:xfrm>
        </p:grpSpPr>
        <p:sp>
          <p:nvSpPr>
            <p:cNvPr id="50" name=""/>
            <p:cNvSpPr/>
            <p:nvPr/>
          </p:nvSpPr>
          <p:spPr>
            <a:xfrm>
              <a:off x="6629400" y="2438280"/>
              <a:ext cx="0" cy="3429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5715000" y="5181480"/>
              <a:ext cx="1828800" cy="1371600"/>
              <a:chOff x="5715000" y="5181480"/>
              <a:chExt cx="1828800" cy="1371600"/>
            </a:xfrm>
          </p:grpSpPr>
          <p:sp>
            <p:nvSpPr>
              <p:cNvPr id="52" name=""/>
              <p:cNvSpPr/>
              <p:nvPr/>
            </p:nvSpPr>
            <p:spPr>
              <a:xfrm>
                <a:off x="5715000" y="5181480"/>
                <a:ext cx="1828800" cy="137160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251400" y="5638680"/>
                <a:ext cx="11134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Груз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5105520" y="1743120"/>
              <a:ext cx="2819160" cy="2523960"/>
              <a:chOff x="5105520" y="1743120"/>
              <a:chExt cx="2819160" cy="2523960"/>
            </a:xfrm>
          </p:grpSpPr>
          <p:sp>
            <p:nvSpPr>
              <p:cNvPr id="55" name=""/>
              <p:cNvSpPr/>
              <p:nvPr/>
            </p:nvSpPr>
            <p:spPr>
              <a:xfrm>
                <a:off x="5334120" y="2743200"/>
                <a:ext cx="228600" cy="1523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105520" y="2971800"/>
                <a:ext cx="609480" cy="1522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715000" y="2438280"/>
                <a:ext cx="1828800" cy="121932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96080" y="2743200"/>
                <a:ext cx="228600" cy="1523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543800" y="2971800"/>
                <a:ext cx="380880" cy="1522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15000" y="1743120"/>
                <a:ext cx="79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ИМ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 flipH="1">
            <a:off x="3351960" y="2971800"/>
            <a:ext cx="1752840" cy="15228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37560" y="65088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МОДЕЛЬ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701880" y="1600200"/>
            <a:ext cx="870120" cy="2666880"/>
            <a:chOff x="3701880" y="1600200"/>
            <a:chExt cx="870120" cy="2666880"/>
          </a:xfrm>
        </p:grpSpPr>
        <p:sp>
          <p:nvSpPr>
            <p:cNvPr id="64" name=""/>
            <p:cNvSpPr/>
            <p:nvPr/>
          </p:nvSpPr>
          <p:spPr>
            <a:xfrm>
              <a:off x="3733560" y="2209680"/>
              <a:ext cx="838440" cy="2057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701880" y="160020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277440" y="6858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МОДЕЛЬ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304812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821680" y="1600200"/>
            <a:ext cx="930600" cy="2057400"/>
            <a:chOff x="2821680" y="1600200"/>
            <a:chExt cx="930600" cy="2057400"/>
          </a:xfrm>
        </p:grpSpPr>
        <p:grpSp>
          <p:nvGrpSpPr>
            <p:cNvPr id="69" name=""/>
            <p:cNvGrpSpPr/>
            <p:nvPr/>
          </p:nvGrpSpPr>
          <p:grpSpPr>
            <a:xfrm>
              <a:off x="3276720" y="2438280"/>
              <a:ext cx="228600" cy="1219320"/>
              <a:chOff x="3276720" y="2438280"/>
              <a:chExt cx="228600" cy="1219320"/>
            </a:xfrm>
          </p:grpSpPr>
          <p:sp>
            <p:nvSpPr>
              <p:cNvPr id="70" name=""/>
              <p:cNvSpPr/>
              <p:nvPr/>
            </p:nvSpPr>
            <p:spPr>
              <a:xfrm>
                <a:off x="3276720" y="2514600"/>
                <a:ext cx="228600" cy="1066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429000" y="2438280"/>
                <a:ext cx="0" cy="12193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2821680" y="1600200"/>
              <a:ext cx="93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КР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724280" y="1752480"/>
            <a:ext cx="533520" cy="1828800"/>
            <a:chOff x="4724280" y="1752480"/>
            <a:chExt cx="533520" cy="1828800"/>
          </a:xfrm>
        </p:grpSpPr>
        <p:grpSp>
          <p:nvGrpSpPr>
            <p:cNvPr id="74" name=""/>
            <p:cNvGrpSpPr/>
            <p:nvPr/>
          </p:nvGrpSpPr>
          <p:grpSpPr>
            <a:xfrm>
              <a:off x="4724280" y="2514600"/>
              <a:ext cx="533520" cy="1066680"/>
              <a:chOff x="4724280" y="2514600"/>
              <a:chExt cx="533520" cy="1066680"/>
            </a:xfrm>
          </p:grpSpPr>
          <p:sp>
            <p:nvSpPr>
              <p:cNvPr id="75" name=""/>
              <p:cNvSpPr/>
              <p:nvPr/>
            </p:nvSpPr>
            <p:spPr>
              <a:xfrm>
                <a:off x="4724280" y="2666880"/>
                <a:ext cx="533520" cy="68580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76920" y="2514600"/>
                <a:ext cx="228600" cy="1066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29200" y="251460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4725720" y="1752480"/>
              <a:ext cx="51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201120" y="6858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МОДЕЛЬ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848720" y="5638680"/>
            <a:ext cx="439560" cy="609840"/>
            <a:chOff x="7848720" y="5638680"/>
            <a:chExt cx="439560" cy="609840"/>
          </a:xfrm>
        </p:grpSpPr>
        <p:sp>
          <p:nvSpPr>
            <p:cNvPr id="81" name=""/>
            <p:cNvSpPr/>
            <p:nvPr/>
          </p:nvSpPr>
          <p:spPr>
            <a:xfrm>
              <a:off x="7848720" y="5638680"/>
              <a:ext cx="0" cy="6098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6120" y="5638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1T15:17:48Z</dcterms:created>
  <dc:creator>Довольный пользователь Microsoft Office</dc:creator>
  <dc:description/>
  <dc:language>en-US</dc:language>
  <cp:lastModifiedBy>Владимир Жуков</cp:lastModifiedBy>
  <dcterms:modified xsi:type="dcterms:W3CDTF">2002-01-20T06:36:04Z</dcterms:modified>
  <cp:revision>6</cp:revision>
  <dc:subject/>
  <dc:title>Заголовок слайда отсутствует</dc:title>
</cp:coreProperties>
</file>