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EFA-8A9D-483B-B99C-B451061B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5E9-7B31-4851-82B1-1F2ABFFF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6A9A-E343-4CE5-9DBB-5F40BB7C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0D5-004E-4F7F-9174-41F86CA0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614D-FB5A-4A91-96B3-F1224F54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4AC-5C5B-4AB3-BAB5-9CF44F4D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9FE-57C5-4D05-AD8B-50A0E41B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63F6-975F-43E6-BF12-641D8B3E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15D-F315-4053-8EA2-6FD4FBDB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EEEA-C367-4C90-92B5-C682E5FD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12B-E7EB-4D44-A45F-6460F5F0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0910-A9C0-41F1-A051-F2640EC4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59EE-EEDE-4F62-8EE4-C353500081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57600" y="2971800"/>
            <a:ext cx="2057400" cy="990720"/>
          </a:xfrm>
          <a:prstGeom prst="foldedCorner">
            <a:avLst>
              <a:gd name="adj" fmla="val 28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хан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1905120" y="3124080"/>
            <a:ext cx="1752480" cy="609840"/>
          </a:xfrm>
          <a:custGeom>
            <a:avLst/>
            <a:gdLst>
              <a:gd name="textAreaLeft" fmla="*/ 273960 w 1752480"/>
              <a:gd name="textAreaRight" fmla="*/ 1515600 w 1752480"/>
              <a:gd name="textAreaTop" fmla="*/ 139680 h 609840"/>
              <a:gd name="textAreaBottom" fmla="*/ 4701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4949"/>
                </a:moveTo>
                <a:lnTo>
                  <a:pt x="16200" y="4949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651"/>
                </a:lnTo>
                <a:lnTo>
                  <a:pt x="3375" y="16651"/>
                </a:lnTo>
                <a:close/>
              </a:path>
              <a:path w="21600" h="21600">
                <a:moveTo>
                  <a:pt x="0" y="4949"/>
                </a:moveTo>
                <a:lnTo>
                  <a:pt x="675" y="4949"/>
                </a:lnTo>
                <a:lnTo>
                  <a:pt x="675" y="16651"/>
                </a:lnTo>
                <a:lnTo>
                  <a:pt x="0" y="16651"/>
                </a:lnTo>
                <a:close/>
              </a:path>
              <a:path w="21600" h="21600">
                <a:moveTo>
                  <a:pt x="1350" y="4949"/>
                </a:moveTo>
                <a:lnTo>
                  <a:pt x="2700" y="4949"/>
                </a:lnTo>
                <a:lnTo>
                  <a:pt x="2700" y="16651"/>
                </a:lnTo>
                <a:lnTo>
                  <a:pt x="1350" y="1665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15000" y="3124080"/>
            <a:ext cx="1828800" cy="609840"/>
          </a:xfrm>
          <a:custGeom>
            <a:avLst/>
            <a:gdLst>
              <a:gd name="textAreaLeft" fmla="*/ 285480 w 1828800"/>
              <a:gd name="textAreaRight" fmla="*/ 1586880 w 1828800"/>
              <a:gd name="textAreaTop" fmla="*/ 143640 h 609840"/>
              <a:gd name="textAreaBottom" fmla="*/ 46620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085"/>
                </a:moveTo>
                <a:lnTo>
                  <a:pt x="16200" y="5085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515"/>
                </a:lnTo>
                <a:lnTo>
                  <a:pt x="3375" y="16515"/>
                </a:lnTo>
                <a:close/>
              </a:path>
              <a:path w="21600" h="21600">
                <a:moveTo>
                  <a:pt x="0" y="5085"/>
                </a:moveTo>
                <a:lnTo>
                  <a:pt x="675" y="5085"/>
                </a:lnTo>
                <a:lnTo>
                  <a:pt x="675" y="16515"/>
                </a:lnTo>
                <a:lnTo>
                  <a:pt x="0" y="16515"/>
                </a:lnTo>
                <a:close/>
              </a:path>
              <a:path w="21600" h="21600">
                <a:moveTo>
                  <a:pt x="1350" y="5085"/>
                </a:moveTo>
                <a:lnTo>
                  <a:pt x="2700" y="5085"/>
                </a:lnTo>
                <a:lnTo>
                  <a:pt x="2700" y="16515"/>
                </a:lnTo>
                <a:lnTo>
                  <a:pt x="1350" y="16515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3230640"/>
            <a:ext cx="90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ени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20280" y="32306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цеплени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 rot="5400000">
            <a:off x="3657600" y="1752480"/>
            <a:ext cx="1828800" cy="609840"/>
          </a:xfrm>
          <a:custGeom>
            <a:avLst/>
            <a:gdLst>
              <a:gd name="textAreaLeft" fmla="*/ 285840 w 1828800"/>
              <a:gd name="textAreaRight" fmla="*/ 1587240 w 1828800"/>
              <a:gd name="textAreaTop" fmla="*/ 143640 h 609840"/>
              <a:gd name="textAreaBottom" fmla="*/ 46620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085"/>
                </a:moveTo>
                <a:lnTo>
                  <a:pt x="16200" y="5085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515"/>
                </a:lnTo>
                <a:lnTo>
                  <a:pt x="3375" y="16515"/>
                </a:lnTo>
                <a:close/>
              </a:path>
              <a:path w="21600" h="21600">
                <a:moveTo>
                  <a:pt x="0" y="5085"/>
                </a:moveTo>
                <a:lnTo>
                  <a:pt x="675" y="5085"/>
                </a:lnTo>
                <a:lnTo>
                  <a:pt x="675" y="16515"/>
                </a:lnTo>
                <a:lnTo>
                  <a:pt x="0" y="16515"/>
                </a:lnTo>
                <a:close/>
              </a:path>
              <a:path w="21600" h="21600">
                <a:moveTo>
                  <a:pt x="1350" y="5085"/>
                </a:moveTo>
                <a:lnTo>
                  <a:pt x="2700" y="5085"/>
                </a:lnTo>
                <a:lnTo>
                  <a:pt x="2700" y="16515"/>
                </a:lnTo>
                <a:lnTo>
                  <a:pt x="1350" y="16515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 rot="16200000">
            <a:off x="3657600" y="4572000"/>
            <a:ext cx="1828800" cy="609840"/>
          </a:xfrm>
          <a:custGeom>
            <a:avLst/>
            <a:gdLst>
              <a:gd name="textAreaLeft" fmla="*/ 285840 w 1828800"/>
              <a:gd name="textAreaRight" fmla="*/ 1587240 w 1828800"/>
              <a:gd name="textAreaTop" fmla="*/ 143640 h 609840"/>
              <a:gd name="textAreaBottom" fmla="*/ 46620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085"/>
                </a:moveTo>
                <a:lnTo>
                  <a:pt x="16200" y="5085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515"/>
                </a:lnTo>
                <a:lnTo>
                  <a:pt x="3375" y="16515"/>
                </a:lnTo>
                <a:close/>
              </a:path>
              <a:path w="21600" h="21600">
                <a:moveTo>
                  <a:pt x="0" y="5085"/>
                </a:moveTo>
                <a:lnTo>
                  <a:pt x="675" y="5085"/>
                </a:lnTo>
                <a:lnTo>
                  <a:pt x="675" y="16515"/>
                </a:lnTo>
                <a:lnTo>
                  <a:pt x="0" y="16515"/>
                </a:lnTo>
                <a:close/>
              </a:path>
              <a:path w="21600" h="21600">
                <a:moveTo>
                  <a:pt x="1350" y="5085"/>
                </a:moveTo>
                <a:lnTo>
                  <a:pt x="2700" y="5085"/>
                </a:lnTo>
                <a:lnTo>
                  <a:pt x="2700" y="16515"/>
                </a:lnTo>
                <a:lnTo>
                  <a:pt x="1350" y="16515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47120" y="4419720"/>
            <a:ext cx="11196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ибки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л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 rot="21536400">
            <a:off x="914400" y="990360"/>
            <a:ext cx="2019240" cy="609480"/>
          </a:xfrm>
          <a:prstGeom prst="rect">
            <a:avLst/>
          </a:prstGeom>
        </p:spPr>
        <p:txBody>
          <a:bodyPr wrap="none" lIns="90000" rIns="90000" tIns="46800" bIns="46800" anchor="t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ФРИКЦИОНН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   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523880" y="4324320"/>
            <a:ext cx="2160000" cy="958680"/>
            <a:chOff x="1523880" y="4324320"/>
            <a:chExt cx="2160000" cy="958680"/>
          </a:xfrm>
        </p:grpSpPr>
        <p:sp>
          <p:nvSpPr>
            <p:cNvPr id="51" name=""/>
            <p:cNvSpPr/>
            <p:nvPr/>
          </p:nvSpPr>
          <p:spPr>
            <a:xfrm rot="5193000">
              <a:off x="2818800" y="4422600"/>
              <a:ext cx="914400" cy="762120"/>
            </a:xfrm>
            <a:prstGeom prst="blockArc">
              <a:avLst>
                <a:gd name="adj1" fmla="val 9947016"/>
                <a:gd name="adj2" fmla="val 852984"/>
                <a:gd name="adj3" fmla="val 5722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1523880" y="4422600"/>
              <a:ext cx="761760" cy="762120"/>
            </a:xfrm>
            <a:prstGeom prst="blockArc">
              <a:avLst>
                <a:gd name="adj1" fmla="val 10517975"/>
                <a:gd name="adj2" fmla="val 282025"/>
                <a:gd name="adj3" fmla="val 610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904760" y="4346640"/>
              <a:ext cx="1295640" cy="763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4760" y="5184720"/>
              <a:ext cx="1295640" cy="763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371600" y="4270320"/>
            <a:ext cx="2361960" cy="1066680"/>
            <a:chOff x="1371600" y="4270320"/>
            <a:chExt cx="2361960" cy="1066680"/>
          </a:xfrm>
        </p:grpSpPr>
        <p:sp>
          <p:nvSpPr>
            <p:cNvPr id="56" name=""/>
            <p:cNvSpPr/>
            <p:nvPr/>
          </p:nvSpPr>
          <p:spPr>
            <a:xfrm>
              <a:off x="2743200" y="4346280"/>
              <a:ext cx="9144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00400" y="4270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3880" y="4422600"/>
              <a:ext cx="762120" cy="761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04760" y="4270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71600" y="480348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895480" y="4498920"/>
            <a:ext cx="664560" cy="671400"/>
            <a:chOff x="2895480" y="4498920"/>
            <a:chExt cx="664560" cy="671400"/>
          </a:xfrm>
        </p:grpSpPr>
        <p:sp>
          <p:nvSpPr>
            <p:cNvPr id="62" name=""/>
            <p:cNvSpPr/>
            <p:nvPr/>
          </p:nvSpPr>
          <p:spPr>
            <a:xfrm>
              <a:off x="2895480" y="4498920"/>
              <a:ext cx="533520" cy="6714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213" y="10782"/>
                  </a:moveTo>
                  <a:arcTo wR="-8587" hR="-8587" stAng="-10792794" swAng="-10807206"/>
                  <a:lnTo>
                    <a:pt x="0" y="10800"/>
                  </a:lnTo>
                  <a:arcTo wR="10800" hR="10800" stAng="10800000" swAng="10807206"/>
                  <a:lnTo>
                    <a:pt x="24300" y="10828"/>
                  </a:lnTo>
                  <a:lnTo>
                    <a:pt x="20485" y="14627"/>
                  </a:lnTo>
                  <a:lnTo>
                    <a:pt x="16687" y="10812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29480" y="4727160"/>
              <a:ext cx="43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837720" y="4267080"/>
            <a:ext cx="762120" cy="536400"/>
            <a:chOff x="837720" y="4267080"/>
            <a:chExt cx="762120" cy="536400"/>
          </a:xfrm>
        </p:grpSpPr>
        <p:sp>
          <p:nvSpPr>
            <p:cNvPr id="65" name=""/>
            <p:cNvSpPr/>
            <p:nvPr/>
          </p:nvSpPr>
          <p:spPr>
            <a:xfrm flipH="1">
              <a:off x="837720" y="4803480"/>
              <a:ext cx="76212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7560" y="426708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cc0000"/>
                  </a:solidFill>
                  <a:latin typeface="Times New Roman"/>
                </a:rPr>
                <a:t>F</a:t>
              </a:r>
              <a:r>
                <a:rPr b="1" i="1" lang="ru-RU" sz="1800" spc="-1" strike="noStrike" baseline="-25000">
                  <a:solidFill>
                    <a:srgbClr val="cc0000"/>
                  </a:solidFill>
                  <a:latin typeface="Times New Roman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29280" y="4498920"/>
            <a:ext cx="604080" cy="671400"/>
            <a:chOff x="1529280" y="4498920"/>
            <a:chExt cx="604080" cy="671400"/>
          </a:xfrm>
        </p:grpSpPr>
        <p:sp>
          <p:nvSpPr>
            <p:cNvPr id="68" name=""/>
            <p:cNvSpPr/>
            <p:nvPr/>
          </p:nvSpPr>
          <p:spPr>
            <a:xfrm>
              <a:off x="1600200" y="4498920"/>
              <a:ext cx="533160" cy="6714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213" y="10782"/>
                  </a:moveTo>
                  <a:arcTo wR="-8587" hR="-8587" stAng="-10792794" swAng="-10807206"/>
                  <a:lnTo>
                    <a:pt x="0" y="10800"/>
                  </a:lnTo>
                  <a:arcTo wR="10800" hR="10800" stAng="10800000" swAng="10807206"/>
                  <a:lnTo>
                    <a:pt x="24300" y="10828"/>
                  </a:lnTo>
                  <a:lnTo>
                    <a:pt x="20485" y="14627"/>
                  </a:lnTo>
                  <a:lnTo>
                    <a:pt x="16687" y="10812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9280" y="4727160"/>
              <a:ext cx="43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 txBox="1"/>
          <p:nvPr/>
        </p:nvSpPr>
        <p:spPr>
          <a:xfrm rot="165600">
            <a:off x="1447920" y="5866920"/>
            <a:ext cx="2427120" cy="35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584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РЕМЕНН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81600" y="1898640"/>
            <a:ext cx="135252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ёстки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л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105520" y="4114800"/>
            <a:ext cx="3047760" cy="1523880"/>
            <a:chOff x="5105520" y="4114800"/>
            <a:chExt cx="3047760" cy="1523880"/>
          </a:xfrm>
        </p:grpSpPr>
        <p:sp>
          <p:nvSpPr>
            <p:cNvPr id="73" name=""/>
            <p:cNvSpPr/>
            <p:nvPr/>
          </p:nvSpPr>
          <p:spPr>
            <a:xfrm rot="147600">
              <a:off x="5256000" y="4272120"/>
              <a:ext cx="1218960" cy="1218960"/>
            </a:xfrm>
            <a:prstGeom prst="sun">
              <a:avLst>
                <a:gd name="adj" fmla="val 1737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86600" y="4419720"/>
              <a:ext cx="914400" cy="914400"/>
            </a:xfrm>
            <a:prstGeom prst="sun">
              <a:avLst>
                <a:gd name="adj" fmla="val 2013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05520" y="487692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43800" y="42670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67280" y="41148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457960" y="1755360"/>
            <a:ext cx="2009520" cy="1213560"/>
            <a:chOff x="5457960" y="1755360"/>
            <a:chExt cx="2009520" cy="1213560"/>
          </a:xfrm>
        </p:grpSpPr>
        <p:grpSp>
          <p:nvGrpSpPr>
            <p:cNvPr id="79" name=""/>
            <p:cNvGrpSpPr/>
            <p:nvPr/>
          </p:nvGrpSpPr>
          <p:grpSpPr>
            <a:xfrm>
              <a:off x="6251040" y="1755360"/>
              <a:ext cx="1213920" cy="1213560"/>
              <a:chOff x="6251040" y="1755360"/>
              <a:chExt cx="1213920" cy="121356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6251040" y="1755360"/>
                <a:ext cx="1213920" cy="1213560"/>
                <a:chOff x="6251040" y="1755360"/>
                <a:chExt cx="1213920" cy="12135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00800" y="1905120"/>
                  <a:ext cx="914400" cy="914400"/>
                </a:xfrm>
                <a:prstGeom prst="sun">
                  <a:avLst>
                    <a:gd name="adj" fmla="val 21875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rot="20110800">
                  <a:off x="6400440" y="1904760"/>
                  <a:ext cx="914400" cy="914400"/>
                </a:xfrm>
                <a:prstGeom prst="sun">
                  <a:avLst>
                    <a:gd name="adj" fmla="val 17842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6477120" y="1981080"/>
                <a:ext cx="762120" cy="7621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5457960" y="1800360"/>
              <a:ext cx="1123920" cy="1123920"/>
              <a:chOff x="5457960" y="1800360"/>
              <a:chExt cx="1123920" cy="112392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5457960" y="1800360"/>
                <a:ext cx="1123920" cy="1123920"/>
                <a:chOff x="5457960" y="1800360"/>
                <a:chExt cx="1123920" cy="1123920"/>
              </a:xfrm>
            </p:grpSpPr>
            <p:sp>
              <p:nvSpPr>
                <p:cNvPr id="86" name=""/>
                <p:cNvSpPr/>
                <p:nvPr/>
              </p:nvSpPr>
              <p:spPr>
                <a:xfrm rot="921600">
                  <a:off x="5562720" y="1905120"/>
                  <a:ext cx="914400" cy="914400"/>
                </a:xfrm>
                <a:prstGeom prst="sun">
                  <a:avLst>
                    <a:gd name="adj" fmla="val 21875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21033000">
                  <a:off x="5562360" y="1904760"/>
                  <a:ext cx="914400" cy="914400"/>
                </a:xfrm>
                <a:prstGeom prst="sun">
                  <a:avLst>
                    <a:gd name="adj" fmla="val 17842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" name=""/>
              <p:cNvSpPr/>
              <p:nvPr/>
            </p:nvSpPr>
            <p:spPr>
              <a:xfrm rot="921600">
                <a:off x="5638680" y="1981080"/>
                <a:ext cx="762120" cy="7621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6019920" y="18288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0" y="18288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86400" y="23623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592720" y="2209680"/>
            <a:ext cx="349920" cy="780120"/>
            <a:chOff x="2592720" y="2209680"/>
            <a:chExt cx="349920" cy="780120"/>
          </a:xfrm>
        </p:grpSpPr>
        <p:sp>
          <p:nvSpPr>
            <p:cNvPr id="93" name=""/>
            <p:cNvSpPr/>
            <p:nvPr/>
          </p:nvSpPr>
          <p:spPr>
            <a:xfrm>
              <a:off x="2743200" y="2209680"/>
              <a:ext cx="0" cy="381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92720" y="2590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981080" y="1676520"/>
            <a:ext cx="1828800" cy="1066680"/>
            <a:chOff x="1981080" y="1676520"/>
            <a:chExt cx="1828800" cy="1066680"/>
          </a:xfrm>
        </p:grpSpPr>
        <p:sp>
          <p:nvSpPr>
            <p:cNvPr id="96" name=""/>
            <p:cNvSpPr/>
            <p:nvPr/>
          </p:nvSpPr>
          <p:spPr>
            <a:xfrm>
              <a:off x="1981080" y="1828800"/>
              <a:ext cx="76212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43200" y="1752480"/>
              <a:ext cx="9144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981080" y="1676520"/>
              <a:ext cx="1828800" cy="1066680"/>
              <a:chOff x="1981080" y="1676520"/>
              <a:chExt cx="1828800" cy="1066680"/>
            </a:xfrm>
          </p:grpSpPr>
          <p:sp>
            <p:nvSpPr>
              <p:cNvPr id="99" name=""/>
              <p:cNvSpPr/>
              <p:nvPr/>
            </p:nvSpPr>
            <p:spPr>
              <a:xfrm>
                <a:off x="2361960" y="167652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200400" y="167652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981080" y="220968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1219320" y="1690560"/>
            <a:ext cx="761760" cy="519120"/>
            <a:chOff x="1219320" y="1690560"/>
            <a:chExt cx="761760" cy="519120"/>
          </a:xfrm>
        </p:grpSpPr>
        <p:sp>
          <p:nvSpPr>
            <p:cNvPr id="103" name=""/>
            <p:cNvSpPr/>
            <p:nvPr/>
          </p:nvSpPr>
          <p:spPr>
            <a:xfrm>
              <a:off x="1219320" y="2209680"/>
              <a:ext cx="76176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38200" y="1690560"/>
              <a:ext cx="43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c0000"/>
                  </a:solidFill>
                  <a:latin typeface="Times New Roman"/>
                </a:rPr>
                <a:t>F</a:t>
              </a:r>
              <a:r>
                <a:rPr b="1" i="1" lang="ru-RU" sz="2000" spc="-1" strike="noStrike" baseline="-25000">
                  <a:solidFill>
                    <a:srgbClr val="cc0000"/>
                  </a:solidFill>
                  <a:latin typeface="Times New Roman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986480" y="1905120"/>
            <a:ext cx="604080" cy="671400"/>
            <a:chOff x="1986480" y="1905120"/>
            <a:chExt cx="604080" cy="671400"/>
          </a:xfrm>
        </p:grpSpPr>
        <p:sp>
          <p:nvSpPr>
            <p:cNvPr id="106" name=""/>
            <p:cNvSpPr/>
            <p:nvPr/>
          </p:nvSpPr>
          <p:spPr>
            <a:xfrm>
              <a:off x="2057400" y="1905120"/>
              <a:ext cx="533160" cy="6714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213" y="10782"/>
                  </a:moveTo>
                  <a:arcTo wR="-8587" hR="-8587" stAng="-10792794" swAng="-10807206"/>
                  <a:lnTo>
                    <a:pt x="0" y="10800"/>
                  </a:lnTo>
                  <a:arcTo wR="10800" hR="10800" stAng="10800000" swAng="10807206"/>
                  <a:lnTo>
                    <a:pt x="24300" y="10828"/>
                  </a:lnTo>
                  <a:lnTo>
                    <a:pt x="20485" y="14627"/>
                  </a:lnTo>
                  <a:lnTo>
                    <a:pt x="16687" y="10812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86480" y="2133720"/>
              <a:ext cx="43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971440" y="1905120"/>
            <a:ext cx="664920" cy="671400"/>
            <a:chOff x="2971440" y="1905120"/>
            <a:chExt cx="664920" cy="671400"/>
          </a:xfrm>
        </p:grpSpPr>
        <p:sp>
          <p:nvSpPr>
            <p:cNvPr id="109" name=""/>
            <p:cNvSpPr/>
            <p:nvPr/>
          </p:nvSpPr>
          <p:spPr>
            <a:xfrm>
              <a:off x="3205800" y="2133720"/>
              <a:ext cx="43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971080" y="1905120"/>
              <a:ext cx="533160" cy="671400"/>
            </a:xfrm>
            <a:custGeom>
              <a:avLst/>
              <a:gdLst>
                <a:gd name="textAreaLeft" fmla="*/ -360 w 533160"/>
                <a:gd name="textAreaRight" fmla="*/ 533160 w 53316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213" y="10782"/>
                  </a:moveTo>
                  <a:arcTo wR="-8587" hR="-8587" stAng="-10792794" swAng="-10807206"/>
                  <a:lnTo>
                    <a:pt x="0" y="10800"/>
                  </a:lnTo>
                  <a:arcTo wR="10800" hR="10800" stAng="10800000" swAng="10807206"/>
                  <a:lnTo>
                    <a:pt x="24300" y="10828"/>
                  </a:lnTo>
                  <a:lnTo>
                    <a:pt x="20485" y="14627"/>
                  </a:lnTo>
                  <a:lnTo>
                    <a:pt x="16687" y="10812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15000" y="2057400"/>
            <a:ext cx="1502640" cy="671400"/>
            <a:chOff x="5715000" y="2057400"/>
            <a:chExt cx="1502640" cy="671400"/>
          </a:xfrm>
        </p:grpSpPr>
        <p:sp>
          <p:nvSpPr>
            <p:cNvPr id="112" name=""/>
            <p:cNvSpPr/>
            <p:nvPr/>
          </p:nvSpPr>
          <p:spPr>
            <a:xfrm flipH="1">
              <a:off x="6629400" y="2057400"/>
              <a:ext cx="533520" cy="671400"/>
            </a:xfrm>
            <a:custGeom>
              <a:avLst/>
              <a:gdLst>
                <a:gd name="textAreaLeft" fmla="*/ 360 w 533520"/>
                <a:gd name="textAreaRight" fmla="*/ 534240 w 53352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213" y="10782"/>
                  </a:moveTo>
                  <a:arcTo wR="-8587" hR="-8587" stAng="-10792794" swAng="-10807206"/>
                  <a:lnTo>
                    <a:pt x="0" y="10800"/>
                  </a:lnTo>
                  <a:arcTo wR="10800" hR="10800" stAng="10800000" swAng="10807206"/>
                  <a:lnTo>
                    <a:pt x="24300" y="10828"/>
                  </a:lnTo>
                  <a:lnTo>
                    <a:pt x="20485" y="14627"/>
                  </a:lnTo>
                  <a:lnTo>
                    <a:pt x="16687" y="10812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15000" y="2057400"/>
              <a:ext cx="533520" cy="6714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213" y="10782"/>
                  </a:moveTo>
                  <a:arcTo wR="-8587" hR="-8587" stAng="-10792794" swAng="-10807206"/>
                  <a:lnTo>
                    <a:pt x="0" y="10800"/>
                  </a:lnTo>
                  <a:arcTo wR="10800" hR="10800" stAng="10800000" swAng="10807206"/>
                  <a:lnTo>
                    <a:pt x="24300" y="10828"/>
                  </a:lnTo>
                  <a:lnTo>
                    <a:pt x="20485" y="14627"/>
                  </a:lnTo>
                  <a:lnTo>
                    <a:pt x="16687" y="10812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87080" y="2286000"/>
              <a:ext cx="43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20400" y="2286000"/>
              <a:ext cx="43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 txBox="1"/>
          <p:nvPr/>
        </p:nvSpPr>
        <p:spPr>
          <a:xfrm rot="79800">
            <a:off x="6019560" y="1143000"/>
            <a:ext cx="137160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ЗУБЧАТ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19920" y="5715000"/>
            <a:ext cx="111420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ЦЕПН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377320" y="4388760"/>
            <a:ext cx="2593080" cy="976680"/>
            <a:chOff x="5377320" y="4388760"/>
            <a:chExt cx="2593080" cy="976680"/>
          </a:xfrm>
        </p:grpSpPr>
        <p:grpSp>
          <p:nvGrpSpPr>
            <p:cNvPr id="119" name=""/>
            <p:cNvGrpSpPr/>
            <p:nvPr/>
          </p:nvGrpSpPr>
          <p:grpSpPr>
            <a:xfrm>
              <a:off x="5377320" y="4388760"/>
              <a:ext cx="2593080" cy="976680"/>
              <a:chOff x="5377320" y="4388760"/>
              <a:chExt cx="2593080" cy="976680"/>
            </a:xfrm>
          </p:grpSpPr>
          <p:sp>
            <p:nvSpPr>
              <p:cNvPr id="120" name=""/>
              <p:cNvSpPr/>
              <p:nvPr/>
            </p:nvSpPr>
            <p:spPr>
              <a:xfrm rot="4836600">
                <a:off x="7269840" y="4538880"/>
                <a:ext cx="621000" cy="687240"/>
              </a:xfrm>
              <a:prstGeom prst="blockArc">
                <a:avLst>
                  <a:gd name="adj1" fmla="val 10922065"/>
                  <a:gd name="adj2" fmla="val 21477935"/>
                  <a:gd name="adj3" fmla="val 605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5956400">
                <a:off x="5408280" y="4419720"/>
                <a:ext cx="914400" cy="914400"/>
              </a:xfrm>
              <a:prstGeom prst="blockArc">
                <a:avLst>
                  <a:gd name="adj1" fmla="val 9108395"/>
                  <a:gd name="adj2" fmla="val 1691605"/>
                  <a:gd name="adj3" fmla="val 381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42160" y="4419720"/>
                <a:ext cx="15238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5942160" y="5181480"/>
                <a:ext cx="16002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489640" y="4572000"/>
              <a:ext cx="2432520" cy="745560"/>
              <a:chOff x="5489640" y="4572000"/>
              <a:chExt cx="2432520" cy="745560"/>
            </a:xfrm>
          </p:grpSpPr>
          <p:sp>
            <p:nvSpPr>
              <p:cNvPr id="125" name=""/>
              <p:cNvSpPr/>
              <p:nvPr/>
            </p:nvSpPr>
            <p:spPr>
              <a:xfrm>
                <a:off x="5489640" y="4876920"/>
                <a:ext cx="430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ru-RU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560200" y="4572000"/>
                <a:ext cx="533160" cy="67176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671760"/>
                  <a:gd name="textAreaBottom" fmla="*/ 672120 h 67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213" y="10782"/>
                    </a:moveTo>
                    <a:arcTo wR="-8587" hR="-8587" stAng="-10792794" swAng="-10807206"/>
                    <a:lnTo>
                      <a:pt x="0" y="10800"/>
                    </a:lnTo>
                    <a:arcTo wR="10800" hR="10800" stAng="10800000" swAng="10807206"/>
                    <a:lnTo>
                      <a:pt x="24300" y="10828"/>
                    </a:lnTo>
                    <a:lnTo>
                      <a:pt x="20485" y="14627"/>
                    </a:lnTo>
                    <a:lnTo>
                      <a:pt x="16687" y="10812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313040" y="4800600"/>
                <a:ext cx="6091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ru-RU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313040" y="4648320"/>
                <a:ext cx="456840" cy="59544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595440"/>
                  <a:gd name="textAreaBottom" fmla="*/ 595800 h 59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830" y="13939"/>
                    </a:moveTo>
                    <a:arcTo wR="-8566" hR="-8566" stAng="9510320" swAng="-8492618"/>
                    <a:lnTo>
                      <a:pt x="470" y="7649"/>
                    </a:lnTo>
                    <a:arcTo wR="10800" hR="10800" stAng="-9782298" swAng="8492618"/>
                    <a:lnTo>
                      <a:pt x="23361" y="5853"/>
                    </a:lnTo>
                    <a:lnTo>
                      <a:pt x="21208" y="10804"/>
                    </a:lnTo>
                    <a:lnTo>
                      <a:pt x="16258" y="8651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705240" y="6019920"/>
            <a:ext cx="1453320" cy="579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32720" y="6019920"/>
            <a:ext cx="2338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передаточн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отно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6120" y="6019920"/>
            <a:ext cx="2520360" cy="579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 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4T14:45:54Z</dcterms:created>
  <dc:creator>Довольный пользователь Microsoft Office</dc:creator>
  <dc:description/>
  <dc:language>en-US</dc:language>
  <cp:lastModifiedBy>Владимир Жуков</cp:lastModifiedBy>
  <dcterms:modified xsi:type="dcterms:W3CDTF">2002-01-19T19:26:04Z</dcterms:modified>
  <cp:revision>10</cp:revision>
  <dc:subject/>
  <dc:title>Заголовок слайда отсутствует</dc:title>
</cp:coreProperties>
</file>