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6A6-0287-4D1C-8E29-82CEC4CB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3FF-0B52-4B4B-B55A-3B49C179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980-2D0C-4B15-9DC8-A3495335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2F9-A762-4F49-BA0B-BE5BC374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D3A-57A9-4B34-A74A-FB988EF5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422-9540-46AC-85FB-1B954090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E00-F628-435E-A9C7-3CA4B14B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2DF-3A6B-4A4B-BAE9-684C8E6E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C2A-19E5-46FF-AE29-89E286C7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743-B2AC-4F6D-8EA0-900324AE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5A9-23F6-4E5E-8BC8-1898B101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507-3B26-4131-8E7A-20829B96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4C71-6242-42EE-BE4E-CDFC857E4A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133720" y="304920"/>
            <a:ext cx="2286000" cy="3200400"/>
            <a:chOff x="2133720" y="304920"/>
            <a:chExt cx="2286000" cy="3200400"/>
          </a:xfrm>
        </p:grpSpPr>
        <p:grpSp>
          <p:nvGrpSpPr>
            <p:cNvPr id="42" name=""/>
            <p:cNvGrpSpPr/>
            <p:nvPr/>
          </p:nvGrpSpPr>
          <p:grpSpPr>
            <a:xfrm>
              <a:off x="2286360" y="304920"/>
              <a:ext cx="1828800" cy="3200400"/>
              <a:chOff x="2286360" y="304920"/>
              <a:chExt cx="1828800" cy="32004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2286360" y="2666880"/>
                <a:ext cx="1828800" cy="838440"/>
                <a:chOff x="2286360" y="2666880"/>
                <a:chExt cx="1828800" cy="83844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2362680" y="2666880"/>
                  <a:ext cx="1676160" cy="60984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2362680" y="3276720"/>
                  <a:ext cx="167616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286360" y="3429000"/>
                  <a:ext cx="182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2286360" y="304920"/>
                <a:ext cx="1828800" cy="838080"/>
                <a:chOff x="2286360" y="304920"/>
                <a:chExt cx="1828800" cy="8380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2362680" y="533520"/>
                  <a:ext cx="1676160" cy="6094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362680" y="304920"/>
                  <a:ext cx="167616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286360" y="380880"/>
                  <a:ext cx="182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" name=""/>
            <p:cNvSpPr/>
            <p:nvPr/>
          </p:nvSpPr>
          <p:spPr>
            <a:xfrm>
              <a:off x="2133720" y="19051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38840" y="762120"/>
              <a:ext cx="380880" cy="60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62320" y="114336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362320" y="838440"/>
              <a:ext cx="1981080" cy="457200"/>
              <a:chOff x="2362320" y="838440"/>
              <a:chExt cx="1981080" cy="457200"/>
            </a:xfrm>
          </p:grpSpPr>
          <p:sp>
            <p:nvSpPr>
              <p:cNvPr id="55" name=""/>
              <p:cNvSpPr/>
              <p:nvPr/>
            </p:nvSpPr>
            <p:spPr>
              <a:xfrm>
                <a:off x="2362320" y="1067040"/>
                <a:ext cx="19810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513880" y="991080"/>
                <a:ext cx="1600200" cy="759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2362320" y="990720"/>
                <a:ext cx="175248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4343400" y="91476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4114800" y="83844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114800" y="83844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267080" y="838440"/>
                <a:ext cx="7632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038840" y="762120"/>
              <a:ext cx="380880" cy="60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840" y="68616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62320" y="106704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62320" y="114336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143000" y="-533880"/>
            <a:ext cx="3619440" cy="3734280"/>
            <a:chOff x="1143000" y="-533880"/>
            <a:chExt cx="3619440" cy="3734280"/>
          </a:xfrm>
        </p:grpSpPr>
        <p:sp>
          <p:nvSpPr>
            <p:cNvPr id="67" name=""/>
            <p:cNvSpPr/>
            <p:nvPr/>
          </p:nvSpPr>
          <p:spPr>
            <a:xfrm>
              <a:off x="1447920" y="914400"/>
              <a:ext cx="914400" cy="19051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62320" y="1143000"/>
              <a:ext cx="2057400" cy="15238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43000" y="762120"/>
              <a:ext cx="22860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23880" y="190512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6000" y="1143000"/>
              <a:ext cx="21337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6520" y="914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86080" y="825480"/>
              <a:ext cx="3276360" cy="787320"/>
            </a:xfrm>
            <a:custGeom>
              <a:avLst/>
              <a:gdLst/>
              <a:ahLst/>
              <a:rect l="l" t="t" r="r" b="b"/>
              <a:pathLst>
                <a:path w="2064" h="496">
                  <a:moveTo>
                    <a:pt x="24" y="56"/>
                  </a:moveTo>
                  <a:cubicBezTo>
                    <a:pt x="48" y="112"/>
                    <a:pt x="160" y="328"/>
                    <a:pt x="216" y="392"/>
                  </a:cubicBezTo>
                  <a:cubicBezTo>
                    <a:pt x="272" y="456"/>
                    <a:pt x="304" y="424"/>
                    <a:pt x="360" y="440"/>
                  </a:cubicBezTo>
                  <a:cubicBezTo>
                    <a:pt x="416" y="456"/>
                    <a:pt x="496" y="480"/>
                    <a:pt x="552" y="488"/>
                  </a:cubicBezTo>
                  <a:cubicBezTo>
                    <a:pt x="608" y="496"/>
                    <a:pt x="632" y="488"/>
                    <a:pt x="696" y="488"/>
                  </a:cubicBezTo>
                  <a:cubicBezTo>
                    <a:pt x="760" y="488"/>
                    <a:pt x="864" y="496"/>
                    <a:pt x="936" y="488"/>
                  </a:cubicBezTo>
                  <a:cubicBezTo>
                    <a:pt x="1008" y="480"/>
                    <a:pt x="1048" y="440"/>
                    <a:pt x="1128" y="440"/>
                  </a:cubicBezTo>
                  <a:cubicBezTo>
                    <a:pt x="1208" y="440"/>
                    <a:pt x="1328" y="480"/>
                    <a:pt x="1416" y="488"/>
                  </a:cubicBezTo>
                  <a:cubicBezTo>
                    <a:pt x="1504" y="496"/>
                    <a:pt x="1600" y="488"/>
                    <a:pt x="1656" y="488"/>
                  </a:cubicBezTo>
                  <a:cubicBezTo>
                    <a:pt x="1712" y="488"/>
                    <a:pt x="1720" y="496"/>
                    <a:pt x="1752" y="488"/>
                  </a:cubicBezTo>
                  <a:cubicBezTo>
                    <a:pt x="1784" y="480"/>
                    <a:pt x="1832" y="472"/>
                    <a:pt x="1848" y="440"/>
                  </a:cubicBezTo>
                  <a:cubicBezTo>
                    <a:pt x="1864" y="408"/>
                    <a:pt x="2064" y="320"/>
                    <a:pt x="1848" y="296"/>
                  </a:cubicBezTo>
                  <a:cubicBezTo>
                    <a:pt x="1632" y="272"/>
                    <a:pt x="824" y="312"/>
                    <a:pt x="552" y="296"/>
                  </a:cubicBezTo>
                  <a:cubicBezTo>
                    <a:pt x="280" y="280"/>
                    <a:pt x="296" y="240"/>
                    <a:pt x="216" y="200"/>
                  </a:cubicBezTo>
                  <a:cubicBezTo>
                    <a:pt x="136" y="160"/>
                    <a:pt x="104" y="80"/>
                    <a:pt x="72" y="56"/>
                  </a:cubicBezTo>
                  <a:cubicBezTo>
                    <a:pt x="40" y="32"/>
                    <a:pt x="0" y="0"/>
                    <a:pt x="24" y="56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1219320"/>
              <a:ext cx="152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19720" y="1143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47920" y="533520"/>
              <a:ext cx="2286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1446840" y="-533880"/>
              <a:ext cx="18284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3030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303096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1447920" y="914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514600" y="838080"/>
            <a:ext cx="1828800" cy="457200"/>
            <a:chOff x="2514600" y="838080"/>
            <a:chExt cx="1828800" cy="457200"/>
          </a:xfrm>
        </p:grpSpPr>
        <p:grpSp>
          <p:nvGrpSpPr>
            <p:cNvPr id="80" name=""/>
            <p:cNvGrpSpPr/>
            <p:nvPr/>
          </p:nvGrpSpPr>
          <p:grpSpPr>
            <a:xfrm>
              <a:off x="2514600" y="838080"/>
              <a:ext cx="1828800" cy="457200"/>
              <a:chOff x="2514600" y="838080"/>
              <a:chExt cx="1828800" cy="457200"/>
            </a:xfrm>
          </p:grpSpPr>
          <p:sp>
            <p:nvSpPr>
              <p:cNvPr id="81" name=""/>
              <p:cNvSpPr/>
              <p:nvPr/>
            </p:nvSpPr>
            <p:spPr>
              <a:xfrm>
                <a:off x="2514600" y="1066680"/>
                <a:ext cx="18288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2654280" y="990720"/>
                <a:ext cx="1477080" cy="759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514600" y="990360"/>
                <a:ext cx="161748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4343400" y="91440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4132080" y="8380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132080" y="83808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272840" y="838080"/>
                <a:ext cx="7020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2514600" y="1066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14600" y="12952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809880" y="838080"/>
            <a:ext cx="1828800" cy="457200"/>
            <a:chOff x="3809880" y="838080"/>
            <a:chExt cx="1828800" cy="457200"/>
          </a:xfrm>
        </p:grpSpPr>
        <p:grpSp>
          <p:nvGrpSpPr>
            <p:cNvPr id="91" name=""/>
            <p:cNvGrpSpPr/>
            <p:nvPr/>
          </p:nvGrpSpPr>
          <p:grpSpPr>
            <a:xfrm>
              <a:off x="3809880" y="838080"/>
              <a:ext cx="1828800" cy="457200"/>
              <a:chOff x="3809880" y="838080"/>
              <a:chExt cx="1828800" cy="457200"/>
            </a:xfrm>
          </p:grpSpPr>
          <p:sp>
            <p:nvSpPr>
              <p:cNvPr id="92" name=""/>
              <p:cNvSpPr/>
              <p:nvPr/>
            </p:nvSpPr>
            <p:spPr>
              <a:xfrm>
                <a:off x="3809880" y="1066680"/>
                <a:ext cx="18288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3949560" y="990720"/>
                <a:ext cx="1477080" cy="759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3809880" y="990360"/>
                <a:ext cx="161748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5638680" y="91440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5427360" y="8380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27360" y="83808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68120" y="838080"/>
                <a:ext cx="7020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809880" y="1066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12952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352680" y="838080"/>
            <a:ext cx="1828800" cy="457200"/>
            <a:chOff x="3352680" y="838080"/>
            <a:chExt cx="1828800" cy="457200"/>
          </a:xfrm>
        </p:grpSpPr>
        <p:grpSp>
          <p:nvGrpSpPr>
            <p:cNvPr id="102" name=""/>
            <p:cNvGrpSpPr/>
            <p:nvPr/>
          </p:nvGrpSpPr>
          <p:grpSpPr>
            <a:xfrm>
              <a:off x="3352680" y="838080"/>
              <a:ext cx="1828800" cy="457200"/>
              <a:chOff x="3352680" y="838080"/>
              <a:chExt cx="1828800" cy="4572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1066680"/>
                <a:ext cx="18288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492360" y="990720"/>
                <a:ext cx="1477080" cy="759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3352680" y="990360"/>
                <a:ext cx="161748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5181480" y="91440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4970160" y="8380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70160" y="83808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10920" y="838080"/>
                <a:ext cx="7020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3352680" y="1066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2680" y="12952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971800" y="838080"/>
            <a:ext cx="1828800" cy="457200"/>
            <a:chOff x="2971800" y="838080"/>
            <a:chExt cx="1828800" cy="457200"/>
          </a:xfrm>
        </p:grpSpPr>
        <p:grpSp>
          <p:nvGrpSpPr>
            <p:cNvPr id="113" name=""/>
            <p:cNvGrpSpPr/>
            <p:nvPr/>
          </p:nvGrpSpPr>
          <p:grpSpPr>
            <a:xfrm>
              <a:off x="2971800" y="838080"/>
              <a:ext cx="1828800" cy="457200"/>
              <a:chOff x="2971800" y="838080"/>
              <a:chExt cx="1828800" cy="457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971800" y="1066680"/>
                <a:ext cx="18288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111480" y="990720"/>
                <a:ext cx="1477080" cy="759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971800" y="990360"/>
                <a:ext cx="161748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4800600" y="91440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4589280" y="8380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89280" y="83808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30040" y="838080"/>
                <a:ext cx="7020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2971800" y="1066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12952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486400" y="152280"/>
            <a:ext cx="3581280" cy="3581640"/>
            <a:chOff x="5486400" y="152280"/>
            <a:chExt cx="3581280" cy="3581640"/>
          </a:xfrm>
        </p:grpSpPr>
        <p:grpSp>
          <p:nvGrpSpPr>
            <p:cNvPr id="124" name=""/>
            <p:cNvGrpSpPr/>
            <p:nvPr/>
          </p:nvGrpSpPr>
          <p:grpSpPr>
            <a:xfrm>
              <a:off x="5486400" y="304920"/>
              <a:ext cx="3581280" cy="3200400"/>
              <a:chOff x="5486400" y="304920"/>
              <a:chExt cx="3581280" cy="3200400"/>
            </a:xfrm>
          </p:grpSpPr>
          <p:sp>
            <p:nvSpPr>
              <p:cNvPr id="125" name=""/>
              <p:cNvSpPr/>
              <p:nvPr/>
            </p:nvSpPr>
            <p:spPr>
              <a:xfrm rot="10800000">
                <a:off x="5867280" y="533160"/>
                <a:ext cx="2743200" cy="27432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400000">
                <a:off x="6553080" y="1142640"/>
                <a:ext cx="1523880" cy="152424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86600" y="990720"/>
                <a:ext cx="4572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5400000">
                <a:off x="5638680" y="304560"/>
                <a:ext cx="3200400" cy="3200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15000" y="380880"/>
                <a:ext cx="3048120" cy="3048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86400" y="1905120"/>
                <a:ext cx="358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2920" y="990720"/>
                <a:ext cx="30456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7315200" y="152280"/>
              <a:ext cx="0" cy="3581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0"/>
            <a:ext cx="683640" cy="3657600"/>
            <a:chOff x="3886200" y="0"/>
            <a:chExt cx="683640" cy="3657600"/>
          </a:xfrm>
        </p:grpSpPr>
        <p:sp>
          <p:nvSpPr>
            <p:cNvPr id="134" name=""/>
            <p:cNvSpPr/>
            <p:nvPr/>
          </p:nvSpPr>
          <p:spPr>
            <a:xfrm>
              <a:off x="3886200" y="29718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86200" y="763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69520" y="3124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6960" y="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8155800" y="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-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0" y="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9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62120" y="-34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1640" y="3352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60" y="533520"/>
            <a:ext cx="3504960" cy="627480"/>
            <a:chOff x="360" y="533520"/>
            <a:chExt cx="3504960" cy="627480"/>
          </a:xfrm>
        </p:grpSpPr>
        <p:sp>
          <p:nvSpPr>
            <p:cNvPr id="143" name=""/>
            <p:cNvSpPr/>
            <p:nvPr/>
          </p:nvSpPr>
          <p:spPr>
            <a:xfrm>
              <a:off x="360" y="533520"/>
              <a:ext cx="12931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пон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линова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9320" y="762120"/>
              <a:ext cx="2286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295280" y="838080"/>
            <a:ext cx="228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31400" y="35812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-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523880" y="3809880"/>
            <a:ext cx="3200400" cy="2819160"/>
            <a:chOff x="1523880" y="3809880"/>
            <a:chExt cx="3200400" cy="2819160"/>
          </a:xfrm>
        </p:grpSpPr>
        <p:grpSp>
          <p:nvGrpSpPr>
            <p:cNvPr id="148" name=""/>
            <p:cNvGrpSpPr/>
            <p:nvPr/>
          </p:nvGrpSpPr>
          <p:grpSpPr>
            <a:xfrm>
              <a:off x="2286000" y="5791320"/>
              <a:ext cx="1828800" cy="837720"/>
              <a:chOff x="2286000" y="5791320"/>
              <a:chExt cx="1828800" cy="837720"/>
            </a:xfrm>
          </p:grpSpPr>
          <p:sp>
            <p:nvSpPr>
              <p:cNvPr id="149" name=""/>
              <p:cNvSpPr/>
              <p:nvPr/>
            </p:nvSpPr>
            <p:spPr>
              <a:xfrm>
                <a:off x="2362320" y="5791320"/>
                <a:ext cx="1676160" cy="6094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62320" y="6400800"/>
                <a:ext cx="1676160" cy="22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86000" y="65530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286000" y="3809880"/>
              <a:ext cx="1828800" cy="838080"/>
              <a:chOff x="2286000" y="3809880"/>
              <a:chExt cx="1828800" cy="838080"/>
            </a:xfrm>
          </p:grpSpPr>
          <p:sp>
            <p:nvSpPr>
              <p:cNvPr id="153" name=""/>
              <p:cNvSpPr/>
              <p:nvPr/>
            </p:nvSpPr>
            <p:spPr>
              <a:xfrm>
                <a:off x="2362320" y="4038480"/>
                <a:ext cx="1676160" cy="6094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3809880"/>
                <a:ext cx="167616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86000" y="388584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038480" y="4114800"/>
              <a:ext cx="38124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8480" y="4114800"/>
              <a:ext cx="38124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40384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2320" y="441972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4572000"/>
              <a:ext cx="2057400" cy="14479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8800" y="4724280"/>
              <a:ext cx="304920" cy="10670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91120" y="4724280"/>
              <a:ext cx="304560" cy="10670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00200" y="4648320"/>
              <a:ext cx="30492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19720" y="4648320"/>
              <a:ext cx="30456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33720" y="5105520"/>
              <a:ext cx="2057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23880" y="52578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86000" y="5257440"/>
            <a:ext cx="1828800" cy="228960"/>
            <a:chOff x="2286000" y="5257440"/>
            <a:chExt cx="1828800" cy="228960"/>
          </a:xfrm>
        </p:grpSpPr>
        <p:sp>
          <p:nvSpPr>
            <p:cNvPr id="168" name=""/>
            <p:cNvSpPr/>
            <p:nvPr/>
          </p:nvSpPr>
          <p:spPr>
            <a:xfrm flipH="1" flipV="1">
              <a:off x="2286000" y="5257440"/>
              <a:ext cx="1828800" cy="5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86000" y="548640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148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30600" y="3581280"/>
            <a:ext cx="684000" cy="3200400"/>
            <a:chOff x="1830600" y="3581280"/>
            <a:chExt cx="684000" cy="3200400"/>
          </a:xfrm>
        </p:grpSpPr>
        <p:sp>
          <p:nvSpPr>
            <p:cNvPr id="173" name=""/>
            <p:cNvSpPr/>
            <p:nvPr/>
          </p:nvSpPr>
          <p:spPr>
            <a:xfrm>
              <a:off x="2514600" y="62485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14600" y="3657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30600" y="617220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6560" y="358128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791320" y="3657600"/>
            <a:ext cx="3047760" cy="3200400"/>
            <a:chOff x="5791320" y="3657600"/>
            <a:chExt cx="3047760" cy="3200400"/>
          </a:xfrm>
        </p:grpSpPr>
        <p:sp>
          <p:nvSpPr>
            <p:cNvPr id="178" name=""/>
            <p:cNvSpPr/>
            <p:nvPr/>
          </p:nvSpPr>
          <p:spPr>
            <a:xfrm rot="5400000">
              <a:off x="6172200" y="4114800"/>
              <a:ext cx="2286000" cy="22860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6629400" y="4572000"/>
              <a:ext cx="1371600" cy="13716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5981760" y="3924360"/>
              <a:ext cx="2666880" cy="259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0800000">
              <a:off x="5867280" y="3733560"/>
              <a:ext cx="2895840" cy="297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91320" y="525780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15200" y="365760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7064280" y="4415760"/>
              <a:ext cx="578520" cy="387000"/>
              <a:chOff x="7064280" y="4415760"/>
              <a:chExt cx="578520" cy="387000"/>
            </a:xfrm>
          </p:grpSpPr>
          <p:sp>
            <p:nvSpPr>
              <p:cNvPr id="185" name=""/>
              <p:cNvSpPr/>
              <p:nvPr/>
            </p:nvSpPr>
            <p:spPr>
              <a:xfrm rot="9681600">
                <a:off x="7086600" y="4494960"/>
                <a:ext cx="533520" cy="22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7252920" y="4543200"/>
                <a:ext cx="34200" cy="1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766640" y="4930200"/>
              <a:ext cx="392760" cy="579240"/>
              <a:chOff x="7766640" y="4930200"/>
              <a:chExt cx="392760" cy="579240"/>
            </a:xfrm>
          </p:grpSpPr>
          <p:sp>
            <p:nvSpPr>
              <p:cNvPr id="188" name=""/>
              <p:cNvSpPr/>
              <p:nvPr/>
            </p:nvSpPr>
            <p:spPr>
              <a:xfrm rot="17364600">
                <a:off x="7696080" y="5105520"/>
                <a:ext cx="533520" cy="22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924680" y="5105520"/>
                <a:ext cx="15264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2286000" y="441972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478200" y="4103640"/>
            <a:ext cx="1991880" cy="1994400"/>
            <a:chOff x="6478200" y="4103640"/>
            <a:chExt cx="1991880" cy="1994400"/>
          </a:xfrm>
        </p:grpSpPr>
        <p:sp>
          <p:nvSpPr>
            <p:cNvPr id="192" name=""/>
            <p:cNvSpPr/>
            <p:nvPr/>
          </p:nvSpPr>
          <p:spPr>
            <a:xfrm flipH="1" flipV="1">
              <a:off x="6933960" y="4266720"/>
              <a:ext cx="1522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541008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78200" y="4270320"/>
              <a:ext cx="1827360" cy="182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08" y="1122"/>
                  </a:moveTo>
                  <a:arcTo wR="10800" hR="10800" stAng="-6980556" swAng="8685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6008" y="1122"/>
                  </a:moveTo>
                  <a:arcTo wR="10800" hR="10800" stAng="-6980556" swAng="8685597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009920" y="426708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229600" y="53341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643600">
              <a:off x="7789680" y="4266360"/>
              <a:ext cx="630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0" y="3946680"/>
            <a:ext cx="2514240" cy="1463400"/>
            <a:chOff x="360" y="3946680"/>
            <a:chExt cx="2514240" cy="1463400"/>
          </a:xfrm>
        </p:grpSpPr>
        <p:sp>
          <p:nvSpPr>
            <p:cNvPr id="199" name=""/>
            <p:cNvSpPr/>
            <p:nvPr/>
          </p:nvSpPr>
          <p:spPr>
            <a:xfrm>
              <a:off x="360" y="3946680"/>
              <a:ext cx="2064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понка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тангенциальна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3880" y="4495680"/>
              <a:ext cx="9907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657600" y="5105160"/>
            <a:ext cx="1828800" cy="228960"/>
            <a:chOff x="3657600" y="5105160"/>
            <a:chExt cx="1828800" cy="228960"/>
          </a:xfrm>
        </p:grpSpPr>
        <p:sp>
          <p:nvSpPr>
            <p:cNvPr id="202" name=""/>
            <p:cNvSpPr/>
            <p:nvPr/>
          </p:nvSpPr>
          <p:spPr>
            <a:xfrm>
              <a:off x="3657600" y="5276880"/>
              <a:ext cx="1828800" cy="5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486400" y="51051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7600" y="510516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657600" y="5105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200400" y="5105160"/>
            <a:ext cx="1828800" cy="228960"/>
            <a:chOff x="3200400" y="5105160"/>
            <a:chExt cx="1828800" cy="228960"/>
          </a:xfrm>
        </p:grpSpPr>
        <p:sp>
          <p:nvSpPr>
            <p:cNvPr id="207" name=""/>
            <p:cNvSpPr/>
            <p:nvPr/>
          </p:nvSpPr>
          <p:spPr>
            <a:xfrm>
              <a:off x="3200400" y="5276880"/>
              <a:ext cx="1828800" cy="5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029200" y="51051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00400" y="510516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200400" y="5105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895480" y="5105160"/>
            <a:ext cx="1828800" cy="228960"/>
            <a:chOff x="2895480" y="5105160"/>
            <a:chExt cx="1828800" cy="228960"/>
          </a:xfrm>
        </p:grpSpPr>
        <p:sp>
          <p:nvSpPr>
            <p:cNvPr id="212" name=""/>
            <p:cNvSpPr/>
            <p:nvPr/>
          </p:nvSpPr>
          <p:spPr>
            <a:xfrm>
              <a:off x="2895480" y="5276880"/>
              <a:ext cx="1828800" cy="5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724280" y="51051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95480" y="510516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895480" y="5105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362320" y="5105160"/>
            <a:ext cx="1828800" cy="228960"/>
            <a:chOff x="2362320" y="5105160"/>
            <a:chExt cx="1828800" cy="228960"/>
          </a:xfrm>
        </p:grpSpPr>
        <p:sp>
          <p:nvSpPr>
            <p:cNvPr id="217" name=""/>
            <p:cNvSpPr/>
            <p:nvPr/>
          </p:nvSpPr>
          <p:spPr>
            <a:xfrm>
              <a:off x="2362320" y="5276880"/>
              <a:ext cx="1828800" cy="5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191120" y="51051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510516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362320" y="5105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8:54:28Z</dcterms:created>
  <dc:creator>Довольный пользователь Microsoft Office</dc:creator>
  <dc:description/>
  <dc:language>en-US</dc:language>
  <cp:lastModifiedBy>Довольный пользователь Microsoft Office</cp:lastModifiedBy>
  <dcterms:modified xsi:type="dcterms:W3CDTF">2001-03-18T08:33:34Z</dcterms:modified>
  <cp:revision>6</cp:revision>
  <dc:subject/>
  <dc:title>Заголовок слайда отсутствует</dc:title>
</cp:coreProperties>
</file>