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91A-C6C8-4CCE-8548-4DF6845C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C82-4E0B-4AC4-84AA-D33F721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A05-25A2-46C5-BBFF-ADA26AA9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DB1-27E0-4C71-971C-F92B8C06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853-98C6-4C45-A998-1B244913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A1C-F5D8-45A3-A0BC-C296BA3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403-3416-4604-B2BB-4BF82BE8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8F6-6FF7-4E26-B2DB-D8A1E33A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64D-1D6E-4BC3-9771-4632A069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EED-7CB8-42D6-A61D-372F5B61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9FC-1596-4E61-AEBA-0FA5FAF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2CE-EE7A-4EEB-91A6-08B5030D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C6F9-EF09-4751-A56F-F5CC203272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08200" y="-122760"/>
            <a:ext cx="2709360" cy="1464840"/>
            <a:chOff x="808200" y="-122760"/>
            <a:chExt cx="2709360" cy="1464840"/>
          </a:xfrm>
        </p:grpSpPr>
        <p:grpSp>
          <p:nvGrpSpPr>
            <p:cNvPr id="42" name=""/>
            <p:cNvGrpSpPr/>
            <p:nvPr/>
          </p:nvGrpSpPr>
          <p:grpSpPr>
            <a:xfrm>
              <a:off x="808200" y="-122760"/>
              <a:ext cx="2300760" cy="1464840"/>
              <a:chOff x="808200" y="-122760"/>
              <a:chExt cx="2300760" cy="1464840"/>
            </a:xfrm>
          </p:grpSpPr>
          <p:sp>
            <p:nvSpPr>
              <p:cNvPr id="43" name=""/>
              <p:cNvSpPr/>
              <p:nvPr/>
            </p:nvSpPr>
            <p:spPr>
              <a:xfrm rot="20920800">
                <a:off x="1064520" y="138240"/>
                <a:ext cx="1981080" cy="838080"/>
              </a:xfrm>
              <a:custGeom>
                <a:avLst/>
                <a:gdLst>
                  <a:gd name="textAreaLeft" fmla="*/ 435600 w 1981080"/>
                  <a:gd name="textAreaRight" fmla="*/ 1424880 w 1981080"/>
                  <a:gd name="textAreaTop" fmla="*/ 112320 h 838080"/>
                  <a:gd name="textAreaBottom" fmla="*/ 72576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9502" hR="21600" stAng="10800000" swAng="5400000"/>
                    <a:lnTo>
                      <a:pt x="10784" y="0"/>
                    </a:lnTo>
                    <a:arcTo wR="9502" hR="21600" stAng="-5400000" swAng="3214760"/>
                    <a:lnTo>
                      <a:pt x="21136" y="14932"/>
                    </a:lnTo>
                    <a:lnTo>
                      <a:pt x="19644" y="21600"/>
                    </a:lnTo>
                    <a:lnTo>
                      <a:pt x="17224" y="14932"/>
                    </a:lnTo>
                    <a:lnTo>
                      <a:pt x="18539" y="14932"/>
                    </a:lnTo>
                    <a:arcTo wR="9502" hR="21600" stAng="-2185240" swAng="-3112539"/>
                    <a:lnTo>
                      <a:pt x="10143" y="49"/>
                    </a:lnTo>
                    <a:arcTo wR="9502" hR="21600" stAng="-5502221" swAng="-5297779"/>
                    <a:close/>
                  </a:path>
                  <a:path fill="darkenLess" w="21600" h="21600">
                    <a:moveTo>
                      <a:pt x="0" y="21600"/>
                    </a:moveTo>
                    <a:arcTo wR="9502" hR="21600" stAng="10800000" swAng="5400000"/>
                    <a:lnTo>
                      <a:pt x="9502" y="0"/>
                    </a:lnTo>
                    <a:arcTo wR="9502" hR="21600" stAng="-5400000" swAng="102221"/>
                    <a:lnTo>
                      <a:pt x="10143" y="49"/>
                    </a:lnTo>
                    <a:arcTo wR="9502" hR="21600" stAng="-5502221" swAng="-5297779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20920800">
                <a:off x="914400" y="0"/>
                <a:ext cx="1371240" cy="121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2986560" y="103320"/>
              <a:ext cx="53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90720" y="304920"/>
            <a:ext cx="1828800" cy="1828800"/>
          </a:xfrm>
          <a:prstGeom prst="donut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343400" y="1447920"/>
            <a:ext cx="0" cy="358128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70120" y="5029200"/>
            <a:ext cx="185868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ы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33520"/>
            <a:ext cx="243828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щ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же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927600">
            <a:off x="4497840" y="396828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епятствует  смещ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6680" y="228600"/>
            <a:ext cx="1752840" cy="1981080"/>
            <a:chOff x="1066680" y="228600"/>
            <a:chExt cx="1752840" cy="1981080"/>
          </a:xfrm>
        </p:grpSpPr>
        <p:sp>
          <p:nvSpPr>
            <p:cNvPr id="52" name=""/>
            <p:cNvSpPr/>
            <p:nvPr/>
          </p:nvSpPr>
          <p:spPr>
            <a:xfrm>
              <a:off x="1447920" y="762120"/>
              <a:ext cx="914400" cy="914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12193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120" y="228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48480" y="2086920"/>
            <a:ext cx="2480760" cy="1464840"/>
            <a:chOff x="6648480" y="2086920"/>
            <a:chExt cx="2480760" cy="1464840"/>
          </a:xfrm>
        </p:grpSpPr>
        <p:grpSp>
          <p:nvGrpSpPr>
            <p:cNvPr id="56" name=""/>
            <p:cNvGrpSpPr/>
            <p:nvPr/>
          </p:nvGrpSpPr>
          <p:grpSpPr>
            <a:xfrm>
              <a:off x="6648480" y="2086920"/>
              <a:ext cx="2301480" cy="1464840"/>
              <a:chOff x="6648480" y="2086920"/>
              <a:chExt cx="2301480" cy="1464840"/>
            </a:xfrm>
          </p:grpSpPr>
          <p:sp>
            <p:nvSpPr>
              <p:cNvPr id="57" name=""/>
              <p:cNvSpPr/>
              <p:nvPr/>
            </p:nvSpPr>
            <p:spPr>
              <a:xfrm rot="20920800">
                <a:off x="6905160" y="2347920"/>
                <a:ext cx="1981440" cy="838080"/>
              </a:xfrm>
              <a:custGeom>
                <a:avLst/>
                <a:gdLst>
                  <a:gd name="textAreaLeft" fmla="*/ 435600 w 1981440"/>
                  <a:gd name="textAreaRight" fmla="*/ 1425240 w 1981440"/>
                  <a:gd name="textAreaTop" fmla="*/ 112320 h 838080"/>
                  <a:gd name="textAreaBottom" fmla="*/ 72576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9502" hR="21600" stAng="10800000" swAng="5400000"/>
                    <a:lnTo>
                      <a:pt x="10784" y="0"/>
                    </a:lnTo>
                    <a:arcTo wR="9502" hR="21600" stAng="-5400000" swAng="3214760"/>
                    <a:lnTo>
                      <a:pt x="21136" y="14932"/>
                    </a:lnTo>
                    <a:lnTo>
                      <a:pt x="19644" y="21600"/>
                    </a:lnTo>
                    <a:lnTo>
                      <a:pt x="17224" y="14932"/>
                    </a:lnTo>
                    <a:lnTo>
                      <a:pt x="18539" y="14932"/>
                    </a:lnTo>
                    <a:arcTo wR="9502" hR="21600" stAng="-2185240" swAng="-3112539"/>
                    <a:lnTo>
                      <a:pt x="10143" y="49"/>
                    </a:lnTo>
                    <a:arcTo wR="9502" hR="21600" stAng="-5502221" swAng="-5297779"/>
                    <a:close/>
                  </a:path>
                  <a:path fill="darkenLess" w="21600" h="21600">
                    <a:moveTo>
                      <a:pt x="0" y="21600"/>
                    </a:moveTo>
                    <a:arcTo wR="9502" hR="21600" stAng="10800000" swAng="5400000"/>
                    <a:lnTo>
                      <a:pt x="9502" y="0"/>
                    </a:lnTo>
                    <a:arcTo wR="9502" hR="21600" stAng="-5400000" swAng="102221"/>
                    <a:lnTo>
                      <a:pt x="10143" y="49"/>
                    </a:lnTo>
                    <a:arcTo wR="9502" hR="21600" stAng="-5502221" swAng="-5297779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920800">
                <a:off x="6754680" y="2209680"/>
                <a:ext cx="1371600" cy="121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598240" y="2286000"/>
              <a:ext cx="53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52880" y="2438280"/>
            <a:ext cx="1371600" cy="609840"/>
            <a:chOff x="4952880" y="2438280"/>
            <a:chExt cx="1371600" cy="609840"/>
          </a:xfrm>
        </p:grpSpPr>
        <p:sp>
          <p:nvSpPr>
            <p:cNvPr id="61" name=""/>
            <p:cNvSpPr/>
            <p:nvPr/>
          </p:nvSpPr>
          <p:spPr>
            <a:xfrm>
              <a:off x="4952880" y="2438280"/>
              <a:ext cx="137160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2743200"/>
              <a:ext cx="13716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952880" y="274320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45200" y="2133720"/>
            <a:ext cx="2745720" cy="763560"/>
            <a:chOff x="4345200" y="2133720"/>
            <a:chExt cx="2745720" cy="763560"/>
          </a:xfrm>
        </p:grpSpPr>
        <p:sp>
          <p:nvSpPr>
            <p:cNvPr id="65" name=""/>
            <p:cNvSpPr/>
            <p:nvPr/>
          </p:nvSpPr>
          <p:spPr>
            <a:xfrm>
              <a:off x="6172200" y="2590920"/>
              <a:ext cx="609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71640" y="28954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7520" y="213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5200" y="2362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43600" y="-122760"/>
            <a:ext cx="2831760" cy="2332440"/>
            <a:chOff x="5943600" y="-122760"/>
            <a:chExt cx="2831760" cy="2332440"/>
          </a:xfrm>
        </p:grpSpPr>
        <p:grpSp>
          <p:nvGrpSpPr>
            <p:cNvPr id="70" name=""/>
            <p:cNvGrpSpPr/>
            <p:nvPr/>
          </p:nvGrpSpPr>
          <p:grpSpPr>
            <a:xfrm>
              <a:off x="5989680" y="-122760"/>
              <a:ext cx="2301480" cy="1464840"/>
              <a:chOff x="5989680" y="-122760"/>
              <a:chExt cx="2301480" cy="1464840"/>
            </a:xfrm>
          </p:grpSpPr>
          <p:sp>
            <p:nvSpPr>
              <p:cNvPr id="71" name=""/>
              <p:cNvSpPr/>
              <p:nvPr/>
            </p:nvSpPr>
            <p:spPr>
              <a:xfrm rot="20920800">
                <a:off x="6246360" y="138240"/>
                <a:ext cx="1981440" cy="838080"/>
              </a:xfrm>
              <a:custGeom>
                <a:avLst/>
                <a:gdLst>
                  <a:gd name="textAreaLeft" fmla="*/ 435600 w 1981440"/>
                  <a:gd name="textAreaRight" fmla="*/ 1425240 w 1981440"/>
                  <a:gd name="textAreaTop" fmla="*/ 112320 h 838080"/>
                  <a:gd name="textAreaBottom" fmla="*/ 72576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9502" hR="21600" stAng="10800000" swAng="5400000"/>
                    <a:lnTo>
                      <a:pt x="10784" y="0"/>
                    </a:lnTo>
                    <a:arcTo wR="9502" hR="21600" stAng="-5400000" swAng="3214760"/>
                    <a:lnTo>
                      <a:pt x="21136" y="14932"/>
                    </a:lnTo>
                    <a:lnTo>
                      <a:pt x="19644" y="21600"/>
                    </a:lnTo>
                    <a:lnTo>
                      <a:pt x="17224" y="14932"/>
                    </a:lnTo>
                    <a:lnTo>
                      <a:pt x="18539" y="14932"/>
                    </a:lnTo>
                    <a:arcTo wR="9502" hR="21600" stAng="-2185240" swAng="-3112539"/>
                    <a:lnTo>
                      <a:pt x="10143" y="49"/>
                    </a:lnTo>
                    <a:arcTo wR="9502" hR="21600" stAng="-5502221" swAng="-5297779"/>
                    <a:close/>
                  </a:path>
                  <a:path fill="darkenLess" w="21600" h="21600">
                    <a:moveTo>
                      <a:pt x="0" y="21600"/>
                    </a:moveTo>
                    <a:arcTo wR="9502" hR="21600" stAng="10800000" swAng="5400000"/>
                    <a:lnTo>
                      <a:pt x="9502" y="0"/>
                    </a:lnTo>
                    <a:arcTo wR="9502" hR="21600" stAng="-5400000" swAng="102221"/>
                    <a:lnTo>
                      <a:pt x="10143" y="49"/>
                    </a:lnTo>
                    <a:arcTo wR="9502" hR="21600" stAng="-5502221" swAng="-5297779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0920800">
                <a:off x="6095880" y="0"/>
                <a:ext cx="1371600" cy="121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400800" y="304920"/>
              <a:ext cx="1676520" cy="16761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81680" y="685800"/>
              <a:ext cx="914400" cy="9144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4480" y="1143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34320" y="1066680"/>
              <a:ext cx="685800" cy="381240"/>
            </a:xfrm>
            <a:custGeom>
              <a:avLst/>
              <a:gdLst>
                <a:gd name="textAreaLeft" fmla="*/ 130680 w 685800"/>
                <a:gd name="textAreaRight" fmla="*/ 486720 w 6858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-2828475"/>
                  <a:lnTo>
                    <a:pt x="21129" y="7200"/>
                  </a:lnTo>
                  <a:lnTo>
                    <a:pt x="17950" y="0"/>
                  </a:lnTo>
                  <a:lnTo>
                    <a:pt x="13829" y="7200"/>
                  </a:lnTo>
                  <a:lnTo>
                    <a:pt x="15989" y="7200"/>
                  </a:lnTo>
                  <a:arcTo wR="8230" hR="21600" stAng="2571525" swAng="2587744"/>
                  <a:lnTo>
                    <a:pt x="9720" y="21243"/>
                  </a:lnTo>
                  <a:arcTo wR="8230" hR="21600" stAng="5640731" swAng="5159269"/>
                  <a:close/>
                </a:path>
                <a:path fill="darkenLess"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240731"/>
                  <a:lnTo>
                    <a:pt x="9720" y="21243"/>
                  </a:lnTo>
                  <a:arcTo wR="8230" hR="21600" stAng="5640731" swAng="5159269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38880" y="228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44360" y="228600"/>
              <a:ext cx="53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3600" y="1447920"/>
              <a:ext cx="5335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400800" y="13712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10080" y="2057400"/>
            <a:ext cx="304920" cy="1371600"/>
            <a:chOff x="5410080" y="2057400"/>
            <a:chExt cx="304920" cy="1371600"/>
          </a:xfrm>
        </p:grpSpPr>
        <p:sp>
          <p:nvSpPr>
            <p:cNvPr id="82" name=""/>
            <p:cNvSpPr/>
            <p:nvPr/>
          </p:nvSpPr>
          <p:spPr>
            <a:xfrm>
              <a:off x="5410080" y="2286000"/>
              <a:ext cx="304920" cy="914400"/>
            </a:xfrm>
            <a:custGeom>
              <a:avLst/>
              <a:gdLst>
                <a:gd name="textAreaLeft" fmla="*/ 52920 w 304920"/>
                <a:gd name="textAreaRight" fmla="*/ 252000 w 304920"/>
                <a:gd name="textAreaTop" fmla="*/ 158760 h 914400"/>
                <a:gd name="textAreaBottom" fmla="*/ 755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62720" y="2057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410080" y="274320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94800">
            <a:off x="5488200" y="450324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цепле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дета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374800">
            <a:off x="5040" y="4114440"/>
            <a:ext cx="419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епятствует смещ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р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жду дета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7800" y="2362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4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8720" y="1828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8400" y="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317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4120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2971800"/>
            <a:ext cx="1371600" cy="609480"/>
            <a:chOff x="1143000" y="2971800"/>
            <a:chExt cx="1371600" cy="609480"/>
          </a:xfrm>
        </p:grpSpPr>
        <p:sp>
          <p:nvSpPr>
            <p:cNvPr id="94" name=""/>
            <p:cNvSpPr/>
            <p:nvPr/>
          </p:nvSpPr>
          <p:spPr>
            <a:xfrm>
              <a:off x="1143000" y="3276720"/>
              <a:ext cx="45720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3000" y="2971800"/>
              <a:ext cx="457200" cy="30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400" y="2971800"/>
              <a:ext cx="45720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3276720"/>
              <a:ext cx="45720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523880" y="3276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0400" y="2819520"/>
            <a:ext cx="3050280" cy="916920"/>
            <a:chOff x="230400" y="2819520"/>
            <a:chExt cx="3050280" cy="916920"/>
          </a:xfrm>
        </p:grpSpPr>
        <p:sp>
          <p:nvSpPr>
            <p:cNvPr id="102" name=""/>
            <p:cNvSpPr/>
            <p:nvPr/>
          </p:nvSpPr>
          <p:spPr>
            <a:xfrm>
              <a:off x="2286000" y="31240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85440" y="3429000"/>
              <a:ext cx="609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728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400" y="3276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327672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47920" y="2590920"/>
            <a:ext cx="685800" cy="1295280"/>
            <a:chOff x="1447920" y="2590920"/>
            <a:chExt cx="685800" cy="1295280"/>
          </a:xfrm>
        </p:grpSpPr>
        <p:sp>
          <p:nvSpPr>
            <p:cNvPr id="108" name=""/>
            <p:cNvSpPr/>
            <p:nvPr/>
          </p:nvSpPr>
          <p:spPr>
            <a:xfrm>
              <a:off x="1447920" y="3581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2666880"/>
              <a:ext cx="304560" cy="914400"/>
            </a:xfrm>
            <a:prstGeom prst="rect">
              <a:avLst/>
            </a:prstGeom>
            <a:gradFill rotWithShape="0">
              <a:gsLst>
                <a:gs pos="0">
                  <a:srgbClr val="755e75"/>
                </a:gs>
                <a:gs pos="50000">
                  <a:srgbClr val="ffccff"/>
                </a:gs>
                <a:gs pos="100000">
                  <a:srgbClr val="75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3581280"/>
              <a:ext cx="609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2743200"/>
              <a:ext cx="6098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97180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520" y="274320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358128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259092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35812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358128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358128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6520" y="274320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200400"/>
              <a:ext cx="30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2480" y="297180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5120" y="29718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52480" y="2666880"/>
              <a:ext cx="180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5120" y="266688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3880" y="3581280"/>
              <a:ext cx="533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297180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1143000"/>
            <a:ext cx="1905120" cy="738720"/>
            <a:chOff x="380880" y="1143000"/>
            <a:chExt cx="1905120" cy="738720"/>
          </a:xfrm>
        </p:grpSpPr>
        <p:sp>
          <p:nvSpPr>
            <p:cNvPr id="129" name=""/>
            <p:cNvSpPr/>
            <p:nvPr/>
          </p:nvSpPr>
          <p:spPr>
            <a:xfrm>
              <a:off x="380880" y="1371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1143000"/>
              <a:ext cx="685800" cy="380880"/>
            </a:xfrm>
            <a:custGeom>
              <a:avLst/>
              <a:gdLst>
                <a:gd name="textAreaLeft" fmla="*/ 130680 w 685800"/>
                <a:gd name="textAreaRight" fmla="*/ 486720 w 68580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-2828475"/>
                  <a:lnTo>
                    <a:pt x="21129" y="7200"/>
                  </a:lnTo>
                  <a:lnTo>
                    <a:pt x="17950" y="0"/>
                  </a:lnTo>
                  <a:lnTo>
                    <a:pt x="13829" y="7200"/>
                  </a:lnTo>
                  <a:lnTo>
                    <a:pt x="15989" y="7200"/>
                  </a:lnTo>
                  <a:arcTo wR="8230" hR="21600" stAng="2571525" swAng="2587744"/>
                  <a:lnTo>
                    <a:pt x="9720" y="21243"/>
                  </a:lnTo>
                  <a:arcTo wR="8230" hR="21600" stAng="5640731" swAng="5159269"/>
                  <a:close/>
                </a:path>
                <a:path fill="darkenLess"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240731"/>
                  <a:lnTo>
                    <a:pt x="9720" y="21243"/>
                  </a:lnTo>
                  <a:arcTo wR="8230" hR="21600" stAng="5640731" swAng="5159269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914400" y="13712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447920" y="762120"/>
            <a:ext cx="91440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685800"/>
            <a:ext cx="91440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086600" y="533520"/>
            <a:ext cx="304920" cy="304560"/>
            <a:chOff x="7086600" y="533520"/>
            <a:chExt cx="304920" cy="304560"/>
          </a:xfrm>
        </p:grpSpPr>
        <p:sp>
          <p:nvSpPr>
            <p:cNvPr id="135" name=""/>
            <p:cNvSpPr/>
            <p:nvPr/>
          </p:nvSpPr>
          <p:spPr>
            <a:xfrm>
              <a:off x="7086600" y="5335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609480"/>
              <a:ext cx="304920" cy="2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86600" y="68580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934320" y="2438280"/>
            <a:ext cx="1676160" cy="1676520"/>
            <a:chOff x="6934320" y="2438280"/>
            <a:chExt cx="1676160" cy="1676520"/>
          </a:xfrm>
        </p:grpSpPr>
        <p:sp>
          <p:nvSpPr>
            <p:cNvPr id="139" name=""/>
            <p:cNvSpPr/>
            <p:nvPr/>
          </p:nvSpPr>
          <p:spPr>
            <a:xfrm>
              <a:off x="6934320" y="2438280"/>
              <a:ext cx="1676160" cy="16765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5200" y="281952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315200" y="2819520"/>
            <a:ext cx="91440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2666880"/>
            <a:ext cx="1220760" cy="1220400"/>
            <a:chOff x="7162920" y="2666880"/>
            <a:chExt cx="1220760" cy="1220400"/>
          </a:xfrm>
        </p:grpSpPr>
        <p:sp>
          <p:nvSpPr>
            <p:cNvPr id="143" name=""/>
            <p:cNvSpPr/>
            <p:nvPr/>
          </p:nvSpPr>
          <p:spPr>
            <a:xfrm>
              <a:off x="7391520" y="2819520"/>
              <a:ext cx="838080" cy="9144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62920" y="3199680"/>
              <a:ext cx="610560" cy="154440"/>
              <a:chOff x="7162920" y="3199680"/>
              <a:chExt cx="610560" cy="154440"/>
            </a:xfrm>
          </p:grpSpPr>
          <p:sp>
            <p:nvSpPr>
              <p:cNvPr id="145" name=""/>
              <p:cNvSpPr/>
              <p:nvPr/>
            </p:nvSpPr>
            <p:spPr>
              <a:xfrm flipV="1" rot="5400000">
                <a:off x="7105680" y="3256560"/>
                <a:ext cx="152280" cy="37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 rot="5400000">
                <a:off x="7407000" y="2985120"/>
                <a:ext cx="150840" cy="582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92800" y="31996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164360" y="320184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164360" y="33541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16640" y="3201840"/>
                <a:ext cx="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772400" y="3199680"/>
              <a:ext cx="611280" cy="154440"/>
              <a:chOff x="7772400" y="3199680"/>
              <a:chExt cx="611280" cy="154440"/>
            </a:xfrm>
          </p:grpSpPr>
          <p:sp>
            <p:nvSpPr>
              <p:cNvPr id="152" name=""/>
              <p:cNvSpPr/>
              <p:nvPr/>
            </p:nvSpPr>
            <p:spPr>
              <a:xfrm flipH="1" flipV="1" rot="16200000">
                <a:off x="8288280" y="325620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 rot="16200000">
                <a:off x="7988040" y="2984760"/>
                <a:ext cx="150840" cy="5824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53440" y="31996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29960" y="32018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29960" y="33541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9600" y="3201840"/>
                <a:ext cx="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696440" y="2666880"/>
              <a:ext cx="154440" cy="611280"/>
              <a:chOff x="7696440" y="2666880"/>
              <a:chExt cx="154440" cy="611280"/>
            </a:xfrm>
          </p:grpSpPr>
          <p:sp>
            <p:nvSpPr>
              <p:cNvPr id="159" name=""/>
              <p:cNvSpPr/>
              <p:nvPr/>
            </p:nvSpPr>
            <p:spPr>
              <a:xfrm flipV="1" rot="10800000">
                <a:off x="7698600" y="266688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 rot="10800000">
                <a:off x="7698600" y="2695680"/>
                <a:ext cx="150840" cy="5824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698600" y="269712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848720" y="2668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696440" y="2668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7696440" y="282096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696440" y="3276720"/>
              <a:ext cx="154440" cy="610560"/>
              <a:chOff x="7696440" y="3276720"/>
              <a:chExt cx="154440" cy="610560"/>
            </a:xfrm>
          </p:grpSpPr>
          <p:sp>
            <p:nvSpPr>
              <p:cNvPr id="166" name=""/>
              <p:cNvSpPr/>
              <p:nvPr/>
            </p:nvSpPr>
            <p:spPr>
              <a:xfrm rot="10800000">
                <a:off x="7698600" y="3849480"/>
                <a:ext cx="152280" cy="37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800000">
                <a:off x="7698600" y="3276720"/>
                <a:ext cx="150840" cy="5821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698600" y="3857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48720" y="373392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96440" y="3733920"/>
                <a:ext cx="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696440" y="373356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740000" y="3229920"/>
              <a:ext cx="522720" cy="554760"/>
              <a:chOff x="7740000" y="3229920"/>
              <a:chExt cx="522720" cy="554760"/>
            </a:xfrm>
          </p:grpSpPr>
          <p:sp>
            <p:nvSpPr>
              <p:cNvPr id="173" name=""/>
              <p:cNvSpPr/>
              <p:nvPr/>
            </p:nvSpPr>
            <p:spPr>
              <a:xfrm flipV="1" rot="19066800">
                <a:off x="8116920" y="369972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9066800">
                <a:off x="7916040" y="3204720"/>
                <a:ext cx="150840" cy="58248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8129160" y="3660120"/>
                <a:ext cx="112680" cy="10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47800" y="3669480"/>
                <a:ext cx="102240" cy="11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160480" y="3566880"/>
                <a:ext cx="102240" cy="11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8047440" y="3566880"/>
                <a:ext cx="113040" cy="102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273080" y="2779920"/>
              <a:ext cx="543600" cy="535320"/>
              <a:chOff x="7273080" y="2779920"/>
              <a:chExt cx="543600" cy="535320"/>
            </a:xfrm>
          </p:grpSpPr>
          <p:sp>
            <p:nvSpPr>
              <p:cNvPr id="180" name=""/>
              <p:cNvSpPr/>
              <p:nvPr/>
            </p:nvSpPr>
            <p:spPr>
              <a:xfrm flipV="1" rot="8052000">
                <a:off x="7264080" y="282816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8052000">
                <a:off x="7479720" y="2766600"/>
                <a:ext cx="150840" cy="5824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295040" y="2801160"/>
                <a:ext cx="106200" cy="10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7379280" y="2782440"/>
                <a:ext cx="109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7273080" y="2891520"/>
                <a:ext cx="109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382520" y="2889000"/>
                <a:ext cx="106200" cy="109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736760" y="2775960"/>
              <a:ext cx="532440" cy="546840"/>
              <a:chOff x="7736760" y="2775960"/>
              <a:chExt cx="532440" cy="546840"/>
            </a:xfrm>
          </p:grpSpPr>
          <p:sp>
            <p:nvSpPr>
              <p:cNvPr id="187" name=""/>
              <p:cNvSpPr/>
              <p:nvPr/>
            </p:nvSpPr>
            <p:spPr>
              <a:xfrm flipV="1" rot="13420800">
                <a:off x="8124480" y="282312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 rot="13420800">
                <a:off x="7916760" y="2768760"/>
                <a:ext cx="150840" cy="58248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8138160" y="2798280"/>
                <a:ext cx="11016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8161200" y="2881080"/>
                <a:ext cx="105120" cy="11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051040" y="2775960"/>
                <a:ext cx="105480" cy="11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8051040" y="2886120"/>
                <a:ext cx="110160" cy="1054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275960" y="3033720"/>
              <a:ext cx="687600" cy="712800"/>
              <a:chOff x="7275960" y="3033720"/>
              <a:chExt cx="687600" cy="712800"/>
            </a:xfrm>
          </p:grpSpPr>
          <p:sp>
            <p:nvSpPr>
              <p:cNvPr id="194" name=""/>
              <p:cNvSpPr/>
              <p:nvPr/>
            </p:nvSpPr>
            <p:spPr>
              <a:xfrm flipV="1" rot="2614200">
                <a:off x="7268040" y="3660480"/>
                <a:ext cx="152280" cy="38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2614200">
                <a:off x="7553160" y="2974320"/>
                <a:ext cx="152280" cy="80964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96120" y="3619080"/>
                <a:ext cx="1105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278120" y="3531240"/>
                <a:ext cx="104760" cy="11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388280" y="3636360"/>
                <a:ext cx="105120" cy="11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83240" y="3530880"/>
                <a:ext cx="110160" cy="105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858000" y="2209680"/>
            <a:ext cx="1828800" cy="2057400"/>
            <a:chOff x="6858000" y="2209680"/>
            <a:chExt cx="1828800" cy="2057400"/>
          </a:xfrm>
        </p:grpSpPr>
        <p:sp>
          <p:nvSpPr>
            <p:cNvPr id="201" name=""/>
            <p:cNvSpPr/>
            <p:nvPr/>
          </p:nvSpPr>
          <p:spPr>
            <a:xfrm>
              <a:off x="7315200" y="2819520"/>
              <a:ext cx="914400" cy="91440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3276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2400" y="2209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324480" y="3124080"/>
            <a:ext cx="1828800" cy="738720"/>
            <a:chOff x="6324480" y="3124080"/>
            <a:chExt cx="1828800" cy="738720"/>
          </a:xfrm>
        </p:grpSpPr>
        <p:sp>
          <p:nvSpPr>
            <p:cNvPr id="205" name=""/>
            <p:cNvSpPr/>
            <p:nvPr/>
          </p:nvSpPr>
          <p:spPr>
            <a:xfrm>
              <a:off x="6324480" y="3352680"/>
              <a:ext cx="5335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67480" y="3124080"/>
              <a:ext cx="685800" cy="381240"/>
            </a:xfrm>
            <a:custGeom>
              <a:avLst/>
              <a:gdLst>
                <a:gd name="textAreaLeft" fmla="*/ 130680 w 685800"/>
                <a:gd name="textAreaRight" fmla="*/ 486720 w 6858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-2828475"/>
                  <a:lnTo>
                    <a:pt x="21129" y="7200"/>
                  </a:lnTo>
                  <a:lnTo>
                    <a:pt x="17950" y="0"/>
                  </a:lnTo>
                  <a:lnTo>
                    <a:pt x="13829" y="7200"/>
                  </a:lnTo>
                  <a:lnTo>
                    <a:pt x="15989" y="7200"/>
                  </a:lnTo>
                  <a:arcTo wR="8230" hR="21600" stAng="2571525" swAng="2587744"/>
                  <a:lnTo>
                    <a:pt x="9720" y="21243"/>
                  </a:lnTo>
                  <a:arcTo wR="8230" hR="21600" stAng="5640731" swAng="5159269"/>
                  <a:close/>
                </a:path>
                <a:path fill="darkenLess" w="21600" h="21600">
                  <a:moveTo>
                    <a:pt x="0" y="0"/>
                  </a:moveTo>
                  <a:arcTo wR="8230" hR="21600" stAng="10800000" swAng="-5400000"/>
                  <a:lnTo>
                    <a:pt x="11210" y="21600"/>
                  </a:lnTo>
                  <a:arcTo wR="8230" hR="21600" stAng="5400000" swAng="240731"/>
                  <a:lnTo>
                    <a:pt x="9720" y="21243"/>
                  </a:lnTo>
                  <a:arcTo wR="8230" hR="21600" stAng="5640731" swAng="5159269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781680" y="33523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867280" y="5638680"/>
            <a:ext cx="1371600" cy="609480"/>
            <a:chOff x="5867280" y="5638680"/>
            <a:chExt cx="1371600" cy="609480"/>
          </a:xfrm>
        </p:grpSpPr>
        <p:sp>
          <p:nvSpPr>
            <p:cNvPr id="209" name=""/>
            <p:cNvSpPr/>
            <p:nvPr/>
          </p:nvSpPr>
          <p:spPr>
            <a:xfrm>
              <a:off x="5867280" y="5638680"/>
              <a:ext cx="457200" cy="3045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5638680"/>
              <a:ext cx="457200" cy="3045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5943240"/>
              <a:ext cx="457200" cy="3049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5943240"/>
              <a:ext cx="457200" cy="3049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56386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448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24480" y="62481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34320" y="5105520"/>
            <a:ext cx="613800" cy="1678680"/>
            <a:chOff x="6934320" y="5105520"/>
            <a:chExt cx="613800" cy="1678680"/>
          </a:xfrm>
        </p:grpSpPr>
        <p:sp>
          <p:nvSpPr>
            <p:cNvPr id="217" name=""/>
            <p:cNvSpPr/>
            <p:nvPr/>
          </p:nvSpPr>
          <p:spPr>
            <a:xfrm flipV="1">
              <a:off x="6934320" y="5105520"/>
              <a:ext cx="1440" cy="609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4320" y="6171120"/>
              <a:ext cx="14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472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64720" y="6324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715000" y="5943600"/>
            <a:ext cx="1676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248520" y="5257800"/>
            <a:ext cx="609480" cy="1295280"/>
            <a:chOff x="6248520" y="5257800"/>
            <a:chExt cx="609480" cy="1295280"/>
          </a:xfrm>
        </p:grpSpPr>
        <p:sp>
          <p:nvSpPr>
            <p:cNvPr id="223" name=""/>
            <p:cNvSpPr/>
            <p:nvPr/>
          </p:nvSpPr>
          <p:spPr>
            <a:xfrm>
              <a:off x="6400800" y="5333760"/>
              <a:ext cx="304920" cy="914040"/>
            </a:xfrm>
            <a:prstGeom prst="rect">
              <a:avLst/>
            </a:prstGeom>
            <a:gradFill rotWithShape="0">
              <a:gsLst>
                <a:gs pos="0">
                  <a:srgbClr val="755e75"/>
                </a:gs>
                <a:gs pos="50000">
                  <a:srgbClr val="ffccff"/>
                </a:gs>
                <a:gs pos="100000">
                  <a:srgbClr val="75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48520" y="6248160"/>
              <a:ext cx="609480" cy="22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5410080"/>
              <a:ext cx="609480" cy="22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5638680"/>
              <a:ext cx="380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0800" y="5410080"/>
              <a:ext cx="380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4480" y="6248160"/>
              <a:ext cx="457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525780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6248160"/>
              <a:ext cx="14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5720" y="6248160"/>
              <a:ext cx="14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800" y="6248160"/>
              <a:ext cx="3049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00800" y="5410080"/>
              <a:ext cx="3049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5867280"/>
              <a:ext cx="304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7120" y="5638680"/>
              <a:ext cx="144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29400" y="5638680"/>
              <a:ext cx="1440" cy="22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77120" y="5333760"/>
              <a:ext cx="1440" cy="75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9400" y="5333760"/>
              <a:ext cx="1440" cy="75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48520" y="6248160"/>
              <a:ext cx="53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5638680"/>
              <a:ext cx="5335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648320" y="5029200"/>
            <a:ext cx="976320" cy="485640"/>
          </a:xfrm>
          <a:custGeom>
            <a:avLst/>
            <a:gdLst>
              <a:gd name="textAreaLeft" fmla="*/ 152280 w 976320"/>
              <a:gd name="textAreaRight" fmla="*/ 912600 w 976320"/>
              <a:gd name="textAreaTop" fmla="*/ 179280 h 485640"/>
              <a:gd name="textAreaBottom" fmla="*/ 30636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7976"/>
                </a:moveTo>
                <a:lnTo>
                  <a:pt x="16191" y="7976"/>
                </a:ln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16191" y="13624"/>
                </a:lnTo>
                <a:lnTo>
                  <a:pt x="3375" y="13624"/>
                </a:lnTo>
                <a:close/>
              </a:path>
              <a:path w="21600" h="21600">
                <a:moveTo>
                  <a:pt x="0" y="7976"/>
                </a:moveTo>
                <a:lnTo>
                  <a:pt x="675" y="7976"/>
                </a:lnTo>
                <a:lnTo>
                  <a:pt x="675" y="13624"/>
                </a:lnTo>
                <a:lnTo>
                  <a:pt x="0" y="13624"/>
                </a:lnTo>
                <a:close/>
              </a:path>
              <a:path w="21600" h="21600">
                <a:moveTo>
                  <a:pt x="1350" y="7976"/>
                </a:moveTo>
                <a:lnTo>
                  <a:pt x="2700" y="7976"/>
                </a:lnTo>
                <a:lnTo>
                  <a:pt x="2700" y="13624"/>
                </a:lnTo>
                <a:lnTo>
                  <a:pt x="1350" y="1362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89280" y="-1440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.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07:11:56Z</dcterms:created>
  <dc:creator>Довольный пользователь Microsoft Office</dc:creator>
  <dc:description/>
  <dc:language>en-US</dc:language>
  <cp:lastModifiedBy>Довольный пользователь Microsoft Office</cp:lastModifiedBy>
  <dcterms:modified xsi:type="dcterms:W3CDTF">2001-03-14T16:29:21Z</dcterms:modified>
  <cp:revision>11</cp:revision>
  <dc:subject/>
  <dc:title>Заголовок слайда отсутствует</dc:title>
</cp:coreProperties>
</file>