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996-97FD-4131-A161-25690A38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FDA-919A-49D5-9014-F4D60FD5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999-1FC8-46A4-95C6-9BD503A8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692-139F-4925-B055-283962E8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FF8-89A0-4ADA-BBC6-8C07A357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1A0-80E7-4B27-BEE3-D16CA585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8E9-37BE-4033-A818-195D83A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137-8E09-4970-99D1-E6E29FB2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9D4-01B2-435A-815B-F87B2CE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7BD-A590-4CFE-8299-30016194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510-27D6-4C56-9629-A0AE8BC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373-BCDC-4E2C-9C10-BDFC1EF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7250-2E68-4119-816D-A263642EB7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440" y="1025640"/>
            <a:ext cx="2806200" cy="2325600"/>
            <a:chOff x="685440" y="1025640"/>
            <a:chExt cx="2806200" cy="2325600"/>
          </a:xfrm>
        </p:grpSpPr>
        <p:sp>
          <p:nvSpPr>
            <p:cNvPr id="42" name=""/>
            <p:cNvSpPr/>
            <p:nvPr/>
          </p:nvSpPr>
          <p:spPr>
            <a:xfrm flipH="1" rot="20073600">
              <a:off x="2374560" y="1353600"/>
              <a:ext cx="967680" cy="91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85440" y="1025640"/>
              <a:ext cx="2286360" cy="2325600"/>
              <a:chOff x="685440" y="1025640"/>
              <a:chExt cx="2286360" cy="2325600"/>
            </a:xfrm>
          </p:grpSpPr>
          <p:sp>
            <p:nvSpPr>
              <p:cNvPr id="44" name=""/>
              <p:cNvSpPr/>
              <p:nvPr/>
            </p:nvSpPr>
            <p:spPr>
              <a:xfrm>
                <a:off x="2581200" y="1025640"/>
                <a:ext cx="390600" cy="12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685440" y="1886040"/>
                <a:ext cx="2133720" cy="885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800" y="2771640"/>
                <a:ext cx="555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00400" y="1479600"/>
                <a:ext cx="63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2769840" y="1392120"/>
            <a:ext cx="417600" cy="527040"/>
            <a:chOff x="2769840" y="1392120"/>
            <a:chExt cx="417600" cy="527040"/>
          </a:xfrm>
        </p:grpSpPr>
        <p:sp>
          <p:nvSpPr>
            <p:cNvPr id="49" name=""/>
            <p:cNvSpPr/>
            <p:nvPr/>
          </p:nvSpPr>
          <p:spPr>
            <a:xfrm flipH="1">
              <a:off x="2769480" y="1824120"/>
              <a:ext cx="74520" cy="95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20960" y="1392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88960" y="4237200"/>
            <a:ext cx="731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51440" y="417348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5040" y="4175280"/>
            <a:ext cx="183024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440" y="1295280"/>
            <a:ext cx="2618640" cy="1529280"/>
            <a:chOff x="685440" y="1295280"/>
            <a:chExt cx="2618640" cy="1529280"/>
          </a:xfrm>
        </p:grpSpPr>
        <p:sp>
          <p:nvSpPr>
            <p:cNvPr id="55" name=""/>
            <p:cNvSpPr/>
            <p:nvPr/>
          </p:nvSpPr>
          <p:spPr>
            <a:xfrm>
              <a:off x="2819520" y="1886040"/>
              <a:ext cx="0" cy="84924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85440" y="1295280"/>
              <a:ext cx="2618640" cy="1529280"/>
              <a:chOff x="685440" y="1295280"/>
              <a:chExt cx="2618640" cy="1529280"/>
            </a:xfrm>
          </p:grpSpPr>
          <p:sp>
            <p:nvSpPr>
              <p:cNvPr id="57" name=""/>
              <p:cNvSpPr/>
              <p:nvPr/>
            </p:nvSpPr>
            <p:spPr>
              <a:xfrm flipH="1">
                <a:off x="685440" y="1886040"/>
                <a:ext cx="2133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03160" y="1295280"/>
                <a:ext cx="432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5800" y="1886040"/>
                <a:ext cx="0" cy="88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5800" y="275580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51920" y="2314440"/>
                <a:ext cx="452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87600" y="182412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09720" y="17193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1809720" y="2280960"/>
                <a:ext cx="8424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"/>
          <p:cNvSpPr/>
          <p:nvPr/>
        </p:nvSpPr>
        <p:spPr>
          <a:xfrm>
            <a:off x="1805040" y="4729320"/>
            <a:ext cx="147960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05040" y="3333600"/>
            <a:ext cx="18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2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1924560" y="275400"/>
            <a:ext cx="8510400" cy="8854920"/>
            <a:chOff x="-1924560" y="275400"/>
            <a:chExt cx="8510400" cy="8854920"/>
          </a:xfrm>
        </p:grpSpPr>
        <p:grpSp>
          <p:nvGrpSpPr>
            <p:cNvPr id="68" name=""/>
            <p:cNvGrpSpPr/>
            <p:nvPr/>
          </p:nvGrpSpPr>
          <p:grpSpPr>
            <a:xfrm>
              <a:off x="-410040" y="275400"/>
              <a:ext cx="5940720" cy="4196160"/>
              <a:chOff x="-410040" y="275400"/>
              <a:chExt cx="5940720" cy="4196160"/>
            </a:xfrm>
          </p:grpSpPr>
          <p:sp>
            <p:nvSpPr>
              <p:cNvPr id="69" name=""/>
              <p:cNvSpPr/>
              <p:nvPr/>
            </p:nvSpPr>
            <p:spPr>
              <a:xfrm flipH="1" rot="6669600">
                <a:off x="-187200" y="1087920"/>
                <a:ext cx="3278880" cy="272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7011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70111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4766000">
                <a:off x="1879200" y="909000"/>
                <a:ext cx="3291480" cy="292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654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65492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1760" y="1332000"/>
                <a:ext cx="297360" cy="2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 rot="18881400">
              <a:off x="-793080" y="1978200"/>
              <a:ext cx="6248160" cy="579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485880" y="2281320"/>
              <a:ext cx="476280" cy="15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634920" y="3290760"/>
              <a:ext cx="32724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486240" y="3333600"/>
              <a:ext cx="476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86240" y="2717640"/>
              <a:ext cx="6332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265880" y="1409760"/>
            <a:ext cx="417240" cy="527040"/>
            <a:chOff x="7265880" y="1409760"/>
            <a:chExt cx="417240" cy="527040"/>
          </a:xfrm>
        </p:grpSpPr>
        <p:sp>
          <p:nvSpPr>
            <p:cNvPr id="78" name=""/>
            <p:cNvSpPr/>
            <p:nvPr/>
          </p:nvSpPr>
          <p:spPr>
            <a:xfrm flipH="1">
              <a:off x="7265880" y="1841400"/>
              <a:ext cx="74880" cy="95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16640" y="1409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84640" y="4254480"/>
            <a:ext cx="68904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46400" y="419112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5889600"/>
            <a:ext cx="213696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71480" y="34200"/>
            <a:ext cx="8510760" cy="9113760"/>
            <a:chOff x="2571480" y="34200"/>
            <a:chExt cx="8510760" cy="9113760"/>
          </a:xfrm>
        </p:grpSpPr>
        <p:grpSp>
          <p:nvGrpSpPr>
            <p:cNvPr id="84" name=""/>
            <p:cNvGrpSpPr/>
            <p:nvPr/>
          </p:nvGrpSpPr>
          <p:grpSpPr>
            <a:xfrm>
              <a:off x="4085640" y="293040"/>
              <a:ext cx="5940720" cy="4196160"/>
              <a:chOff x="4085640" y="293040"/>
              <a:chExt cx="5940720" cy="4196160"/>
            </a:xfrm>
          </p:grpSpPr>
          <p:sp>
            <p:nvSpPr>
              <p:cNvPr id="85" name=""/>
              <p:cNvSpPr/>
              <p:nvPr/>
            </p:nvSpPr>
            <p:spPr>
              <a:xfrm flipH="1" rot="6669600">
                <a:off x="4308120" y="1105560"/>
                <a:ext cx="3278880" cy="272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7011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70111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4766000">
                <a:off x="6374880" y="926640"/>
                <a:ext cx="3291480" cy="292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654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65492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787440" y="1349640"/>
                <a:ext cx="297360" cy="2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rot="18881400">
              <a:off x="3702960" y="1994760"/>
              <a:ext cx="6247440" cy="57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7981560" y="2298600"/>
              <a:ext cx="476280" cy="15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131320" y="3308400"/>
              <a:ext cx="326880" cy="10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981920" y="3351240"/>
              <a:ext cx="476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1920" y="2735280"/>
              <a:ext cx="6336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569560" y="34200"/>
              <a:ext cx="4011480" cy="4196880"/>
              <a:chOff x="5569560" y="34200"/>
              <a:chExt cx="4011480" cy="4196880"/>
            </a:xfrm>
          </p:grpSpPr>
          <p:sp>
            <p:nvSpPr>
              <p:cNvPr id="94" name=""/>
              <p:cNvSpPr/>
              <p:nvPr/>
            </p:nvSpPr>
            <p:spPr>
              <a:xfrm rot="14766000">
                <a:off x="5928840" y="668160"/>
                <a:ext cx="3292560" cy="292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77" y="509"/>
                    </a:moveTo>
                    <a:arcTo wR="10800" hR="10800" stAng="-4340078" swAng="2654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77" y="509"/>
                    </a:moveTo>
                    <a:arcTo wR="10800" hR="10800" stAng="-4340078" swAng="265492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342840" y="1064160"/>
                <a:ext cx="297720" cy="2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627960" y="1082520"/>
              <a:ext cx="449280" cy="28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1480" y="1082520"/>
              <a:ext cx="444600" cy="28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37000" y="961920"/>
            <a:ext cx="1456560" cy="1477080"/>
            <a:chOff x="5337000" y="961920"/>
            <a:chExt cx="1456560" cy="1477080"/>
          </a:xfrm>
        </p:grpSpPr>
        <p:sp>
          <p:nvSpPr>
            <p:cNvPr id="99" name=""/>
            <p:cNvSpPr/>
            <p:nvPr/>
          </p:nvSpPr>
          <p:spPr>
            <a:xfrm flipH="1" rot="14789400">
              <a:off x="5497920" y="1152720"/>
              <a:ext cx="1134360" cy="1095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91" y="12"/>
                  </a:moveTo>
                  <a:arcTo wR="10800" hR="10800" stAng="-5562008" swAng="3020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91" y="12"/>
                  </a:moveTo>
                  <a:arcTo wR="10800" hR="10800" stAng="-5562008" swAng="3020896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1720" y="1650960"/>
              <a:ext cx="102960" cy="252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817960" y="2196720"/>
              <a:ext cx="237960" cy="160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0680" y="1366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829040" y="1903320"/>
            <a:ext cx="2485800" cy="1781280"/>
            <a:chOff x="4829040" y="1903320"/>
            <a:chExt cx="2485800" cy="1781280"/>
          </a:xfrm>
        </p:grpSpPr>
        <p:sp>
          <p:nvSpPr>
            <p:cNvPr id="104" name=""/>
            <p:cNvSpPr/>
            <p:nvPr/>
          </p:nvSpPr>
          <p:spPr>
            <a:xfrm flipH="1">
              <a:off x="5371920" y="1903320"/>
              <a:ext cx="1942920" cy="143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9040" y="3105000"/>
              <a:ext cx="555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738320" y="1592280"/>
            <a:ext cx="3355560" cy="1235520"/>
            <a:chOff x="4738320" y="1592280"/>
            <a:chExt cx="3355560" cy="1235520"/>
          </a:xfrm>
        </p:grpSpPr>
        <p:sp>
          <p:nvSpPr>
            <p:cNvPr id="107" name=""/>
            <p:cNvSpPr/>
            <p:nvPr/>
          </p:nvSpPr>
          <p:spPr>
            <a:xfrm flipH="1">
              <a:off x="5181120" y="1903320"/>
              <a:ext cx="2133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38320" y="159228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1903320"/>
              <a:ext cx="0" cy="88596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82760" y="2317680"/>
              <a:ext cx="45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34280" y="1919160"/>
              <a:ext cx="243000" cy="45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920" y="2085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300720" y="4437000"/>
            <a:ext cx="168120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83200" y="5186520"/>
            <a:ext cx="2257560" cy="510120"/>
            <a:chOff x="5083200" y="5186520"/>
            <a:chExt cx="2257560" cy="510120"/>
          </a:xfrm>
        </p:grpSpPr>
        <p:sp>
          <p:nvSpPr>
            <p:cNvPr id="115" name=""/>
            <p:cNvSpPr/>
            <p:nvPr/>
          </p:nvSpPr>
          <p:spPr>
            <a:xfrm>
              <a:off x="5083200" y="5186520"/>
              <a:ext cx="2257560" cy="5101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1480" y="52243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1480" y="5224320"/>
              <a:ext cx="26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51400" y="52243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72400" y="52243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61120" y="55688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1400" y="3929040"/>
            <a:ext cx="269100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1480" y="668160"/>
            <a:ext cx="63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5400" y="668160"/>
            <a:ext cx="63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429160" y="1777320"/>
            <a:ext cx="1455840" cy="1475280"/>
            <a:chOff x="5429160" y="1777320"/>
            <a:chExt cx="1455840" cy="1475280"/>
          </a:xfrm>
        </p:grpSpPr>
        <p:sp>
          <p:nvSpPr>
            <p:cNvPr id="125" name=""/>
            <p:cNvSpPr/>
            <p:nvPr/>
          </p:nvSpPr>
          <p:spPr>
            <a:xfrm>
              <a:off x="5600880" y="24004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rot="17611200">
              <a:off x="5590440" y="1967400"/>
              <a:ext cx="1132560" cy="1095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45" y="33"/>
                  </a:moveTo>
                  <a:arcTo wR="10800" hR="10800" stAng="-5130901" swAng="46962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45" y="33"/>
                  </a:moveTo>
                  <a:arcTo wR="10800" hR="10800" stAng="-5130901" swAng="4696235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619600" y="2247840"/>
              <a:ext cx="5724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95920" y="2819520"/>
              <a:ext cx="133560" cy="171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149800" y="1866960"/>
            <a:ext cx="2981520" cy="1994400"/>
            <a:chOff x="5149800" y="1866960"/>
            <a:chExt cx="2981520" cy="1994400"/>
          </a:xfrm>
        </p:grpSpPr>
        <p:sp>
          <p:nvSpPr>
            <p:cNvPr id="130" name=""/>
            <p:cNvSpPr/>
            <p:nvPr/>
          </p:nvSpPr>
          <p:spPr>
            <a:xfrm>
              <a:off x="5405400" y="23144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149800" y="1866960"/>
              <a:ext cx="2981520" cy="1994400"/>
              <a:chOff x="5149800" y="1866960"/>
              <a:chExt cx="2981520" cy="199440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5181480" y="1866960"/>
                <a:ext cx="2159280" cy="86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181480" y="1903320"/>
                <a:ext cx="0" cy="8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81480" y="277164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0720" y="3351240"/>
                <a:ext cx="183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=2T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81480" y="1886040"/>
                <a:ext cx="22392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91000" y="2295360"/>
                <a:ext cx="0" cy="10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49800" y="2752560"/>
                <a:ext cx="2793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35640" y="3333600"/>
                <a:ext cx="20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296120" y="2752560"/>
                <a:ext cx="26028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56400" y="2313000"/>
                <a:ext cx="0" cy="10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5391000" y="1886040"/>
                <a:ext cx="190512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6300720" y="3351240"/>
            <a:ext cx="18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2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149800" y="1866960"/>
            <a:ext cx="2406600" cy="1466640"/>
            <a:chOff x="5149800" y="1866960"/>
            <a:chExt cx="2406600" cy="1466640"/>
          </a:xfrm>
        </p:grpSpPr>
        <p:sp>
          <p:nvSpPr>
            <p:cNvPr id="145" name=""/>
            <p:cNvSpPr/>
            <p:nvPr/>
          </p:nvSpPr>
          <p:spPr>
            <a:xfrm flipV="1">
              <a:off x="5486400" y="2781360"/>
              <a:ext cx="17906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05400" y="23144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181480" y="1866960"/>
              <a:ext cx="215928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81480" y="1903320"/>
              <a:ext cx="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81480" y="27716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81480" y="1886040"/>
              <a:ext cx="22392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1000" y="229536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9800" y="2752560"/>
              <a:ext cx="27936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35640" y="3333600"/>
              <a:ext cx="20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6120" y="2752560"/>
              <a:ext cx="26028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56400" y="231300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391000" y="1886040"/>
              <a:ext cx="190512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 Жуков</cp:lastModifiedBy>
  <dcterms:modified xsi:type="dcterms:W3CDTF">2002-02-14T19:25:14Z</dcterms:modified>
  <cp:revision>4</cp:revision>
  <dc:subject/>
  <dc:title>Заголовок слайда отсутствует</dc:title>
</cp:coreProperties>
</file>