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26CF-F3AC-4909-8380-77AD5BBA8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9B75-2FB0-4FAD-8B7E-8A074C2F7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4ED0-E3F1-4670-B79F-5AA188903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AF51-1020-49EE-80D3-C51F07210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9AA5-D89E-40E1-8FD1-A65922005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53C1-96EF-43D0-895F-91F9E0B47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9158-A656-43D1-AF0D-4EE5BED5E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DCE7-5584-4F8F-A1D8-BAFE6F58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D70C-4CA6-4B2A-ADFE-A5AF0203C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9CCF-DB23-45AB-B2E4-DE5B4557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E90A-8321-4134-990B-9458C249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81C4-3363-49B4-BAA6-EC4E1020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9A72A-9FDA-4566-BAF6-52E7AF4708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981080" y="4333680"/>
            <a:ext cx="5029200" cy="2219040"/>
            <a:chOff x="1981080" y="4333680"/>
            <a:chExt cx="5029200" cy="2219040"/>
          </a:xfrm>
        </p:grpSpPr>
        <p:sp>
          <p:nvSpPr>
            <p:cNvPr id="42" name=""/>
            <p:cNvSpPr/>
            <p:nvPr/>
          </p:nvSpPr>
          <p:spPr>
            <a:xfrm flipV="1" rot="21540000">
              <a:off x="4114440" y="4342320"/>
              <a:ext cx="1066680" cy="1104120"/>
            </a:xfrm>
            <a:custGeom>
              <a:avLst/>
              <a:gdLst>
                <a:gd name="textAreaLeft" fmla="*/ 281520 w 1066680"/>
                <a:gd name="textAreaRight" fmla="*/ 785160 w 1066680"/>
                <a:gd name="textAreaTop" fmla="*/ 291600 h 1104120"/>
                <a:gd name="textAreaBottom" fmla="*/ 812520 h 110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485" y="21600"/>
                  </a:lnTo>
                  <a:lnTo>
                    <a:pt x="7115" y="2160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flipV="1" rot="21540000">
              <a:off x="2666520" y="4342320"/>
              <a:ext cx="1066680" cy="1104120"/>
            </a:xfrm>
            <a:custGeom>
              <a:avLst/>
              <a:gdLst>
                <a:gd name="textAreaLeft" fmla="*/ 281520 w 1066680"/>
                <a:gd name="textAreaRight" fmla="*/ 785160 w 1066680"/>
                <a:gd name="textAreaTop" fmla="*/ 291600 h 1104120"/>
                <a:gd name="textAreaBottom" fmla="*/ 812520 h 110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485" y="21600"/>
                  </a:lnTo>
                  <a:lnTo>
                    <a:pt x="7115" y="2160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flipV="1" rot="21540000">
              <a:off x="5562000" y="4342320"/>
              <a:ext cx="1067040" cy="1104120"/>
            </a:xfrm>
            <a:custGeom>
              <a:avLst/>
              <a:gdLst>
                <a:gd name="textAreaLeft" fmla="*/ 281520 w 1067040"/>
                <a:gd name="textAreaRight" fmla="*/ 785520 w 1067040"/>
                <a:gd name="textAreaTop" fmla="*/ 291600 h 1104120"/>
                <a:gd name="textAreaBottom" fmla="*/ 812520 h 110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485" y="21600"/>
                  </a:lnTo>
                  <a:lnTo>
                    <a:pt x="7115" y="2160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1080" y="5369040"/>
              <a:ext cx="5029200" cy="11836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-830160" y="-5398200"/>
            <a:ext cx="10500120" cy="11206800"/>
            <a:chOff x="-830160" y="-5398200"/>
            <a:chExt cx="10500120" cy="11206800"/>
          </a:xfrm>
        </p:grpSpPr>
        <p:grpSp>
          <p:nvGrpSpPr>
            <p:cNvPr id="47" name=""/>
            <p:cNvGrpSpPr/>
            <p:nvPr/>
          </p:nvGrpSpPr>
          <p:grpSpPr>
            <a:xfrm>
              <a:off x="-156960" y="-5398200"/>
              <a:ext cx="9385200" cy="10774440"/>
              <a:chOff x="-156960" y="-5398200"/>
              <a:chExt cx="9385200" cy="10774440"/>
            </a:xfrm>
          </p:grpSpPr>
          <p:grpSp>
            <p:nvGrpSpPr>
              <p:cNvPr id="48" name=""/>
              <p:cNvGrpSpPr/>
              <p:nvPr/>
            </p:nvGrpSpPr>
            <p:grpSpPr>
              <a:xfrm>
                <a:off x="1773720" y="2017800"/>
                <a:ext cx="4254120" cy="3358440"/>
                <a:chOff x="1773720" y="2017800"/>
                <a:chExt cx="4254120" cy="3358440"/>
              </a:xfrm>
            </p:grpSpPr>
            <p:sp>
              <p:nvSpPr>
                <p:cNvPr id="49" name=""/>
                <p:cNvSpPr/>
                <p:nvPr/>
              </p:nvSpPr>
              <p:spPr>
                <a:xfrm flipV="1" rot="2691600">
                  <a:off x="3672000" y="2387160"/>
                  <a:ext cx="1827360" cy="1885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6398" y="1564"/>
                      </a:moveTo>
                      <a:arcTo wR="10800" hR="10800" stAng="-3526688" swAng="194588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6398" y="1564"/>
                      </a:moveTo>
                      <a:arcTo wR="10800" hR="10800" stAng="-3526688" swAng="1945887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" name=""/>
                <p:cNvGrpSpPr/>
                <p:nvPr/>
              </p:nvGrpSpPr>
              <p:grpSpPr>
                <a:xfrm>
                  <a:off x="1773720" y="2085840"/>
                  <a:ext cx="4254120" cy="3290400"/>
                  <a:chOff x="1773720" y="2085840"/>
                  <a:chExt cx="4254120" cy="3290400"/>
                </a:xfrm>
              </p:grpSpPr>
              <p:sp>
                <p:nvSpPr>
                  <p:cNvPr id="51" name=""/>
                  <p:cNvSpPr/>
                  <p:nvPr/>
                </p:nvSpPr>
                <p:spPr>
                  <a:xfrm rot="1374600">
                    <a:off x="2271600" y="4044960"/>
                    <a:ext cx="374760" cy="771480"/>
                  </a:xfrm>
                  <a:prstGeom prst="triangle">
                    <a:avLst>
                      <a:gd name="adj" fmla="val 45917"/>
                    </a:avLst>
                  </a:prstGeom>
                  <a:solidFill>
                    <a:srgbClr val="cc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2" name=""/>
                  <p:cNvGrpSpPr/>
                  <p:nvPr/>
                </p:nvGrpSpPr>
                <p:grpSpPr>
                  <a:xfrm>
                    <a:off x="1773720" y="2085840"/>
                    <a:ext cx="4254120" cy="3290400"/>
                    <a:chOff x="1773720" y="2085840"/>
                    <a:chExt cx="4254120" cy="3290400"/>
                  </a:xfrm>
                </p:grpSpPr>
                <p:grpSp>
                  <p:nvGrpSpPr>
                    <p:cNvPr id="53" name=""/>
                    <p:cNvGrpSpPr/>
                    <p:nvPr/>
                  </p:nvGrpSpPr>
                  <p:grpSpPr>
                    <a:xfrm>
                      <a:off x="1931040" y="2085840"/>
                      <a:ext cx="4096800" cy="3290400"/>
                      <a:chOff x="1931040" y="2085840"/>
                      <a:chExt cx="4096800" cy="3290400"/>
                    </a:xfrm>
                  </p:grpSpPr>
                  <p:sp>
                    <p:nvSpPr>
                      <p:cNvPr id="54" name=""/>
                      <p:cNvSpPr/>
                      <p:nvPr/>
                    </p:nvSpPr>
                    <p:spPr>
                      <a:xfrm flipV="1" rot="4363800">
                        <a:off x="2828160" y="2243520"/>
                        <a:ext cx="1814040" cy="2014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7206" y="2105"/>
                            </a:moveTo>
                            <a:arcTo wR="10800" hR="10800" stAng="-3217199" swAng="1792947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7206" y="2105"/>
                            </a:moveTo>
                            <a:arcTo wR="10800" hR="10800" stAng="-3217199" swAng="1792947"/>
                          </a:path>
                        </a:pathLst>
                      </a:custGeom>
                      <a:noFill/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55" name=""/>
                      <p:cNvGrpSpPr/>
                      <p:nvPr/>
                    </p:nvGrpSpPr>
                    <p:grpSpPr>
                      <a:xfrm>
                        <a:off x="3373560" y="2900880"/>
                        <a:ext cx="1241280" cy="2475360"/>
                        <a:chOff x="3373560" y="2900880"/>
                        <a:chExt cx="1241280" cy="2475360"/>
                      </a:xfrm>
                    </p:grpSpPr>
                    <p:sp>
                      <p:nvSpPr>
                        <p:cNvPr id="56" name=""/>
                        <p:cNvSpPr/>
                        <p:nvPr/>
                      </p:nvSpPr>
                      <p:spPr>
                        <a:xfrm rot="360600">
                          <a:off x="3780000" y="4436640"/>
                          <a:ext cx="374760" cy="771480"/>
                        </a:xfrm>
                        <a:prstGeom prst="triangle">
                          <a:avLst>
                            <a:gd name="adj" fmla="val 45917"/>
                          </a:avLst>
                        </a:prstGeom>
                        <a:solidFill>
                          <a:srgbClr val="ccffcc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7" name=""/>
                        <p:cNvSpPr/>
                        <p:nvPr/>
                      </p:nvSpPr>
                      <p:spPr>
                        <a:xfrm flipV="1" rot="5616000">
                          <a:off x="2888280" y="3697200"/>
                          <a:ext cx="2389680" cy="914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1269" y="10"/>
                              </a:moveTo>
                              <a:arcTo wR="10800" hR="10800" stAng="-5250552" swAng="3361822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1269" y="10"/>
                              </a:moveTo>
                              <a:arcTo wR="10800" hR="10800" stAng="-5250552" swAng="3361822"/>
                            </a:path>
                          </a:pathLst>
                        </a:custGeom>
                        <a:solidFill>
                          <a:srgbClr val="ccffcc"/>
                        </a:solidFill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8" name=""/>
                        <p:cNvSpPr/>
                        <p:nvPr/>
                      </p:nvSpPr>
                      <p:spPr>
                        <a:xfrm flipH="1" flipV="1" rot="16593000">
                          <a:off x="2770200" y="3680640"/>
                          <a:ext cx="2386440" cy="914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941" y="1"/>
                              </a:moveTo>
                              <a:arcTo wR="10800" hR="10800" stAng="-5355229" swAng="3517985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941" y="1"/>
                              </a:moveTo>
                              <a:arcTo wR="10800" hR="10800" stAng="-5355229" swAng="3517985"/>
                            </a:path>
                          </a:pathLst>
                        </a:custGeom>
                        <a:solidFill>
                          <a:srgbClr val="ccffcc"/>
                        </a:solidFill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" name=""/>
                        <p:cNvSpPr/>
                        <p:nvPr/>
                      </p:nvSpPr>
                      <p:spPr>
                        <a:xfrm>
                          <a:off x="3814920" y="5171400"/>
                          <a:ext cx="239400" cy="1692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880" bIns="-298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0" name=""/>
                      <p:cNvGrpSpPr/>
                      <p:nvPr/>
                    </p:nvGrpSpPr>
                    <p:grpSpPr>
                      <a:xfrm>
                        <a:off x="4505040" y="2800440"/>
                        <a:ext cx="1522800" cy="2547720"/>
                        <a:chOff x="4505040" y="2800440"/>
                        <a:chExt cx="1522800" cy="2547720"/>
                      </a:xfrm>
                    </p:grpSpPr>
                    <p:sp>
                      <p:nvSpPr>
                        <p:cNvPr id="61" name=""/>
                        <p:cNvSpPr/>
                        <p:nvPr/>
                      </p:nvSpPr>
                      <p:spPr>
                        <a:xfrm rot="20915400">
                          <a:off x="5200200" y="4355640"/>
                          <a:ext cx="374760" cy="771480"/>
                        </a:xfrm>
                        <a:prstGeom prst="triangle">
                          <a:avLst>
                            <a:gd name="adj" fmla="val 45917"/>
                          </a:avLst>
                        </a:prstGeom>
                        <a:solidFill>
                          <a:srgbClr val="ccffcc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 rot="4570800">
                          <a:off x="4103280" y="3612240"/>
                          <a:ext cx="2389680" cy="914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1269" y="10"/>
                              </a:moveTo>
                              <a:arcTo wR="10800" hR="10800" stAng="-5250552" swAng="3361822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1269" y="10"/>
                              </a:moveTo>
                              <a:arcTo wR="10800" hR="10800" stAng="-5250552" swAng="3361822"/>
                            </a:path>
                          </a:pathLst>
                        </a:custGeom>
                        <a:solidFill>
                          <a:srgbClr val="ccffcc"/>
                        </a:solidFill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H="1" flipV="1" rot="15547200">
                          <a:off x="3985560" y="3632400"/>
                          <a:ext cx="2386440" cy="914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941" y="1"/>
                              </a:moveTo>
                              <a:arcTo wR="10800" hR="10800" stAng="-5355229" swAng="3517985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941" y="1"/>
                              </a:moveTo>
                              <a:arcTo wR="10800" hR="10800" stAng="-5355229" swAng="3517985"/>
                            </a:path>
                          </a:pathLst>
                        </a:custGeom>
                        <a:solidFill>
                          <a:srgbClr val="ccffcc"/>
                        </a:solidFill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5346360" y="5064840"/>
                          <a:ext cx="234000" cy="5544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65" name=""/>
                      <p:cNvSpPr/>
                      <p:nvPr/>
                    </p:nvSpPr>
                    <p:spPr>
                      <a:xfrm flipV="1" rot="6630000">
                        <a:off x="1583280" y="3367440"/>
                        <a:ext cx="2388600" cy="9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7925" y="390"/>
                            </a:moveTo>
                            <a:arcTo wR="10800" hR="10800" stAng="-6326178" swAng="4437448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7925" y="390"/>
                            </a:moveTo>
                            <a:arcTo wR="10800" hR="10800" stAng="-6326178" swAng="4437448"/>
                          </a:path>
                        </a:pathLst>
                      </a:custGeom>
                      <a:solidFill>
                        <a:srgbClr val="ccffcc"/>
                      </a:solidFill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66" name=""/>
                    <p:cNvSpPr/>
                    <p:nvPr/>
                  </p:nvSpPr>
                  <p:spPr>
                    <a:xfrm flipH="1" flipV="1" rot="17606400">
                      <a:off x="1474200" y="3318480"/>
                      <a:ext cx="2386440" cy="9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941" y="1"/>
                          </a:moveTo>
                          <a:arcTo wR="10800" hR="10800" stAng="-5355229" swAng="3517985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941" y="1"/>
                          </a:moveTo>
                          <a:arcTo wR="10800" hR="10800" stAng="-5355229" swAng="3517985"/>
                        </a:path>
                      </a:pathLst>
                    </a:custGeom>
                    <a:solidFill>
                      <a:srgbClr val="ccffcc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7" name=""/>
                  <p:cNvSpPr/>
                  <p:nvPr/>
                </p:nvSpPr>
                <p:spPr>
                  <a:xfrm>
                    <a:off x="2211120" y="4721040"/>
                    <a:ext cx="225000" cy="85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8" name=""/>
              <p:cNvSpPr/>
              <p:nvPr/>
            </p:nvSpPr>
            <p:spPr>
              <a:xfrm flipV="1" rot="568800">
                <a:off x="534960" y="-4801320"/>
                <a:ext cx="8001000" cy="9067680"/>
              </a:xfrm>
              <a:prstGeom prst="ellipse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4335840" y="439920"/>
              <a:ext cx="18720" cy="53686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flipV="1">
              <a:off x="3287520" y="578520"/>
              <a:ext cx="1989720" cy="226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 rot="568800">
              <a:off x="-151920" y="-4226040"/>
              <a:ext cx="9144000" cy="8991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92920" y="380880"/>
              <a:ext cx="2514600" cy="381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413680" y="2286000"/>
              <a:ext cx="2995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4267080" y="47242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66680" y="4724280"/>
            <a:ext cx="65534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 rot="568800">
            <a:off x="-458280" y="-3783240"/>
            <a:ext cx="9526320" cy="8991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 rot="5481000">
            <a:off x="2721240" y="-4017600"/>
            <a:ext cx="3500640" cy="498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752120" y="4724280"/>
            <a:ext cx="25146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752480" y="3809880"/>
            <a:ext cx="2438640" cy="914400"/>
            <a:chOff x="1752480" y="3809880"/>
            <a:chExt cx="2438640" cy="914400"/>
          </a:xfrm>
        </p:grpSpPr>
        <p:sp>
          <p:nvSpPr>
            <p:cNvPr id="80" name=""/>
            <p:cNvSpPr/>
            <p:nvPr/>
          </p:nvSpPr>
          <p:spPr>
            <a:xfrm flipH="1" flipV="1">
              <a:off x="1752480" y="3809880"/>
              <a:ext cx="243864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752480" y="38098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138680" y="3574080"/>
            <a:ext cx="6381000" cy="2325960"/>
            <a:chOff x="1138680" y="3574080"/>
            <a:chExt cx="6381000" cy="2325960"/>
          </a:xfrm>
        </p:grpSpPr>
        <p:sp>
          <p:nvSpPr>
            <p:cNvPr id="83" name=""/>
            <p:cNvSpPr/>
            <p:nvPr/>
          </p:nvSpPr>
          <p:spPr>
            <a:xfrm>
              <a:off x="1138680" y="3574080"/>
              <a:ext cx="6381000" cy="2325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088400" y="50292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7162560" y="5486400"/>
              <a:ext cx="759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238880" y="4724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494800" y="118080"/>
            <a:ext cx="2031840" cy="5520240"/>
            <a:chOff x="2494800" y="118080"/>
            <a:chExt cx="2031840" cy="5520240"/>
          </a:xfrm>
        </p:grpSpPr>
        <p:sp>
          <p:nvSpPr>
            <p:cNvPr id="88" name=""/>
            <p:cNvSpPr/>
            <p:nvPr/>
          </p:nvSpPr>
          <p:spPr>
            <a:xfrm flipV="1">
              <a:off x="2494800" y="118080"/>
              <a:ext cx="2031840" cy="552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735720" y="26668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05320" y="2819520"/>
              <a:ext cx="2286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114800" y="2971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-418680" y="-4554000"/>
            <a:ext cx="9660600" cy="9723240"/>
            <a:chOff x="-418680" y="-4554000"/>
            <a:chExt cx="9660600" cy="9723240"/>
          </a:xfrm>
        </p:grpSpPr>
        <p:sp>
          <p:nvSpPr>
            <p:cNvPr id="93" name=""/>
            <p:cNvSpPr/>
            <p:nvPr/>
          </p:nvSpPr>
          <p:spPr>
            <a:xfrm flipV="1" rot="568800">
              <a:off x="220320" y="-3921480"/>
              <a:ext cx="8381880" cy="8458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1752480" y="304560"/>
              <a:ext cx="2819520" cy="32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2522880" y="2209680"/>
            <a:ext cx="3880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3733920"/>
            <a:ext cx="50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3880" y="4724280"/>
            <a:ext cx="50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828800" y="3657600"/>
            <a:ext cx="3090960" cy="1066680"/>
            <a:chOff x="1828800" y="3657600"/>
            <a:chExt cx="3090960" cy="1066680"/>
          </a:xfrm>
        </p:grpSpPr>
        <p:sp>
          <p:nvSpPr>
            <p:cNvPr id="99" name=""/>
            <p:cNvSpPr/>
            <p:nvPr/>
          </p:nvSpPr>
          <p:spPr>
            <a:xfrm flipV="1">
              <a:off x="4343400" y="3809880"/>
              <a:ext cx="0" cy="9144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28800" y="380988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19720" y="3657600"/>
              <a:ext cx="500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4419720" y="495288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209680" y="4723920"/>
            <a:ext cx="533520" cy="510480"/>
            <a:chOff x="2209680" y="4723920"/>
            <a:chExt cx="533520" cy="510480"/>
          </a:xfrm>
        </p:grpSpPr>
        <p:sp>
          <p:nvSpPr>
            <p:cNvPr id="104" name=""/>
            <p:cNvSpPr/>
            <p:nvPr/>
          </p:nvSpPr>
          <p:spPr>
            <a:xfrm>
              <a:off x="2666880" y="4724280"/>
              <a:ext cx="76320" cy="76320"/>
            </a:xfrm>
            <a:prstGeom prst="ellipse">
              <a:avLst/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09680" y="4724280"/>
              <a:ext cx="500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r>
                <a:rPr b="1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2514600" y="47239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2362320" y="4114800"/>
            <a:ext cx="533160" cy="510120"/>
            <a:chOff x="2362320" y="4114800"/>
            <a:chExt cx="533160" cy="510120"/>
          </a:xfrm>
        </p:grpSpPr>
        <p:sp>
          <p:nvSpPr>
            <p:cNvPr id="108" name=""/>
            <p:cNvSpPr/>
            <p:nvPr/>
          </p:nvSpPr>
          <p:spPr>
            <a:xfrm>
              <a:off x="2819520" y="4460760"/>
              <a:ext cx="75960" cy="76320"/>
            </a:xfrm>
            <a:prstGeom prst="ellipse">
              <a:avLst/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362320" y="4114800"/>
              <a:ext cx="500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r>
                <a:rPr b="1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2362320" y="5791320"/>
            <a:ext cx="976320" cy="304560"/>
          </a:xfrm>
          <a:prstGeom prst="leftArrow">
            <a:avLst>
              <a:gd name="adj1" fmla="val 50000"/>
              <a:gd name="adj2" fmla="val 80142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652400">
            <a:off x="3809880" y="304920"/>
            <a:ext cx="976320" cy="976320"/>
          </a:xfrm>
          <a:custGeom>
            <a:avLst/>
            <a:gdLst>
              <a:gd name="textAreaLeft" fmla="*/ 0 w 976320"/>
              <a:gd name="textAreaRight" fmla="*/ 976680 w 97632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2599" y="10782"/>
                </a:moveTo>
                <a:arcTo wR="-8201" hR="-8201" stAng="-10792455" swAng="-10807545"/>
                <a:lnTo>
                  <a:pt x="0" y="10800"/>
                </a:lnTo>
                <a:arcTo wR="10800" hR="10800" stAng="10800000" swAng="10807545"/>
                <a:lnTo>
                  <a:pt x="24300" y="10830"/>
                </a:lnTo>
                <a:lnTo>
                  <a:pt x="20292" y="14820"/>
                </a:lnTo>
                <a:lnTo>
                  <a:pt x="16301" y="10812"/>
                </a:lnTo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8280" y="4229280"/>
            <a:ext cx="1501920" cy="510120"/>
          </a:xfrm>
          <a:prstGeom prst="rect">
            <a:avLst/>
          </a:prstGeom>
          <a:solidFill>
            <a:srgbClr val="ff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р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р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= Рр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42200" y="5486400"/>
            <a:ext cx="2018520" cy="510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= F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r =con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320" y="5181480"/>
            <a:ext cx="1828800" cy="510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= F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33920" y="6019920"/>
            <a:ext cx="2819160" cy="510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= F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r cos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= F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 rot="2437800">
            <a:off x="-990360" y="-1752840"/>
            <a:ext cx="3500640" cy="498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 rot="18524400">
            <a:off x="6569640" y="-2379240"/>
            <a:ext cx="3414600" cy="558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700640" y="3048120"/>
            <a:ext cx="2405880" cy="2413800"/>
            <a:chOff x="1700640" y="3048120"/>
            <a:chExt cx="2405880" cy="2413800"/>
          </a:xfrm>
        </p:grpSpPr>
        <p:grpSp>
          <p:nvGrpSpPr>
            <p:cNvPr id="119" name=""/>
            <p:cNvGrpSpPr/>
            <p:nvPr/>
          </p:nvGrpSpPr>
          <p:grpSpPr>
            <a:xfrm>
              <a:off x="1700640" y="3055680"/>
              <a:ext cx="2405880" cy="2406240"/>
              <a:chOff x="1700640" y="3055680"/>
              <a:chExt cx="2405880" cy="2406240"/>
            </a:xfrm>
          </p:grpSpPr>
          <p:sp>
            <p:nvSpPr>
              <p:cNvPr id="120" name=""/>
              <p:cNvSpPr/>
              <p:nvPr/>
            </p:nvSpPr>
            <p:spPr>
              <a:xfrm>
                <a:off x="3124080" y="3352680"/>
                <a:ext cx="152640" cy="7632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2057400" y="3809880"/>
                <a:ext cx="76320" cy="1526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 rot="1412400">
                <a:off x="1989000" y="3344400"/>
                <a:ext cx="1828080" cy="182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2286000" y="30481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320" y="5715000"/>
            <a:ext cx="1828800" cy="510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= F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661200" y="-6120"/>
            <a:ext cx="4336200" cy="3590640"/>
            <a:chOff x="3661200" y="-6120"/>
            <a:chExt cx="4336200" cy="3590640"/>
          </a:xfrm>
        </p:grpSpPr>
        <p:sp>
          <p:nvSpPr>
            <p:cNvPr id="126" name=""/>
            <p:cNvSpPr/>
            <p:nvPr/>
          </p:nvSpPr>
          <p:spPr>
            <a:xfrm>
              <a:off x="3661200" y="-6120"/>
              <a:ext cx="4336200" cy="359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162920" y="2133720"/>
              <a:ext cx="533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i="1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7009920" y="251460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114800" y="304920"/>
            <a:ext cx="2819520" cy="2971800"/>
            <a:chOff x="4114800" y="304920"/>
            <a:chExt cx="2819520" cy="2971800"/>
          </a:xfrm>
        </p:grpSpPr>
        <p:sp>
          <p:nvSpPr>
            <p:cNvPr id="130" name=""/>
            <p:cNvSpPr/>
            <p:nvPr/>
          </p:nvSpPr>
          <p:spPr>
            <a:xfrm>
              <a:off x="4114800" y="304920"/>
              <a:ext cx="2819520" cy="29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48520" y="2666880"/>
              <a:ext cx="533160" cy="51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i="1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6697080" y="3962520"/>
            <a:ext cx="618120" cy="577440"/>
            <a:chOff x="6697080" y="3962520"/>
            <a:chExt cx="618120" cy="577440"/>
          </a:xfrm>
        </p:grpSpPr>
        <p:sp>
          <p:nvSpPr>
            <p:cNvPr id="133" name=""/>
            <p:cNvSpPr/>
            <p:nvPr/>
          </p:nvSpPr>
          <p:spPr>
            <a:xfrm>
              <a:off x="6697080" y="4146840"/>
              <a:ext cx="245520" cy="39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781680" y="39625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95800" y="3249360"/>
            <a:ext cx="1257480" cy="1020240"/>
            <a:chOff x="6895800" y="3249360"/>
            <a:chExt cx="1257480" cy="1020240"/>
          </a:xfrm>
        </p:grpSpPr>
        <p:sp>
          <p:nvSpPr>
            <p:cNvPr id="136" name=""/>
            <p:cNvSpPr/>
            <p:nvPr/>
          </p:nvSpPr>
          <p:spPr>
            <a:xfrm>
              <a:off x="6895800" y="3249360"/>
              <a:ext cx="783360" cy="74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772400" y="3809880"/>
              <a:ext cx="380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620120" y="396252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6096600" y="380880"/>
            <a:ext cx="86364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d=m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23360" y="2362320"/>
            <a:ext cx="1515240" cy="5101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=d -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,5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36600" y="914400"/>
            <a:ext cx="1387440" cy="5101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=d 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848000" y="1523880"/>
            <a:ext cx="129492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,25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168320" y="380880"/>
            <a:ext cx="826920" cy="5101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г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=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3T19:23:10Z</dcterms:created>
  <dc:creator>Довольный пользователь Microsoft Office</dc:creator>
  <dc:description/>
  <dc:language>en-US</dc:language>
  <cp:lastModifiedBy>Владимир Жуков</cp:lastModifiedBy>
  <dcterms:modified xsi:type="dcterms:W3CDTF">2002-01-23T20:26:04Z</dcterms:modified>
  <cp:revision>32</cp:revision>
  <dc:subject/>
  <dc:title>Заголовок слайда отсутствует</dc:title>
</cp:coreProperties>
</file>