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03A-4381-4248-998A-DC351824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226-D710-45D8-B1A0-0A7696D0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9B4-390F-4077-BF17-8CB1F47E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3F3-7F00-466E-A9B2-1D3EFC8B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CFE-A099-48F4-B1AA-40E95935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59F-5F4A-4040-823E-43BA46F8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B2D-A698-4A06-B29B-D58B23FC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71D-1516-4298-9DB1-F3CC7540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552-5F6F-4871-8FF3-146D93AE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A93-3CB9-4A72-AF53-5837CD4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260-65B7-4322-9C08-75994C37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69B-6D84-45C8-9D9A-C89634F6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9927-2848-4436-93C8-770DC445F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03960" y="3193200"/>
            <a:ext cx="10877400" cy="11547000"/>
            <a:chOff x="-903960" y="3193200"/>
            <a:chExt cx="10877400" cy="11547000"/>
          </a:xfrm>
        </p:grpSpPr>
        <p:grpSp>
          <p:nvGrpSpPr>
            <p:cNvPr id="42" name=""/>
            <p:cNvGrpSpPr/>
            <p:nvPr/>
          </p:nvGrpSpPr>
          <p:grpSpPr>
            <a:xfrm>
              <a:off x="-903960" y="3193200"/>
              <a:ext cx="10877400" cy="11547000"/>
              <a:chOff x="-903960" y="3193200"/>
              <a:chExt cx="10877400" cy="11547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-471240" y="3457800"/>
                <a:ext cx="10256760" cy="11282400"/>
                <a:chOff x="-471240" y="3457800"/>
                <a:chExt cx="10256760" cy="1128240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-471240" y="3457800"/>
                  <a:ext cx="10256760" cy="11282400"/>
                  <a:chOff x="-471240" y="3457800"/>
                  <a:chExt cx="10256760" cy="11282400"/>
                </a:xfrm>
              </p:grpSpPr>
              <p:grpSp>
                <p:nvGrpSpPr>
                  <p:cNvPr id="45" name=""/>
                  <p:cNvGrpSpPr/>
                  <p:nvPr/>
                </p:nvGrpSpPr>
                <p:grpSpPr>
                  <a:xfrm>
                    <a:off x="-223920" y="3755520"/>
                    <a:ext cx="9902880" cy="10984680"/>
                    <a:chOff x="-223920" y="3755520"/>
                    <a:chExt cx="9902880" cy="10984680"/>
                  </a:xfrm>
                </p:grpSpPr>
                <p:grpSp>
                  <p:nvGrpSpPr>
                    <p:cNvPr id="46" name=""/>
                    <p:cNvGrpSpPr/>
                    <p:nvPr/>
                  </p:nvGrpSpPr>
                  <p:grpSpPr>
                    <a:xfrm>
                      <a:off x="1642320" y="3755520"/>
                      <a:ext cx="4213800" cy="3350880"/>
                      <a:chOff x="1642320" y="3755520"/>
                      <a:chExt cx="4213800" cy="3350880"/>
                    </a:xfrm>
                  </p:grpSpPr>
                  <p:sp>
                    <p:nvSpPr>
                      <p:cNvPr id="47" name=""/>
                      <p:cNvSpPr/>
                      <p:nvPr/>
                    </p:nvSpPr>
                    <p:spPr>
                      <a:xfrm rot="18664800">
                        <a:off x="3629520" y="4855320"/>
                        <a:ext cx="1828080" cy="188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98" y="1564"/>
                            </a:moveTo>
                            <a:arcTo wR="10800" hR="10800" stAng="-3526688" swAng="194588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98" y="1564"/>
                            </a:moveTo>
                            <a:arcTo wR="10800" hR="10800" stAng="-3526688" swAng="1945887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8" name=""/>
                      <p:cNvGrpSpPr/>
                      <p:nvPr/>
                    </p:nvGrpSpPr>
                    <p:grpSpPr>
                      <a:xfrm>
                        <a:off x="1642320" y="3755520"/>
                        <a:ext cx="4213800" cy="3296160"/>
                        <a:chOff x="1642320" y="3755520"/>
                        <a:chExt cx="4213800" cy="3296160"/>
                      </a:xfrm>
                    </p:grpSpPr>
                    <p:sp>
                      <p:nvSpPr>
                        <p:cNvPr id="49" name=""/>
                        <p:cNvSpPr/>
                        <p:nvPr/>
                      </p:nvSpPr>
                      <p:spPr>
                        <a:xfrm flipV="1" rot="19981200">
                          <a:off x="2248200" y="4568400"/>
                          <a:ext cx="374400" cy="771840"/>
                        </a:xfrm>
                        <a:prstGeom prst="triangle">
                          <a:avLst>
                            <a:gd name="adj" fmla="val 45917"/>
                          </a:avLst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0" name=""/>
                        <p:cNvGrpSpPr/>
                        <p:nvPr/>
                      </p:nvGrpSpPr>
                      <p:grpSpPr>
                        <a:xfrm>
                          <a:off x="1642320" y="3755520"/>
                          <a:ext cx="4213800" cy="3296160"/>
                          <a:chOff x="1642320" y="3755520"/>
                          <a:chExt cx="4213800" cy="3296160"/>
                        </a:xfrm>
                      </p:grpSpPr>
                      <p:grpSp>
                        <p:nvGrpSpPr>
                          <p:cNvPr id="51" name=""/>
                          <p:cNvGrpSpPr/>
                          <p:nvPr/>
                        </p:nvGrpSpPr>
                        <p:grpSpPr>
                          <a:xfrm>
                            <a:off x="1794240" y="3755520"/>
                            <a:ext cx="4061880" cy="3296160"/>
                            <a:chOff x="1794240" y="3755520"/>
                            <a:chExt cx="4061880" cy="3296160"/>
                          </a:xfrm>
                        </p:grpSpPr>
                        <p:sp>
                          <p:nvSpPr>
                            <p:cNvPr id="52" name=""/>
                            <p:cNvSpPr/>
                            <p:nvPr/>
                          </p:nvSpPr>
                          <p:spPr>
                            <a:xfrm rot="16992000">
                              <a:off x="2794680" y="4932000"/>
                              <a:ext cx="1814040" cy="2013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17206" y="2105"/>
                                  </a:moveTo>
                                  <a:arcTo wR="10800" hR="10800" stAng="-3217199" swAng="1792947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17206" y="2105"/>
                                  </a:moveTo>
                                  <a:arcTo wR="10800" hR="10800" stAng="-3217199" swAng="1792947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53" name=""/>
                            <p:cNvGrpSpPr/>
                            <p:nvPr/>
                          </p:nvGrpSpPr>
                          <p:grpSpPr>
                            <a:xfrm>
                              <a:off x="3197880" y="3766680"/>
                              <a:ext cx="1398960" cy="2527200"/>
                              <a:chOff x="3197880" y="3766680"/>
                              <a:chExt cx="1398960" cy="2527200"/>
                            </a:xfrm>
                          </p:grpSpPr>
                          <p:sp>
                            <p:nvSpPr>
                              <p:cNvPr id="54" name=""/>
                              <p:cNvSpPr/>
                              <p:nvPr/>
                            </p:nvSpPr>
                            <p:spPr>
                              <a:xfrm flipV="1" rot="20995800">
                                <a:off x="3634920" y="3968640"/>
                                <a:ext cx="374400" cy="771480"/>
                              </a:xfrm>
                              <a:prstGeom prst="triangle">
                                <a:avLst>
                                  <a:gd name="adj" fmla="val 45917"/>
                                </a:avLst>
                              </a:prstGeom>
                              <a:solidFill>
                                <a:srgbClr val="ccff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" name=""/>
                              <p:cNvSpPr/>
                              <p:nvPr/>
                            </p:nvSpPr>
                            <p:spPr>
                              <a:xfrm rot="15740400">
                                <a:off x="2789640" y="4554360"/>
                                <a:ext cx="2389680" cy="914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" name=""/>
                              <p:cNvSpPr/>
                              <p:nvPr/>
                            </p:nvSpPr>
                            <p:spPr>
                              <a:xfrm flipH="1" rot="4763400">
                                <a:off x="2673360" y="4579920"/>
                                <a:ext cx="2386440" cy="913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" name=""/>
                              <p:cNvSpPr/>
                              <p:nvPr/>
                            </p:nvSpPr>
                            <p:spPr>
                              <a:xfrm flipV="1">
                                <a:off x="3645720" y="3984120"/>
                                <a:ext cx="237600" cy="3348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3320" bIns="-133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8" name=""/>
                            <p:cNvGrpSpPr/>
                            <p:nvPr/>
                          </p:nvGrpSpPr>
                          <p:grpSpPr>
                            <a:xfrm>
                              <a:off x="4487760" y="3755520"/>
                              <a:ext cx="1368360" cy="2509920"/>
                              <a:chOff x="4487760" y="3755520"/>
                              <a:chExt cx="1368360" cy="2509920"/>
                            </a:xfrm>
                          </p:grpSpPr>
                          <p:sp>
                            <p:nvSpPr>
                              <p:cNvPr id="59" name=""/>
                              <p:cNvSpPr/>
                              <p:nvPr/>
                            </p:nvSpPr>
                            <p:spPr>
                              <a:xfrm flipV="1" rot="440400">
                                <a:off x="5057280" y="3948480"/>
                                <a:ext cx="374400" cy="771120"/>
                              </a:xfrm>
                              <a:prstGeom prst="triangle">
                                <a:avLst>
                                  <a:gd name="adj" fmla="val 45917"/>
                                </a:avLst>
                              </a:prstGeom>
                              <a:solidFill>
                                <a:srgbClr val="ccff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" name=""/>
                              <p:cNvSpPr/>
                              <p:nvPr/>
                            </p:nvSpPr>
                            <p:spPr>
                              <a:xfrm rot="16786200">
                                <a:off x="4007880" y="4553280"/>
                                <a:ext cx="2389680" cy="914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" name=""/>
                              <p:cNvSpPr/>
                              <p:nvPr/>
                            </p:nvSpPr>
                            <p:spPr>
                              <a:xfrm flipH="1" rot="5809200">
                                <a:off x="3889080" y="4542120"/>
                                <a:ext cx="2386440" cy="913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" name=""/>
                              <p:cNvSpPr/>
                              <p:nvPr/>
                            </p:nvSpPr>
                            <p:spPr>
                              <a:xfrm>
                                <a:off x="5176800" y="3960000"/>
                                <a:ext cx="236880" cy="3924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560" bIns="-75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3" name=""/>
                            <p:cNvSpPr/>
                            <p:nvPr/>
                          </p:nvSpPr>
                          <p:spPr>
                            <a:xfrm rot="14727000">
                              <a:off x="1511640" y="4976640"/>
                              <a:ext cx="2388600" cy="913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7925" y="390"/>
                                  </a:moveTo>
                                  <a:arcTo wR="10800" hR="10800" stAng="-6326178" swAng="4437448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7925" y="390"/>
                                  </a:moveTo>
                                  <a:arcTo wR="10800" hR="10800" stAng="-6326178" swAng="4437448"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4" name=""/>
                          <p:cNvSpPr/>
                          <p:nvPr/>
                        </p:nvSpPr>
                        <p:spPr>
                          <a:xfrm flipH="1" rot="3748800">
                            <a:off x="1405080" y="5032080"/>
                            <a:ext cx="2386440" cy="9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063520" y="4494600"/>
                          <a:ext cx="251640" cy="155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6" name=""/>
                    <p:cNvSpPr/>
                    <p:nvPr/>
                  </p:nvSpPr>
                  <p:spPr>
                    <a:xfrm rot="20787000">
                      <a:off x="726840" y="4861080"/>
                      <a:ext cx="8001000" cy="9067680"/>
                    </a:xfrm>
                    <a:prstGeom prst="ellipse">
                      <a:avLst/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" name=""/>
                  <p:cNvSpPr/>
                  <p:nvPr/>
                </p:nvSpPr>
                <p:spPr>
                  <a:xfrm rot="20787000">
                    <a:off x="465120" y="4314600"/>
                    <a:ext cx="8383320" cy="89917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 flipH="1" flipV="1">
                  <a:off x="4307040" y="3924000"/>
                  <a:ext cx="128160" cy="1050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 rot="21031200">
                <a:off x="-228240" y="3916440"/>
                <a:ext cx="9526680" cy="8991360"/>
              </a:xfrm>
              <a:prstGeom prst="ellipse">
                <a:avLst/>
              </a:prstGeom>
              <a:noFill/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52480" y="4876920"/>
              <a:ext cx="2514600" cy="3886200"/>
              <a:chOff x="1752480" y="4876920"/>
              <a:chExt cx="2514600" cy="3886200"/>
            </a:xfrm>
          </p:grpSpPr>
          <p:sp>
            <p:nvSpPr>
              <p:cNvPr id="71" name=""/>
              <p:cNvSpPr/>
              <p:nvPr/>
            </p:nvSpPr>
            <p:spPr>
              <a:xfrm>
                <a:off x="1752480" y="4876920"/>
                <a:ext cx="251460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29360" y="6019920"/>
                <a:ext cx="510120" cy="5101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 flipV="1" rot="5481000">
            <a:off x="2950200" y="-4550760"/>
            <a:ext cx="350028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53400">
            <a:off x="3026160" y="7184160"/>
            <a:ext cx="350064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29200" y="6156360"/>
            <a:ext cx="67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543800">
            <a:off x="-304560" y="5562720"/>
            <a:ext cx="3500640" cy="49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2659200">
            <a:off x="5823000" y="5562360"/>
            <a:ext cx="3321000" cy="52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-1371600" y="-6333120"/>
            <a:ext cx="11667960" cy="19823040"/>
            <a:chOff x="-1371600" y="-6333120"/>
            <a:chExt cx="11667960" cy="19823040"/>
          </a:xfrm>
        </p:grpSpPr>
        <p:grpSp>
          <p:nvGrpSpPr>
            <p:cNvPr id="79" name=""/>
            <p:cNvGrpSpPr/>
            <p:nvPr/>
          </p:nvGrpSpPr>
          <p:grpSpPr>
            <a:xfrm>
              <a:off x="-1058040" y="-4989960"/>
              <a:ext cx="10877760" cy="18479880"/>
              <a:chOff x="-1058040" y="-4989960"/>
              <a:chExt cx="10877760" cy="184798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594600" y="9169560"/>
                <a:ext cx="2882880" cy="4320360"/>
                <a:chOff x="3594600" y="9169560"/>
                <a:chExt cx="2882880" cy="4320360"/>
              </a:xfrm>
            </p:grpSpPr>
            <p:sp>
              <p:nvSpPr>
                <p:cNvPr id="81" name=""/>
                <p:cNvSpPr/>
                <p:nvPr/>
              </p:nvSpPr>
              <p:spPr>
                <a:xfrm flipV="1">
                  <a:off x="6217560" y="12606840"/>
                  <a:ext cx="259920" cy="46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 rot="373200">
                  <a:off x="4541400" y="1340928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 flipV="1">
                  <a:off x="3594600" y="9169560"/>
                  <a:ext cx="1978560" cy="21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 flipV="1" rot="568800">
                <a:off x="-382320" y="-4266720"/>
                <a:ext cx="9526680" cy="8991360"/>
              </a:xfrm>
              <a:prstGeom prst="ellipse">
                <a:avLst/>
              </a:prstGeom>
              <a:noFill/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-1371600" y="-6333120"/>
              <a:ext cx="11667960" cy="12022200"/>
              <a:chOff x="-1371600" y="-6333120"/>
              <a:chExt cx="11667960" cy="120222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-1371600" y="-6333120"/>
                <a:ext cx="11667960" cy="12022200"/>
                <a:chOff x="-1371600" y="-6333120"/>
                <a:chExt cx="11667960" cy="12022200"/>
              </a:xfrm>
            </p:grpSpPr>
            <p:sp>
              <p:nvSpPr>
                <p:cNvPr id="87" name=""/>
                <p:cNvSpPr/>
                <p:nvPr/>
              </p:nvSpPr>
              <p:spPr>
                <a:xfrm flipH="1">
                  <a:off x="6685200" y="4895280"/>
                  <a:ext cx="191160" cy="34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-1371600" y="-6333120"/>
                  <a:ext cx="11667960" cy="12022200"/>
                  <a:chOff x="-1371600" y="-6333120"/>
                  <a:chExt cx="11667960" cy="1202220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-654840" y="-6333120"/>
                    <a:ext cx="10717200" cy="11331360"/>
                    <a:chOff x="-654840" y="-6333120"/>
                    <a:chExt cx="10717200" cy="11331360"/>
                  </a:xfrm>
                </p:grpSpPr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1009080" y="1586520"/>
                      <a:ext cx="4317120" cy="3361680"/>
                      <a:chOff x="1009080" y="1586520"/>
                      <a:chExt cx="4317120" cy="3361680"/>
                    </a:xfrm>
                  </p:grpSpPr>
                  <p:sp>
                    <p:nvSpPr>
                      <p:cNvPr id="91" name=""/>
                      <p:cNvSpPr/>
                      <p:nvPr/>
                    </p:nvSpPr>
                    <p:spPr>
                      <a:xfrm flipV="1" rot="3381000">
                        <a:off x="3121560" y="1926000"/>
                        <a:ext cx="1827360" cy="188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98" y="1564"/>
                            </a:moveTo>
                            <a:arcTo wR="10800" hR="10800" stAng="-3526688" swAng="194588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98" y="1564"/>
                            </a:moveTo>
                            <a:arcTo wR="10800" hR="10800" stAng="-3526688" swAng="1945887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2" name=""/>
                      <p:cNvGrpSpPr/>
                      <p:nvPr/>
                    </p:nvGrpSpPr>
                    <p:grpSpPr>
                      <a:xfrm>
                        <a:off x="1009080" y="1617840"/>
                        <a:ext cx="4083120" cy="3330360"/>
                        <a:chOff x="1009080" y="1617840"/>
                        <a:chExt cx="4083120" cy="3330360"/>
                      </a:xfrm>
                    </p:grpSpPr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rot="2064600">
                          <a:off x="1544760" y="3137760"/>
                          <a:ext cx="374760" cy="771480"/>
                        </a:xfrm>
                        <a:prstGeom prst="triangle">
                          <a:avLst>
                            <a:gd name="adj" fmla="val 45917"/>
                          </a:avLst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4" name=""/>
                        <p:cNvGrpSpPr/>
                        <p:nvPr/>
                      </p:nvGrpSpPr>
                      <p:grpSpPr>
                        <a:xfrm>
                          <a:off x="1009080" y="1617840"/>
                          <a:ext cx="4083120" cy="3330360"/>
                          <a:chOff x="1009080" y="1617840"/>
                          <a:chExt cx="4083120" cy="3330360"/>
                        </a:xfrm>
                      </p:grpSpPr>
                      <p:grpSp>
                        <p:nvGrpSpPr>
                          <p:cNvPr id="95" name=""/>
                          <p:cNvGrpSpPr/>
                          <p:nvPr/>
                        </p:nvGrpSpPr>
                        <p:grpSpPr>
                          <a:xfrm>
                            <a:off x="1144440" y="1617840"/>
                            <a:ext cx="3947760" cy="3330360"/>
                            <a:chOff x="1144440" y="1617840"/>
                            <a:chExt cx="3947760" cy="3330360"/>
                          </a:xfrm>
                        </p:grpSpPr>
                        <p:sp>
                          <p:nvSpPr>
                            <p:cNvPr id="96" name=""/>
                            <p:cNvSpPr/>
                            <p:nvPr/>
                          </p:nvSpPr>
                          <p:spPr>
                            <a:xfrm flipV="1" rot="5053800">
                              <a:off x="2310840" y="1613880"/>
                              <a:ext cx="1814040" cy="2014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17206" y="2105"/>
                                  </a:moveTo>
                                  <a:arcTo wR="10800" hR="10800" stAng="-3217199" swAng="1792947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17206" y="2105"/>
                                  </a:moveTo>
                                  <a:arcTo wR="10800" hR="10800" stAng="-3217199" swAng="1792947"/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7" name=""/>
                            <p:cNvGrpSpPr/>
                            <p:nvPr/>
                          </p:nvGrpSpPr>
                          <p:grpSpPr>
                            <a:xfrm>
                              <a:off x="2460240" y="2260440"/>
                              <a:ext cx="1671120" cy="2589480"/>
                              <a:chOff x="2460240" y="2260440"/>
                              <a:chExt cx="1671120" cy="2589480"/>
                            </a:xfrm>
                          </p:grpSpPr>
                          <p:sp>
                            <p:nvSpPr>
                              <p:cNvPr id="98" name=""/>
                              <p:cNvSpPr/>
                              <p:nvPr/>
                            </p:nvSpPr>
                            <p:spPr>
                              <a:xfrm rot="1050000">
                                <a:off x="2944800" y="3822120"/>
                                <a:ext cx="374760" cy="771480"/>
                              </a:xfrm>
                              <a:prstGeom prst="triangle">
                                <a:avLst>
                                  <a:gd name="adj" fmla="val 45917"/>
                                </a:avLst>
                              </a:prstGeom>
                              <a:solidFill>
                                <a:srgbClr val="ccff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" name=""/>
                              <p:cNvSpPr/>
                              <p:nvPr/>
                            </p:nvSpPr>
                            <p:spPr>
                              <a:xfrm flipV="1" rot="6305400">
                                <a:off x="2183760" y="3119400"/>
                                <a:ext cx="2389680" cy="91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" name=""/>
                              <p:cNvSpPr/>
                              <p:nvPr/>
                            </p:nvSpPr>
                            <p:spPr>
                              <a:xfrm flipH="1" flipV="1" rot="17282400">
                                <a:off x="2071080" y="3079080"/>
                                <a:ext cx="2386440" cy="91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1" name=""/>
                              <p:cNvSpPr/>
                              <p:nvPr/>
                            </p:nvSpPr>
                            <p:spPr>
                              <a:xfrm>
                                <a:off x="2913120" y="4519800"/>
                                <a:ext cx="231480" cy="6408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7280" bIns="17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2" name=""/>
                            <p:cNvGrpSpPr/>
                            <p:nvPr/>
                          </p:nvGrpSpPr>
                          <p:grpSpPr>
                            <a:xfrm>
                              <a:off x="3996000" y="2523240"/>
                              <a:ext cx="1096200" cy="2424960"/>
                              <a:chOff x="3996000" y="2523240"/>
                              <a:chExt cx="1096200" cy="2424960"/>
                            </a:xfrm>
                          </p:grpSpPr>
                          <p:sp>
                            <p:nvSpPr>
                              <p:cNvPr id="103" name=""/>
                              <p:cNvSpPr/>
                              <p:nvPr/>
                            </p:nvSpPr>
                            <p:spPr>
                              <a:xfrm rot="4800">
                                <a:off x="4352760" y="4025880"/>
                                <a:ext cx="374760" cy="771480"/>
                              </a:xfrm>
                              <a:prstGeom prst="triangle">
                                <a:avLst>
                                  <a:gd name="adj" fmla="val 45917"/>
                                </a:avLst>
                              </a:prstGeom>
                              <a:solidFill>
                                <a:srgbClr val="ccffcc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" name=""/>
                              <p:cNvSpPr/>
                              <p:nvPr/>
                            </p:nvSpPr>
                            <p:spPr>
                              <a:xfrm flipV="1" rot="5260200">
                                <a:off x="3391560" y="3278160"/>
                                <a:ext cx="2389680" cy="91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1269" y="10"/>
                                    </a:moveTo>
                                    <a:arcTo wR="10800" hR="10800" stAng="-5250552" swAng="3361822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" name=""/>
                              <p:cNvSpPr/>
                              <p:nvPr/>
                            </p:nvSpPr>
                            <p:spPr>
                              <a:xfrm flipH="1" flipV="1" rot="16237200">
                                <a:off x="3272400" y="3274920"/>
                                <a:ext cx="2386440" cy="914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941" y="1"/>
                                    </a:moveTo>
                                    <a:arcTo wR="10800" hR="10800" stAng="-5355229" swAng="3517985"/>
                                  </a:path>
                                </a:pathLst>
                              </a:custGeom>
                              <a:solidFill>
                                <a:srgbClr val="ccffcc"/>
                              </a:solidFill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6" name=""/>
                              <p:cNvSpPr/>
                              <p:nvPr/>
                            </p:nvSpPr>
                            <p:spPr>
                              <a:xfrm flipV="1">
                                <a:off x="4424400" y="4766760"/>
                                <a:ext cx="240120" cy="828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 flipV="1" rot="7319400">
                              <a:off x="970560" y="2536200"/>
                              <a:ext cx="2388600" cy="914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stroke="0" w="21600" h="21600">
                                  <a:moveTo>
                                    <a:pt x="7925" y="390"/>
                                  </a:moveTo>
                                  <a:arcTo wR="10800" hR="10800" stAng="-6326178" swAng="4437448"/>
                                  <a:lnTo>
                                    <a:pt x="10800" y="10800"/>
                                  </a:lnTo>
                                  <a:close/>
                                </a:path>
                                <a:path fill="none" w="21600" h="21600">
                                  <a:moveTo>
                                    <a:pt x="7925" y="390"/>
                                  </a:moveTo>
                                  <a:arcTo wR="10800" hR="10800" stAng="-6326178" swAng="4437448"/>
                                </a:path>
                              </a:pathLst>
                            </a:custGeom>
                            <a:solidFill>
                              <a:srgbClr val="ccffcc"/>
                            </a:solidFill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8" name=""/>
                          <p:cNvSpPr/>
                          <p:nvPr/>
                        </p:nvSpPr>
                        <p:spPr>
                          <a:xfrm flipH="1" flipV="1" rot="18296400">
                            <a:off x="873360" y="2465640"/>
                            <a:ext cx="2386440" cy="9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>
                          <a:off x="1431360" y="3758760"/>
                          <a:ext cx="203400" cy="1288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0" name=""/>
                    <p:cNvSpPr/>
                    <p:nvPr/>
                  </p:nvSpPr>
                  <p:spPr>
                    <a:xfrm flipV="1" rot="1258800">
                      <a:off x="703080" y="-5201280"/>
                      <a:ext cx="8001000" cy="9067680"/>
                    </a:xfrm>
                    <a:prstGeom prst="ellipse">
                      <a:avLst/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-1371600" y="-5978880"/>
                    <a:ext cx="11667960" cy="11667960"/>
                    <a:chOff x="-1371600" y="-5978880"/>
                    <a:chExt cx="11667960" cy="1166796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 flipH="1">
                      <a:off x="4323600" y="33480"/>
                      <a:ext cx="87120" cy="525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flipH="1" flipV="1">
                      <a:off x="3318480" y="-22680"/>
                      <a:ext cx="2129040" cy="77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flipV="1" rot="1258800">
                      <a:off x="522000" y="-4365720"/>
                      <a:ext cx="8076960" cy="84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 flipV="1" rot="1363800">
                      <a:off x="4320" y="-4602960"/>
                      <a:ext cx="8915400" cy="8915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 rot="689400">
                      <a:off x="6788160" y="4495680"/>
                      <a:ext cx="372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flipH="1">
                      <a:off x="6906240" y="4345560"/>
                      <a:ext cx="64080" cy="291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flipV="1">
                      <a:off x="1200600" y="-277200"/>
                      <a:ext cx="3589920" cy="2676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 rot="689400">
                      <a:off x="2384280" y="1272600"/>
                      <a:ext cx="476640" cy="510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flipH="1">
                      <a:off x="1882080" y="-207000"/>
                      <a:ext cx="2690640" cy="3700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689400">
                      <a:off x="3051360" y="1447560"/>
                      <a:ext cx="388080" cy="510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400040" y="4184640"/>
                      <a:ext cx="5842440" cy="15660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-31680" y="2575440"/>
                  <a:ext cx="7221240" cy="28630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114800" y="-304920"/>
                <a:ext cx="3657600" cy="3810240"/>
                <a:chOff x="4114800" y="-304920"/>
                <a:chExt cx="3657600" cy="38102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114800" y="-304920"/>
                  <a:ext cx="3657600" cy="381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96480" y="1981080"/>
                  <a:ext cx="510120" cy="510120"/>
                </a:xfrm>
                <a:prstGeom prst="rect">
                  <a:avLst/>
                </a:prstGeom>
                <a:solidFill>
                  <a:srgbClr val="ff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7" name=""/>
          <p:cNvSpPr/>
          <p:nvPr/>
        </p:nvSpPr>
        <p:spPr>
          <a:xfrm flipV="1" rot="2437800">
            <a:off x="-820800" y="-2342160"/>
            <a:ext cx="312444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5000" y="3276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657600" y="3580920"/>
            <a:ext cx="243828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29200" y="380880"/>
            <a:ext cx="67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81480" y="4343400"/>
            <a:ext cx="2057400" cy="2013480"/>
            <a:chOff x="5181480" y="4343400"/>
            <a:chExt cx="2057400" cy="2013480"/>
          </a:xfrm>
        </p:grpSpPr>
        <p:sp>
          <p:nvSpPr>
            <p:cNvPr id="132" name=""/>
            <p:cNvSpPr/>
            <p:nvPr/>
          </p:nvSpPr>
          <p:spPr>
            <a:xfrm>
              <a:off x="5181480" y="5638680"/>
              <a:ext cx="2057400" cy="71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4120" y="4343400"/>
              <a:ext cx="75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581280" y="6172200"/>
            <a:ext cx="1676520" cy="128124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2395" y="11617"/>
                </a:moveTo>
                <a:arcTo wR="-8445" hR="-8445" stAng="10466923" swAng="-11069599"/>
                <a:lnTo>
                  <a:pt x="166" y="12684"/>
                </a:lnTo>
                <a:arcTo wR="10800" hR="10800" stAng="10197324" swAng="11069599"/>
                <a:lnTo>
                  <a:pt x="24237" y="9494"/>
                </a:lnTo>
                <a:lnTo>
                  <a:pt x="20752" y="13728"/>
                </a:lnTo>
                <a:lnTo>
                  <a:pt x="16518" y="10244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5320" y="4038480"/>
            <a:ext cx="1218960" cy="4038840"/>
            <a:chOff x="3505320" y="4038480"/>
            <a:chExt cx="1218960" cy="4038840"/>
          </a:xfrm>
        </p:grpSpPr>
        <p:sp>
          <p:nvSpPr>
            <p:cNvPr id="136" name=""/>
            <p:cNvSpPr/>
            <p:nvPr/>
          </p:nvSpPr>
          <p:spPr>
            <a:xfrm>
              <a:off x="3581280" y="4038480"/>
              <a:ext cx="60984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2120" y="5486400"/>
              <a:ext cx="538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505320" y="59432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05320" y="3886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7280" y="3887640"/>
            <a:ext cx="8685360" cy="76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26" y="2082"/>
                </a:moveTo>
                <a:arcTo wR="10800" hR="10800" stAng="-7570206" swAng="2363276"/>
                <a:lnTo>
                  <a:pt x="10800" y="10800"/>
                </a:lnTo>
                <a:close/>
              </a:path>
              <a:path fill="none" w="21600" h="21600">
                <a:moveTo>
                  <a:pt x="4426" y="2082"/>
                </a:moveTo>
                <a:arcTo wR="10800" hR="10800" stAng="-7570206" swAng="2363276"/>
              </a:path>
            </a:pathLst>
          </a:cu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03848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495680" y="4530600"/>
            <a:ext cx="762120" cy="1175400"/>
            <a:chOff x="4495680" y="4530600"/>
            <a:chExt cx="762120" cy="1175400"/>
          </a:xfrm>
        </p:grpSpPr>
        <p:sp>
          <p:nvSpPr>
            <p:cNvPr id="144" name=""/>
            <p:cNvSpPr/>
            <p:nvPr/>
          </p:nvSpPr>
          <p:spPr>
            <a:xfrm>
              <a:off x="4495680" y="4987800"/>
              <a:ext cx="762120" cy="71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876920" y="453060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523880" y="3429000"/>
            <a:ext cx="6019920" cy="914400"/>
            <a:chOff x="1523880" y="3429000"/>
            <a:chExt cx="6019920" cy="914400"/>
          </a:xfrm>
        </p:grpSpPr>
        <p:sp>
          <p:nvSpPr>
            <p:cNvPr id="147" name=""/>
            <p:cNvSpPr/>
            <p:nvPr/>
          </p:nvSpPr>
          <p:spPr>
            <a:xfrm flipV="1">
              <a:off x="1523880" y="3429000"/>
              <a:ext cx="6019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41640" y="3505320"/>
              <a:ext cx="538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34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4114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009920" y="3429000"/>
            <a:ext cx="637560" cy="1981080"/>
            <a:chOff x="7009920" y="3429000"/>
            <a:chExt cx="637560" cy="1981080"/>
          </a:xfrm>
        </p:grpSpPr>
        <p:sp>
          <p:nvSpPr>
            <p:cNvPr id="152" name=""/>
            <p:cNvSpPr/>
            <p:nvPr/>
          </p:nvSpPr>
          <p:spPr>
            <a:xfrm>
              <a:off x="7241040" y="3886200"/>
              <a:ext cx="4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7238880" y="3429000"/>
              <a:ext cx="76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009920" y="44956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V="1" rot="19727400">
            <a:off x="6400440" y="-2362320"/>
            <a:ext cx="3321000" cy="528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38680" y="4266720"/>
            <a:ext cx="990720" cy="1296000"/>
            <a:chOff x="5638680" y="4266720"/>
            <a:chExt cx="990720" cy="1296000"/>
          </a:xfrm>
        </p:grpSpPr>
        <p:sp>
          <p:nvSpPr>
            <p:cNvPr id="157" name=""/>
            <p:cNvSpPr/>
            <p:nvPr/>
          </p:nvSpPr>
          <p:spPr>
            <a:xfrm>
              <a:off x="5638680" y="44197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2160" y="4419720"/>
              <a:ext cx="538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095880" y="5029200"/>
              <a:ext cx="15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24480" y="4266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962520" y="2362320"/>
            <a:ext cx="2361960" cy="1295280"/>
            <a:chOff x="3962520" y="2362320"/>
            <a:chExt cx="2361960" cy="1295280"/>
          </a:xfrm>
        </p:grpSpPr>
        <p:sp>
          <p:nvSpPr>
            <p:cNvPr id="162" name=""/>
            <p:cNvSpPr/>
            <p:nvPr/>
          </p:nvSpPr>
          <p:spPr>
            <a:xfrm>
              <a:off x="3962520" y="2362320"/>
              <a:ext cx="2361960" cy="71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57800" y="297180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580920" y="0"/>
            <a:ext cx="1219680" cy="3886200"/>
            <a:chOff x="3580920" y="0"/>
            <a:chExt cx="1219680" cy="3886200"/>
          </a:xfrm>
        </p:grpSpPr>
        <p:grpSp>
          <p:nvGrpSpPr>
            <p:cNvPr id="165" name=""/>
            <p:cNvGrpSpPr/>
            <p:nvPr/>
          </p:nvGrpSpPr>
          <p:grpSpPr>
            <a:xfrm>
              <a:off x="3580920" y="0"/>
              <a:ext cx="1219680" cy="3886200"/>
              <a:chOff x="3580920" y="0"/>
              <a:chExt cx="1219680" cy="388620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3580920" y="0"/>
                <a:ext cx="83844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57600" y="175248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19720" y="1981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72960" y="1660680"/>
                <a:ext cx="459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50840" y="1219320"/>
              <a:ext cx="5054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V="1">
            <a:off x="3505320" y="-720"/>
            <a:ext cx="1676160" cy="128124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2395" y="11617"/>
                </a:moveTo>
                <a:arcTo wR="-8445" hR="-8445" stAng="10466923" swAng="-11069599"/>
                <a:lnTo>
                  <a:pt x="166" y="12684"/>
                </a:lnTo>
                <a:arcTo wR="10800" hR="10800" stAng="10197324" swAng="11069599"/>
                <a:lnTo>
                  <a:pt x="24237" y="9494"/>
                </a:lnTo>
                <a:lnTo>
                  <a:pt x="20752" y="13728"/>
                </a:lnTo>
                <a:lnTo>
                  <a:pt x="16518" y="10244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962520"/>
            <a:ext cx="2209680" cy="45720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486400" y="3429000"/>
            <a:ext cx="1371600" cy="1371600"/>
            <a:chOff x="5486400" y="3429000"/>
            <a:chExt cx="1371600" cy="1371600"/>
          </a:xfrm>
        </p:grpSpPr>
        <p:sp>
          <p:nvSpPr>
            <p:cNvPr id="174" name=""/>
            <p:cNvSpPr/>
            <p:nvPr/>
          </p:nvSpPr>
          <p:spPr>
            <a:xfrm flipH="1">
              <a:off x="5486400" y="3581280"/>
              <a:ext cx="53352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600" y="3429000"/>
              <a:ext cx="914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ru-RU" sz="3600" spc="-1" strike="noStrike" baseline="-25000">
                  <a:solidFill>
                    <a:srgbClr val="000000"/>
                  </a:solidFill>
                  <a:latin typeface="Times New Roman"/>
                </a:rPr>
                <a:t>к2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19:23:1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2-19T09:56:42Z</dcterms:modified>
  <cp:revision>36</cp:revision>
  <dc:subject/>
  <dc:title>Заголовок слайда отсутствует</dc:title>
</cp:coreProperties>
</file>