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2F9B-9002-4340-9A2D-2BB6B960D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3559-7A04-4955-B33C-518BEC579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448A-3235-454E-A25E-013B8E686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6966-7C92-4AE7-9656-73B929259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1FC5-7912-45D7-8A6F-F5F02FA7D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904D-E0E0-4A9A-913A-0C61B89AC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3FA2-04A9-4E82-8540-28F32853A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8B23-3296-4EC1-8FB8-88EF9EBBE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3689-C6FF-4A8A-9368-CDB9F7949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5CF1-73F9-41C3-8E94-A94A7995D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80C7-A506-4EFD-BC62-7E029211B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41CC-CFB4-4720-A6F2-B3CDFE16E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73B57-284D-4361-A00B-5EE49B011E3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437920" y="1143000"/>
            <a:ext cx="838800" cy="3733560"/>
            <a:chOff x="2437920" y="1143000"/>
            <a:chExt cx="838800" cy="3733560"/>
          </a:xfrm>
        </p:grpSpPr>
        <p:sp>
          <p:nvSpPr>
            <p:cNvPr id="42" name=""/>
            <p:cNvSpPr/>
            <p:nvPr/>
          </p:nvSpPr>
          <p:spPr>
            <a:xfrm>
              <a:off x="2438280" y="2743200"/>
              <a:ext cx="60984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438280" y="4267080"/>
              <a:ext cx="60984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438280" y="3276720"/>
              <a:ext cx="60984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438280" y="2209680"/>
              <a:ext cx="83844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438280" y="1676520"/>
              <a:ext cx="60984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438280" y="1143000"/>
              <a:ext cx="0" cy="35053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438280" y="1143000"/>
              <a:ext cx="22860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38280" y="3809880"/>
              <a:ext cx="60984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 flipV="1">
              <a:off x="2437920" y="4647960"/>
              <a:ext cx="228600" cy="22860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2666880" y="4038480"/>
            <a:ext cx="2286000" cy="579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</a:rPr>
              <a:t>ВВх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</a:rPr>
              <a:t>ШВх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666880" y="3505320"/>
            <a:ext cx="2286000" cy="579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</a:rPr>
              <a:t>ШВх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</a:rPr>
              <a:t>Зп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</a:rPr>
              <a:t>З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743200" y="2971800"/>
            <a:ext cx="2209680" cy="579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</a:rPr>
              <a:t>Зп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</a:rPr>
              <a:t>Шп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43200" y="2438280"/>
            <a:ext cx="2209680" cy="579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</a:rPr>
              <a:t>Шп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</a:rPr>
              <a:t>Зв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</a:rPr>
              <a:t>З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48120" y="1905120"/>
            <a:ext cx="1904760" cy="579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</a:rPr>
              <a:t>Зв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</a:rPr>
              <a:t>Вв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4800600" y="1905120"/>
            <a:ext cx="3962520" cy="2712960"/>
            <a:chOff x="4800600" y="1905120"/>
            <a:chExt cx="3962520" cy="2712960"/>
          </a:xfrm>
        </p:grpSpPr>
        <p:grpSp>
          <p:nvGrpSpPr>
            <p:cNvPr id="57" name=""/>
            <p:cNvGrpSpPr/>
            <p:nvPr/>
          </p:nvGrpSpPr>
          <p:grpSpPr>
            <a:xfrm>
              <a:off x="5105520" y="2971800"/>
              <a:ext cx="3657600" cy="579600"/>
              <a:chOff x="5105520" y="2971800"/>
              <a:chExt cx="3657600" cy="579600"/>
            </a:xfrm>
          </p:grpSpPr>
          <p:sp>
            <p:nvSpPr>
              <p:cNvPr id="58" name=""/>
              <p:cNvSpPr/>
              <p:nvPr/>
            </p:nvSpPr>
            <p:spPr>
              <a:xfrm>
                <a:off x="5105520" y="3276720"/>
                <a:ext cx="281916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7924680" y="2971800"/>
                <a:ext cx="838440" cy="57960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800" spc="-1" strike="noStrike">
                    <a:solidFill>
                      <a:srgbClr val="000000"/>
                    </a:solidFill>
                    <a:latin typeface="Times New Roman"/>
                  </a:rPr>
                  <a:t>Т</a:t>
                </a:r>
                <a:r>
                  <a:rPr b="1" lang="ru-RU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Зп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4952880" y="2438280"/>
              <a:ext cx="3810240" cy="579600"/>
              <a:chOff x="4952880" y="2438280"/>
              <a:chExt cx="3810240" cy="579600"/>
            </a:xfrm>
          </p:grpSpPr>
          <p:sp>
            <p:nvSpPr>
              <p:cNvPr id="61" name=""/>
              <p:cNvSpPr/>
              <p:nvPr/>
            </p:nvSpPr>
            <p:spPr>
              <a:xfrm>
                <a:off x="4952880" y="2743200"/>
                <a:ext cx="297180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924680" y="2438280"/>
                <a:ext cx="838440" cy="57960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800" spc="-1" strike="noStrike">
                    <a:solidFill>
                      <a:srgbClr val="000000"/>
                    </a:solidFill>
                    <a:latin typeface="Times New Roman"/>
                  </a:rPr>
                  <a:t>Т</a:t>
                </a:r>
                <a:r>
                  <a:rPr b="1" lang="ru-RU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Шп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4800600" y="1905120"/>
              <a:ext cx="3962520" cy="579600"/>
              <a:chOff x="4800600" y="1905120"/>
              <a:chExt cx="3962520" cy="579600"/>
            </a:xfrm>
          </p:grpSpPr>
          <p:sp>
            <p:nvSpPr>
              <p:cNvPr id="64" name=""/>
              <p:cNvSpPr/>
              <p:nvPr/>
            </p:nvSpPr>
            <p:spPr>
              <a:xfrm>
                <a:off x="4800600" y="2209680"/>
                <a:ext cx="327672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077320" y="1905120"/>
                <a:ext cx="685800" cy="57960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800" spc="-1" strike="noStrike">
                    <a:solidFill>
                      <a:srgbClr val="000000"/>
                    </a:solidFill>
                    <a:latin typeface="Times New Roman"/>
                  </a:rPr>
                  <a:t>Т</a:t>
                </a:r>
                <a:r>
                  <a:rPr b="1" lang="ru-RU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Зв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5105520" y="3505320"/>
              <a:ext cx="3657600" cy="579600"/>
              <a:chOff x="5105520" y="3505320"/>
              <a:chExt cx="3657600" cy="579600"/>
            </a:xfrm>
          </p:grpSpPr>
          <p:sp>
            <p:nvSpPr>
              <p:cNvPr id="67" name=""/>
              <p:cNvSpPr/>
              <p:nvPr/>
            </p:nvSpPr>
            <p:spPr>
              <a:xfrm>
                <a:off x="5105520" y="3733920"/>
                <a:ext cx="266688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772400" y="3505320"/>
                <a:ext cx="990720" cy="57960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800" spc="-1" strike="noStrike">
                    <a:solidFill>
                      <a:srgbClr val="000000"/>
                    </a:solidFill>
                    <a:latin typeface="Times New Roman"/>
                  </a:rPr>
                  <a:t>Т</a:t>
                </a:r>
                <a:r>
                  <a:rPr b="1" lang="ru-RU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ШВх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" name=""/>
            <p:cNvGrpSpPr/>
            <p:nvPr/>
          </p:nvGrpSpPr>
          <p:grpSpPr>
            <a:xfrm>
              <a:off x="5105520" y="4038480"/>
              <a:ext cx="3657600" cy="579600"/>
              <a:chOff x="5105520" y="4038480"/>
              <a:chExt cx="3657600" cy="579600"/>
            </a:xfrm>
          </p:grpSpPr>
          <p:sp>
            <p:nvSpPr>
              <p:cNvPr id="70" name=""/>
              <p:cNvSpPr/>
              <p:nvPr/>
            </p:nvSpPr>
            <p:spPr>
              <a:xfrm>
                <a:off x="5105520" y="4267080"/>
                <a:ext cx="289548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001000" y="4038480"/>
                <a:ext cx="762120" cy="57960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800" spc="-1" strike="noStrike">
                    <a:solidFill>
                      <a:srgbClr val="000000"/>
                    </a:solidFill>
                    <a:latin typeface="Times New Roman"/>
                  </a:rPr>
                  <a:t>Т</a:t>
                </a:r>
                <a:r>
                  <a:rPr b="1" lang="ru-RU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Вх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" name=""/>
            <p:cNvGrpSpPr/>
            <p:nvPr/>
          </p:nvGrpSpPr>
          <p:grpSpPr>
            <a:xfrm>
              <a:off x="4800600" y="2057400"/>
              <a:ext cx="228600" cy="2362320"/>
              <a:chOff x="4800600" y="2057400"/>
              <a:chExt cx="228600" cy="2362320"/>
            </a:xfrm>
          </p:grpSpPr>
          <p:sp>
            <p:nvSpPr>
              <p:cNvPr id="73" name=""/>
              <p:cNvSpPr/>
              <p:nvPr/>
            </p:nvSpPr>
            <p:spPr>
              <a:xfrm>
                <a:off x="4800600" y="2057400"/>
                <a:ext cx="228600" cy="22860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4800600" y="2590920"/>
                <a:ext cx="228600" cy="22860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4800600" y="3124080"/>
                <a:ext cx="228600" cy="22860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800600" y="3657600"/>
                <a:ext cx="228600" cy="22860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800600" y="4191120"/>
                <a:ext cx="228600" cy="22860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" name=""/>
          <p:cNvSpPr/>
          <p:nvPr/>
        </p:nvSpPr>
        <p:spPr>
          <a:xfrm>
            <a:off x="4800600" y="5105520"/>
            <a:ext cx="3156120" cy="0"/>
          </a:xfrm>
          <a:prstGeom prst="line">
            <a:avLst/>
          </a:prstGeom>
          <a:ln w="38160">
            <a:solidFill>
              <a:srgbClr val="3333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924680" y="4724280"/>
            <a:ext cx="806400" cy="579600"/>
          </a:xfrm>
          <a:prstGeom prst="rect">
            <a:avLst/>
          </a:prstGeom>
          <a:solidFill>
            <a:srgbClr val="ffcc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Т</a:t>
            </a:r>
            <a:r>
              <a:rPr b="1" lang="ru-RU" sz="2800" spc="-1" strike="noStrike" baseline="-25000">
                <a:solidFill>
                  <a:srgbClr val="cc0000"/>
                </a:solidFill>
                <a:latin typeface="Times New Roman"/>
              </a:rPr>
              <a:t>Э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876920" y="1600200"/>
            <a:ext cx="1828800" cy="0"/>
          </a:xfrm>
          <a:prstGeom prst="line">
            <a:avLst/>
          </a:prstGeom>
          <a:ln w="38160">
            <a:solidFill>
              <a:srgbClr val="3333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752480" y="5029200"/>
            <a:ext cx="914400" cy="685800"/>
            <a:chOff x="1752480" y="5029200"/>
            <a:chExt cx="914400" cy="685800"/>
          </a:xfrm>
        </p:grpSpPr>
        <p:sp>
          <p:nvSpPr>
            <p:cNvPr id="82" name=""/>
            <p:cNvSpPr/>
            <p:nvPr/>
          </p:nvSpPr>
          <p:spPr>
            <a:xfrm flipH="1" flipV="1">
              <a:off x="1828440" y="5334120"/>
              <a:ext cx="609480" cy="38088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1752480" y="5029200"/>
              <a:ext cx="914400" cy="3049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 flipH="1">
            <a:off x="3581280" y="990720"/>
            <a:ext cx="4267440" cy="0"/>
          </a:xfrm>
          <a:prstGeom prst="line">
            <a:avLst/>
          </a:prstGeom>
          <a:ln w="38160">
            <a:solidFill>
              <a:srgbClr val="cc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38080" y="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ХЕМА ОПРЕДЕЛЕНИЯ ПАРАМЕТРОВ ПРИВОД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2917800" y="380880"/>
            <a:ext cx="6224400" cy="459720"/>
            <a:chOff x="2917800" y="380880"/>
            <a:chExt cx="6224400" cy="459720"/>
          </a:xfrm>
        </p:grpSpPr>
        <p:sp>
          <p:nvSpPr>
            <p:cNvPr id="87" name=""/>
            <p:cNvSpPr/>
            <p:nvPr/>
          </p:nvSpPr>
          <p:spPr>
            <a:xfrm>
              <a:off x="2917800" y="380880"/>
              <a:ext cx="165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Мощност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181480" y="490680"/>
              <a:ext cx="2667240" cy="34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Угловая скорост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853400" y="380880"/>
              <a:ext cx="128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Момен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76320" y="8380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уфта (ИМ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371600"/>
            <a:ext cx="22305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ал выходн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7080" y="1905120"/>
            <a:ext cx="16606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убчато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лесо В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80" y="2590920"/>
            <a:ext cx="20980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Шестерня П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2320" y="2971800"/>
            <a:ext cx="1619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убчато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лесо П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40" y="4572000"/>
            <a:ext cx="19684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ал электро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вигател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848720" y="838080"/>
            <a:ext cx="914400" cy="579600"/>
          </a:xfrm>
          <a:prstGeom prst="rect">
            <a:avLst/>
          </a:prstGeom>
          <a:solidFill>
            <a:srgbClr val="ffcc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Т</a:t>
            </a:r>
            <a:r>
              <a:rPr b="1" lang="ru-RU" sz="2800" spc="-1" strike="noStrike" baseline="-25000">
                <a:solidFill>
                  <a:srgbClr val="cc0000"/>
                </a:solidFill>
                <a:latin typeface="Times New Roman"/>
              </a:rPr>
              <a:t>И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952880" y="838080"/>
            <a:ext cx="914400" cy="579600"/>
          </a:xfrm>
          <a:prstGeom prst="rect">
            <a:avLst/>
          </a:prstGeom>
          <a:solidFill>
            <a:srgbClr val="ffcc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Symbol"/>
                <a:ea typeface="Symbol"/>
              </a:rPr>
              <a:t></a:t>
            </a:r>
            <a:r>
              <a:rPr b="1" lang="ru-RU" sz="2800" spc="-1" strike="noStrike" baseline="-25000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ru-RU" sz="2800" spc="-1" strike="noStrike" baseline="-25000">
                <a:solidFill>
                  <a:srgbClr val="cc0000"/>
                </a:solidFill>
                <a:latin typeface="Times New Roman"/>
              </a:rPr>
              <a:t>И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743200" y="838080"/>
            <a:ext cx="838080" cy="579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Р</a:t>
            </a:r>
            <a:r>
              <a:rPr b="1" lang="ru-RU" sz="2800" spc="-1" strike="noStrike" baseline="-25000">
                <a:solidFill>
                  <a:srgbClr val="cc0000"/>
                </a:solidFill>
                <a:latin typeface="Times New Roman"/>
              </a:rPr>
              <a:t>И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218120" y="838080"/>
            <a:ext cx="333000" cy="459720"/>
          </a:xfrm>
          <a:prstGeom prst="rect">
            <a:avLst/>
          </a:prstGeom>
          <a:solidFill>
            <a:srgbClr val="ffcc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90920" y="4576680"/>
            <a:ext cx="2361960" cy="579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Р</a:t>
            </a:r>
            <a:r>
              <a:rPr b="1" lang="ru-RU" sz="2800" spc="-1" strike="noStrike" baseline="-25000">
                <a:solidFill>
                  <a:srgbClr val="cc0000"/>
                </a:solidFill>
                <a:latin typeface="Times New Roman"/>
              </a:rPr>
              <a:t>ЭД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</a:rPr>
              <a:t>ВВх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</a:rPr>
              <a:t>р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5715000"/>
            <a:ext cx="3505320" cy="579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ыбор ЭД: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</a:rPr>
              <a:t>ЭД-П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Р</a:t>
            </a:r>
            <a:r>
              <a:rPr b="1" lang="ru-RU" sz="2800" spc="-1" strike="noStrike" baseline="-25000">
                <a:solidFill>
                  <a:srgbClr val="cc0000"/>
                </a:solidFill>
                <a:latin typeface="Times New Roman"/>
              </a:rPr>
              <a:t>Э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952880" y="4576680"/>
            <a:ext cx="838440" cy="579600"/>
          </a:xfrm>
          <a:prstGeom prst="rect">
            <a:avLst/>
          </a:prstGeom>
          <a:solidFill>
            <a:srgbClr val="ffcc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Symbol"/>
                <a:ea typeface="Symbol"/>
              </a:rPr>
              <a:t></a:t>
            </a:r>
            <a:r>
              <a:rPr b="1" lang="ru-RU" sz="2800" spc="-1" strike="noStrike" baseline="-25000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ru-RU" sz="2800" spc="-1" strike="noStrike" baseline="-25000">
                <a:solidFill>
                  <a:srgbClr val="cc0000"/>
                </a:solidFill>
                <a:latin typeface="Times New Roman"/>
              </a:rPr>
              <a:t>Э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4572000" y="5105520"/>
            <a:ext cx="838080" cy="685800"/>
          </a:xfrm>
          <a:prstGeom prst="line">
            <a:avLst/>
          </a:prstGeom>
          <a:ln w="38160">
            <a:solidFill>
              <a:srgbClr val="cc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19520" y="1371600"/>
            <a:ext cx="2133360" cy="579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</a:rPr>
              <a:t>Вв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</a:rPr>
              <a:t>ИМ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800" y="3538440"/>
            <a:ext cx="221544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Шестерня Вх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4038480"/>
            <a:ext cx="22305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ал входн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457200"/>
            <a:ext cx="8839080" cy="4952880"/>
            <a:chOff x="0" y="457200"/>
            <a:chExt cx="8839080" cy="4952880"/>
          </a:xfrm>
        </p:grpSpPr>
        <p:grpSp>
          <p:nvGrpSpPr>
            <p:cNvPr id="108" name=""/>
            <p:cNvGrpSpPr/>
            <p:nvPr/>
          </p:nvGrpSpPr>
          <p:grpSpPr>
            <a:xfrm>
              <a:off x="0" y="1371600"/>
              <a:ext cx="8458200" cy="2133720"/>
              <a:chOff x="0" y="1371600"/>
              <a:chExt cx="8458200" cy="2133720"/>
            </a:xfrm>
          </p:grpSpPr>
          <p:sp>
            <p:nvSpPr>
              <p:cNvPr id="109" name=""/>
              <p:cNvSpPr/>
              <p:nvPr/>
            </p:nvSpPr>
            <p:spPr>
              <a:xfrm>
                <a:off x="0" y="1905120"/>
                <a:ext cx="8458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38280"/>
                <a:ext cx="8458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2971800"/>
                <a:ext cx="8458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1371600"/>
                <a:ext cx="8458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3505320"/>
                <a:ext cx="8458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0" y="457200"/>
              <a:ext cx="8839080" cy="4952880"/>
              <a:chOff x="0" y="457200"/>
              <a:chExt cx="8839080" cy="4952880"/>
            </a:xfrm>
          </p:grpSpPr>
          <p:grpSp>
            <p:nvGrpSpPr>
              <p:cNvPr id="115" name=""/>
              <p:cNvGrpSpPr/>
              <p:nvPr/>
            </p:nvGrpSpPr>
            <p:grpSpPr>
              <a:xfrm>
                <a:off x="0" y="457200"/>
                <a:ext cx="8839080" cy="4952880"/>
                <a:chOff x="0" y="457200"/>
                <a:chExt cx="8839080" cy="495288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0" y="457200"/>
                  <a:ext cx="8839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838080"/>
                  <a:ext cx="8839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2590920" y="457200"/>
                  <a:ext cx="0" cy="495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952880" y="457200"/>
                  <a:ext cx="0" cy="495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7772400" y="457200"/>
                  <a:ext cx="0" cy="4876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1" name=""/>
              <p:cNvSpPr/>
              <p:nvPr/>
            </p:nvSpPr>
            <p:spPr>
              <a:xfrm>
                <a:off x="0" y="4038480"/>
                <a:ext cx="8763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4572000"/>
                <a:ext cx="8763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5181480"/>
                <a:ext cx="876312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4" name=""/>
          <p:cNvSpPr/>
          <p:nvPr/>
        </p:nvSpPr>
        <p:spPr>
          <a:xfrm>
            <a:off x="2154240" y="2666880"/>
            <a:ext cx="3330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21080" y="5105520"/>
            <a:ext cx="333000" cy="459720"/>
          </a:xfrm>
          <a:prstGeom prst="rect">
            <a:avLst/>
          </a:prstGeom>
          <a:solidFill>
            <a:srgbClr val="ffcc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5181480" y="1371600"/>
            <a:ext cx="762120" cy="3200400"/>
            <a:chOff x="5181480" y="1371600"/>
            <a:chExt cx="762120" cy="3200400"/>
          </a:xfrm>
        </p:grpSpPr>
        <p:sp>
          <p:nvSpPr>
            <p:cNvPr id="127" name=""/>
            <p:cNvSpPr/>
            <p:nvPr/>
          </p:nvSpPr>
          <p:spPr>
            <a:xfrm>
              <a:off x="5181480" y="1371600"/>
              <a:ext cx="762120" cy="3200400"/>
            </a:xfrm>
            <a:custGeom>
              <a:avLst/>
              <a:gdLst>
                <a:gd name="textAreaLeft" fmla="*/ 0 w 762120"/>
                <a:gd name="textAreaRight" fmla="*/ 762480 w 762120"/>
                <a:gd name="textAreaTop" fmla="*/ 302400 h 3200400"/>
                <a:gd name="textAreaBottom" fmla="*/ 2898000 h 320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041"/>
                  </a:moveTo>
                  <a:lnTo>
                    <a:pt x="0" y="19559"/>
                  </a:lnTo>
                  <a:lnTo>
                    <a:pt x="8100" y="19559"/>
                  </a:lnTo>
                  <a:lnTo>
                    <a:pt x="8100" y="20052"/>
                  </a:lnTo>
                  <a:lnTo>
                    <a:pt x="5500" y="20052"/>
                  </a:lnTo>
                  <a:lnTo>
                    <a:pt x="10800" y="21600"/>
                  </a:lnTo>
                  <a:lnTo>
                    <a:pt x="16100" y="20052"/>
                  </a:lnTo>
                  <a:lnTo>
                    <a:pt x="13500" y="20052"/>
                  </a:lnTo>
                  <a:lnTo>
                    <a:pt x="13500" y="19559"/>
                  </a:lnTo>
                  <a:lnTo>
                    <a:pt x="21600" y="19559"/>
                  </a:lnTo>
                  <a:lnTo>
                    <a:pt x="21600" y="2041"/>
                  </a:lnTo>
                  <a:lnTo>
                    <a:pt x="13500" y="2041"/>
                  </a:lnTo>
                  <a:lnTo>
                    <a:pt x="13500" y="1548"/>
                  </a:lnTo>
                  <a:lnTo>
                    <a:pt x="16100" y="1548"/>
                  </a:lnTo>
                  <a:lnTo>
                    <a:pt x="10800" y="0"/>
                  </a:lnTo>
                  <a:lnTo>
                    <a:pt x="5500" y="1548"/>
                  </a:lnTo>
                  <a:lnTo>
                    <a:pt x="8100" y="1548"/>
                  </a:lnTo>
                  <a:lnTo>
                    <a:pt x="8100" y="2041"/>
                  </a:lnTo>
                  <a:close/>
                </a:path>
              </a:pathLst>
            </a:cu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16200000">
              <a:off x="4395240" y="2761200"/>
              <a:ext cx="2286000" cy="56088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ru-RU" sz="2400" spc="-1" strike="noStrike" baseline="-25000">
                  <a:solidFill>
                    <a:srgbClr val="000000"/>
                  </a:solidFill>
                  <a:latin typeface="Times New Roman"/>
                </a:rPr>
                <a:t>ПР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lang="ru-RU" sz="2800" spc="-1" strike="noStrike">
                  <a:solidFill>
                    <a:srgbClr val="cc0000"/>
                  </a:solidFill>
                  <a:latin typeface="Symbol"/>
                  <a:ea typeface="Symbol"/>
                </a:rPr>
                <a:t></a:t>
              </a:r>
              <a:r>
                <a:rPr b="1" lang="ru-RU" sz="2400" spc="-1" strike="noStrike" baseline="-25000">
                  <a:solidFill>
                    <a:srgbClr val="cc0000"/>
                  </a:solidFill>
                  <a:latin typeface="Times New Roman"/>
                </a:rPr>
                <a:t> ЭД</a:t>
              </a:r>
              <a:r>
                <a:rPr b="1" lang="ru-RU" sz="24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/ </a:t>
              </a:r>
              <a:r>
                <a:rPr b="1" lang="ru-RU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1" lang="ru-RU" sz="2400" spc="-1" strike="noStrike" baseline="-25000">
                  <a:solidFill>
                    <a:srgbClr val="000000"/>
                  </a:solidFill>
                  <a:latin typeface="Times New Roman"/>
                </a:rPr>
                <a:t>ИМ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6019920" y="2133720"/>
            <a:ext cx="609480" cy="579600"/>
          </a:xfrm>
          <a:prstGeom prst="rect">
            <a:avLst/>
          </a:prstGeom>
          <a:solidFill>
            <a:srgbClr val="ffffcc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6019920" y="3200400"/>
            <a:ext cx="609480" cy="662400"/>
            <a:chOff x="6019920" y="3200400"/>
            <a:chExt cx="609480" cy="662400"/>
          </a:xfrm>
        </p:grpSpPr>
        <p:grpSp>
          <p:nvGrpSpPr>
            <p:cNvPr id="131" name=""/>
            <p:cNvGrpSpPr/>
            <p:nvPr/>
          </p:nvGrpSpPr>
          <p:grpSpPr>
            <a:xfrm>
              <a:off x="6019920" y="3200400"/>
              <a:ext cx="609480" cy="662400"/>
              <a:chOff x="6019920" y="3200400"/>
              <a:chExt cx="609480" cy="662400"/>
            </a:xfrm>
          </p:grpSpPr>
          <p:sp>
            <p:nvSpPr>
              <p:cNvPr id="132" name=""/>
              <p:cNvSpPr/>
              <p:nvPr/>
            </p:nvSpPr>
            <p:spPr>
              <a:xfrm>
                <a:off x="6019920" y="3200400"/>
                <a:ext cx="609480" cy="5205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8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249960" y="3352680"/>
                <a:ext cx="3027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Б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6019920" y="3200400"/>
              <a:ext cx="609480" cy="533160"/>
            </a:xfrm>
            <a:prstGeom prst="rect">
              <a:avLst/>
            </a:prstGeom>
            <a:noFill/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5867280" y="4343400"/>
            <a:ext cx="762120" cy="579600"/>
          </a:xfrm>
          <a:prstGeom prst="rect">
            <a:avLst/>
          </a:prstGeom>
          <a:solidFill>
            <a:srgbClr val="ffffcc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050080" y="2666880"/>
            <a:ext cx="333000" cy="459720"/>
          </a:xfrm>
          <a:prstGeom prst="rect">
            <a:avLst/>
          </a:prstGeom>
          <a:solidFill>
            <a:srgbClr val="ffcc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705720" y="1371600"/>
            <a:ext cx="990360" cy="579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</a:rPr>
              <a:t>И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705720" y="1905120"/>
            <a:ext cx="990360" cy="579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</a:rPr>
              <a:t>И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05720" y="2438280"/>
            <a:ext cx="914400" cy="579600"/>
          </a:xfrm>
          <a:prstGeom prst="rect">
            <a:avLst/>
          </a:prstGeom>
          <a:solidFill>
            <a:srgbClr val="ffcc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</a:rPr>
              <a:t>П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705720" y="2971800"/>
            <a:ext cx="990360" cy="579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</a:rPr>
              <a:t>П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705720" y="3510000"/>
            <a:ext cx="838080" cy="579600"/>
          </a:xfrm>
          <a:prstGeom prst="rect">
            <a:avLst/>
          </a:prstGeom>
          <a:solidFill>
            <a:srgbClr val="ffcc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</a:rPr>
              <a:t>В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4038480"/>
            <a:ext cx="990360" cy="579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</a:rPr>
              <a:t>В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7031160" y="1066680"/>
            <a:ext cx="333000" cy="3965040"/>
            <a:chOff x="7031160" y="1066680"/>
            <a:chExt cx="333000" cy="3965040"/>
          </a:xfrm>
        </p:grpSpPr>
        <p:sp>
          <p:nvSpPr>
            <p:cNvPr id="144" name=""/>
            <p:cNvSpPr/>
            <p:nvPr/>
          </p:nvSpPr>
          <p:spPr>
            <a:xfrm>
              <a:off x="7031160" y="1066680"/>
              <a:ext cx="333000" cy="45972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031160" y="4572000"/>
              <a:ext cx="333000" cy="45972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8790120" y="1676520"/>
            <a:ext cx="353880" cy="2818800"/>
            <a:chOff x="8790120" y="1676520"/>
            <a:chExt cx="353880" cy="2818800"/>
          </a:xfrm>
        </p:grpSpPr>
        <p:sp>
          <p:nvSpPr>
            <p:cNvPr id="147" name=""/>
            <p:cNvSpPr/>
            <p:nvPr/>
          </p:nvSpPr>
          <p:spPr>
            <a:xfrm>
              <a:off x="8790120" y="2819520"/>
              <a:ext cx="3330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915400" y="1676520"/>
              <a:ext cx="228600" cy="1143000"/>
            </a:xfrm>
            <a:prstGeom prst="upArrow">
              <a:avLst>
                <a:gd name="adj1" fmla="val 50000"/>
                <a:gd name="adj2" fmla="val 1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8915400" y="3351960"/>
              <a:ext cx="228600" cy="1143000"/>
            </a:xfrm>
            <a:prstGeom prst="upArrow">
              <a:avLst>
                <a:gd name="adj1" fmla="val 50000"/>
                <a:gd name="adj2" fmla="val 1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 flipV="1">
            <a:off x="6172200" y="4876200"/>
            <a:ext cx="152280" cy="533160"/>
          </a:xfrm>
          <a:prstGeom prst="downArrow">
            <a:avLst>
              <a:gd name="adj1" fmla="val 50000"/>
              <a:gd name="adj2" fmla="val 8753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5257800" y="5410080"/>
            <a:ext cx="2742840" cy="560880"/>
            <a:chOff x="5257800" y="5410080"/>
            <a:chExt cx="2742840" cy="560880"/>
          </a:xfrm>
        </p:grpSpPr>
        <p:sp>
          <p:nvSpPr>
            <p:cNvPr id="152" name=""/>
            <p:cNvSpPr/>
            <p:nvPr/>
          </p:nvSpPr>
          <p:spPr>
            <a:xfrm>
              <a:off x="5257800" y="5410080"/>
              <a:ext cx="2742840" cy="5608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ru-RU" sz="2400" spc="-1" strike="noStrike" baseline="-25000">
                  <a:solidFill>
                    <a:srgbClr val="000000"/>
                  </a:solidFill>
                  <a:latin typeface="Times New Roman"/>
                </a:rPr>
                <a:t>РП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ru-RU" sz="2400" spc="-1" strike="noStrike" baseline="-25000">
                  <a:solidFill>
                    <a:srgbClr val="000000"/>
                  </a:solidFill>
                  <a:latin typeface="Times New Roman"/>
                </a:rPr>
                <a:t>ПР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1" lang="ru-RU" sz="24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ru-RU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u </a:t>
              </a:r>
              <a:r>
                <a:rPr b="1" lang="ru-RU" sz="2400" spc="-1" strike="noStrike" baseline="-25000">
                  <a:solidFill>
                    <a:srgbClr val="000000"/>
                  </a:solidFill>
                  <a:latin typeface="Times New Roman"/>
                </a:rPr>
                <a:t>Б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670160" y="5492880"/>
              <a:ext cx="257040" cy="4597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6193080" y="2666880"/>
            <a:ext cx="333000" cy="1526760"/>
            <a:chOff x="6193080" y="2666880"/>
            <a:chExt cx="333000" cy="1526760"/>
          </a:xfrm>
        </p:grpSpPr>
        <p:sp>
          <p:nvSpPr>
            <p:cNvPr id="155" name=""/>
            <p:cNvSpPr/>
            <p:nvPr/>
          </p:nvSpPr>
          <p:spPr>
            <a:xfrm>
              <a:off x="6193080" y="2666880"/>
              <a:ext cx="333000" cy="45972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193080" y="3733920"/>
              <a:ext cx="333000" cy="45972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4648320" y="1447920"/>
            <a:ext cx="457200" cy="457200"/>
          </a:xfrm>
          <a:prstGeom prst="sun">
            <a:avLst>
              <a:gd name="adj" fmla="val 25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391520" y="1447920"/>
            <a:ext cx="380880" cy="380880"/>
          </a:xfrm>
          <a:prstGeom prst="sun">
            <a:avLst>
              <a:gd name="adj" fmla="val 25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07200" y="6095880"/>
            <a:ext cx="2100960" cy="57960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</a:rPr>
              <a:t>ПВ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</a:rPr>
              <a:t> ИМ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0" y="6095880"/>
            <a:ext cx="2133720" cy="57960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</a:rPr>
              <a:t>Вх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</a:rPr>
              <a:t> ПВ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96080" y="1600200"/>
            <a:ext cx="381240" cy="0"/>
          </a:xfrm>
          <a:prstGeom prst="line">
            <a:avLst/>
          </a:prstGeom>
          <a:ln w="38160">
            <a:solidFill>
              <a:srgbClr val="3333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077320" y="1371600"/>
            <a:ext cx="761760" cy="579600"/>
          </a:xfrm>
          <a:prstGeom prst="rect">
            <a:avLst/>
          </a:prstGeom>
          <a:solidFill>
            <a:srgbClr val="ccff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</a:rPr>
              <a:t>В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19607400">
            <a:off x="4299480" y="5095080"/>
            <a:ext cx="760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ru-RU" sz="2800" spc="-1" strike="noStrike" baseline="-25000">
                <a:solidFill>
                  <a:srgbClr val="cc0000"/>
                </a:solidFill>
                <a:latin typeface="Times New Roman"/>
              </a:rPr>
              <a:t>Э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1T19:15:42Z</dcterms:created>
  <dc:creator>Довольный пользователь Microsoft Office</dc:creator>
  <dc:description/>
  <dc:language>en-US</dc:language>
  <cp:lastModifiedBy>Владимир Жуков</cp:lastModifiedBy>
  <dcterms:modified xsi:type="dcterms:W3CDTF">2002-01-19T18:52:10Z</dcterms:modified>
  <cp:revision>9</cp:revision>
  <dc:subject/>
  <dc:title>Заголовок слайда отсутствует</dc:title>
</cp:coreProperties>
</file>