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01A-6D40-476F-812C-67010581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023-0E93-4847-A590-7F9C8EE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500-D2F3-4C86-9291-CD56FA6A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611-3563-4A9C-A073-E412D931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41B-4490-4ECF-98E2-AC3A3D3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6A3-E1C8-49D6-91F2-78810EC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2D8-9E3C-4037-8015-93F3697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54A-FC9E-4F53-897C-A721E029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6DC-B409-47ED-BCC1-463D618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674-C7FF-4A2C-8CAD-C3811A0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D63-B1F0-48CB-8A28-EA98D4F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FF8-E7E0-444E-A68E-92EE72A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F7E-A609-4783-AC51-A6514534F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58920" y="3619440"/>
            <a:ext cx="803520" cy="1083960"/>
            <a:chOff x="2158920" y="3619440"/>
            <a:chExt cx="803520" cy="1083960"/>
          </a:xfrm>
        </p:grpSpPr>
        <p:sp>
          <p:nvSpPr>
            <p:cNvPr id="42" name=""/>
            <p:cNvSpPr/>
            <p:nvPr/>
          </p:nvSpPr>
          <p:spPr>
            <a:xfrm>
              <a:off x="2158920" y="3622680"/>
              <a:ext cx="399960" cy="54756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>
              <a:off x="2567880" y="4155480"/>
              <a:ext cx="376200" cy="5475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62160" y="3619440"/>
              <a:ext cx="800280" cy="10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70760" y="1298520"/>
            <a:ext cx="3296520" cy="3506400"/>
            <a:chOff x="770760" y="1298520"/>
            <a:chExt cx="3296520" cy="3506400"/>
          </a:xfrm>
        </p:grpSpPr>
        <p:sp>
          <p:nvSpPr>
            <p:cNvPr id="46" name=""/>
            <p:cNvSpPr/>
            <p:nvPr/>
          </p:nvSpPr>
          <p:spPr>
            <a:xfrm flipV="1" rot="14988000">
              <a:off x="1902240" y="2365200"/>
              <a:ext cx="1813320" cy="20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06" y="2105"/>
                  </a:moveTo>
                  <a:arcTo wR="10800" hR="10800" stAng="-3217199" swAng="1565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06" y="2105"/>
                  </a:moveTo>
                  <a:arcTo wR="10800" hR="10800" stAng="-3217199" swAng="1565141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40200">
              <a:off x="2350800" y="1443240"/>
              <a:ext cx="374760" cy="771120"/>
            </a:xfrm>
            <a:prstGeom prst="triangle">
              <a:avLst>
                <a:gd name="adj" fmla="val 45917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16095600">
              <a:off x="1293840" y="2048760"/>
              <a:ext cx="238860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69" y="10"/>
                  </a:moveTo>
                  <a:arcTo wR="10800" hR="10800" stAng="-5250552" swAng="35169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69" y="10"/>
                  </a:moveTo>
                  <a:arcTo wR="10800" hR="10800" stAng="-5250552" swAng="3516954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 rot="5472000">
              <a:off x="1413720" y="2049480"/>
              <a:ext cx="23857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41" y="1"/>
                  </a:moveTo>
                  <a:arcTo wR="10800" hR="10800" stAng="-5355229" swAng="35179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41" y="1"/>
                  </a:moveTo>
                  <a:arcTo wR="10800" hR="10800" stAng="-5355229" swAng="3517985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367360" y="1472400"/>
              <a:ext cx="329400" cy="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475200">
              <a:off x="2160720" y="2398320"/>
              <a:ext cx="80028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1475200">
              <a:off x="2939400" y="237852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48"/>
                  </a:moveTo>
                  <a:cubicBezTo>
                    <a:pt x="37" y="41"/>
                    <a:pt x="42" y="37"/>
                    <a:pt x="4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475200">
              <a:off x="2048040" y="2496240"/>
              <a:ext cx="122040" cy="856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3150200">
              <a:off x="1201320" y="2448720"/>
              <a:ext cx="1813320" cy="20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188" y="2922"/>
                  </a:moveTo>
                  <a:arcTo wR="10800" hR="10800" stAng="-2810182" swAng="1385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188" y="2922"/>
                  </a:moveTo>
                  <a:arcTo wR="10800" hR="10800" stAng="-2810182" swAng="1385930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1475200">
              <a:off x="2092680" y="241416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48"/>
                  </a:moveTo>
                  <a:cubicBezTo>
                    <a:pt x="37" y="41"/>
                    <a:pt x="42" y="37"/>
                    <a:pt x="4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1475200">
              <a:off x="1797840" y="2789280"/>
              <a:ext cx="1519200" cy="63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721000">
              <a:off x="2847240" y="2330280"/>
              <a:ext cx="295200" cy="318600"/>
            </a:xfrm>
            <a:prstGeom prst="rtTriangl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2722680" y="893520"/>
            <a:ext cx="793800" cy="592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60120" y="1471680"/>
            <a:ext cx="88740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7840" y="1555920"/>
            <a:ext cx="77760" cy="745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341360"/>
            <a:ext cx="0" cy="49276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1400" y="52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32720" y="966960"/>
            <a:ext cx="1438560" cy="1090080"/>
            <a:chOff x="2232720" y="966960"/>
            <a:chExt cx="1438560" cy="1090080"/>
          </a:xfrm>
        </p:grpSpPr>
        <p:sp>
          <p:nvSpPr>
            <p:cNvPr id="64" name=""/>
            <p:cNvSpPr/>
            <p:nvPr/>
          </p:nvSpPr>
          <p:spPr>
            <a:xfrm>
              <a:off x="2546280" y="1471680"/>
              <a:ext cx="11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96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2720" y="974520"/>
              <a:ext cx="117900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53" y="2536"/>
                  </a:moveTo>
                  <a:arcTo wR="10800" hR="10800" stAng="-2995627" swAng="28143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53" y="2536"/>
                  </a:moveTo>
                  <a:arcTo wR="10800" hR="10800" stAng="-2995627" swAng="28143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84440" y="1598760"/>
            <a:ext cx="871560" cy="599760"/>
            <a:chOff x="1684440" y="1598760"/>
            <a:chExt cx="871560" cy="599760"/>
          </a:xfrm>
        </p:grpSpPr>
        <p:sp>
          <p:nvSpPr>
            <p:cNvPr id="68" name=""/>
            <p:cNvSpPr/>
            <p:nvPr/>
          </p:nvSpPr>
          <p:spPr>
            <a:xfrm>
              <a:off x="1684440" y="1600200"/>
              <a:ext cx="831600" cy="7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1636560"/>
              <a:ext cx="0" cy="552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8200" y="159876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6640" y="2189160"/>
              <a:ext cx="819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389240" y="1598400"/>
            <a:ext cx="1136520" cy="767880"/>
            <a:chOff x="1389240" y="1598400"/>
            <a:chExt cx="1136520" cy="767880"/>
          </a:xfrm>
        </p:grpSpPr>
        <p:sp>
          <p:nvSpPr>
            <p:cNvPr id="73" name=""/>
            <p:cNvSpPr/>
            <p:nvPr/>
          </p:nvSpPr>
          <p:spPr>
            <a:xfrm flipV="1">
              <a:off x="1693800" y="1598400"/>
              <a:ext cx="831960" cy="601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89240" y="190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437200" y="1117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01920" y="109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84440" y="1643040"/>
            <a:ext cx="1225440" cy="459720"/>
            <a:chOff x="2584440" y="1643040"/>
            <a:chExt cx="1225440" cy="459720"/>
          </a:xfrm>
        </p:grpSpPr>
        <p:sp>
          <p:nvSpPr>
            <p:cNvPr id="78" name=""/>
            <p:cNvSpPr/>
            <p:nvPr/>
          </p:nvSpPr>
          <p:spPr>
            <a:xfrm>
              <a:off x="2931120" y="164304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sin</a:t>
              </a: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584440" y="1884240"/>
              <a:ext cx="4096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rot="19140600">
            <a:off x="647280" y="2409480"/>
            <a:ext cx="3900600" cy="39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1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14481"/>
              </a:path>
            </a:pathLst>
          </a:custGeom>
          <a:noFill/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65400" y="2423880"/>
            <a:ext cx="780840" cy="783360"/>
            <a:chOff x="2165400" y="2423880"/>
            <a:chExt cx="780840" cy="783360"/>
          </a:xfrm>
        </p:grpSpPr>
        <p:sp>
          <p:nvSpPr>
            <p:cNvPr id="82" name=""/>
            <p:cNvSpPr/>
            <p:nvPr/>
          </p:nvSpPr>
          <p:spPr>
            <a:xfrm flipH="1" flipV="1">
              <a:off x="2165400" y="2423880"/>
              <a:ext cx="14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36880" y="2427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65400" y="3017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40160" y="2808360"/>
              <a:ext cx="282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24000" y="3833640"/>
            <a:ext cx="516240" cy="583200"/>
            <a:chOff x="3024000" y="3833640"/>
            <a:chExt cx="516240" cy="583200"/>
          </a:xfrm>
        </p:grpSpPr>
        <p:sp>
          <p:nvSpPr>
            <p:cNvPr id="87" name=""/>
            <p:cNvSpPr/>
            <p:nvPr/>
          </p:nvSpPr>
          <p:spPr>
            <a:xfrm>
              <a:off x="3024000" y="383364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65480" y="3906720"/>
              <a:ext cx="37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и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62160" y="3638520"/>
            <a:ext cx="762120" cy="1019160"/>
            <a:chOff x="2162160" y="3638520"/>
            <a:chExt cx="762120" cy="1019160"/>
          </a:xfrm>
        </p:grpSpPr>
        <p:sp>
          <p:nvSpPr>
            <p:cNvPr id="90" name=""/>
            <p:cNvSpPr/>
            <p:nvPr/>
          </p:nvSpPr>
          <p:spPr>
            <a:xfrm flipV="1">
              <a:off x="2924280" y="41241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62160" y="3638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52800" y="5210280"/>
            <a:ext cx="1317600" cy="1134360"/>
            <a:chOff x="2152800" y="5210280"/>
            <a:chExt cx="1317600" cy="1134360"/>
          </a:xfrm>
        </p:grpSpPr>
        <p:sp>
          <p:nvSpPr>
            <p:cNvPr id="93" name=""/>
            <p:cNvSpPr/>
            <p:nvPr/>
          </p:nvSpPr>
          <p:spPr>
            <a:xfrm>
              <a:off x="2162160" y="5238720"/>
              <a:ext cx="533520" cy="71424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691720" y="5955480"/>
              <a:ext cx="243000" cy="28116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152800" y="5210280"/>
              <a:ext cx="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24280" y="598140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1880" y="5229360"/>
              <a:ext cx="771480" cy="1038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22560" y="5904000"/>
              <a:ext cx="44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70280" y="1125360"/>
            <a:ext cx="2681280" cy="643680"/>
            <a:chOff x="4670280" y="1125360"/>
            <a:chExt cx="2681280" cy="643680"/>
          </a:xfrm>
        </p:grpSpPr>
        <p:sp>
          <p:nvSpPr>
            <p:cNvPr id="100" name=""/>
            <p:cNvSpPr/>
            <p:nvPr/>
          </p:nvSpPr>
          <p:spPr>
            <a:xfrm>
              <a:off x="4670280" y="1125360"/>
              <a:ext cx="26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   - </a:t>
              </a: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33920" y="1258920"/>
              <a:ext cx="1189080" cy="510120"/>
              <a:chOff x="5533920" y="1258920"/>
              <a:chExt cx="1189080" cy="510120"/>
            </a:xfrm>
          </p:grpSpPr>
          <p:sp>
            <p:nvSpPr>
              <p:cNvPr id="102" name=""/>
              <p:cNvSpPr/>
              <p:nvPr/>
            </p:nvSpPr>
            <p:spPr>
              <a:xfrm>
                <a:off x="5533920" y="1258920"/>
                <a:ext cx="38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и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83360" y="1258920"/>
                <a:ext cx="539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с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4670280" y="1905120"/>
            <a:ext cx="395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 - b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1920" y="24321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2739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429000"/>
            <a:ext cx="212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52840" y="3938760"/>
            <a:ext cx="418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[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]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4360" y="4416480"/>
            <a:ext cx="548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[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]·(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8480" y="4979880"/>
            <a:ext cx="48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S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bm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5505480"/>
            <a:ext cx="58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3333cc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4200" y="550548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коэффициент форм з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27800" y="1598760"/>
            <a:ext cx="1854360" cy="1136880"/>
            <a:chOff x="1027800" y="1598760"/>
            <a:chExt cx="1854360" cy="1136880"/>
          </a:xfrm>
        </p:grpSpPr>
        <p:sp>
          <p:nvSpPr>
            <p:cNvPr id="114" name=""/>
            <p:cNvSpPr/>
            <p:nvPr/>
          </p:nvSpPr>
          <p:spPr>
            <a:xfrm flipH="1">
              <a:off x="1184040" y="1598760"/>
              <a:ext cx="5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03480" y="2408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1920" y="160812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129200">
              <a:off x="1104120" y="1830960"/>
              <a:ext cx="25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508120" y="2336760"/>
              <a:ext cx="374040" cy="398880"/>
              <a:chOff x="2508120" y="2336760"/>
              <a:chExt cx="37404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508120" y="2374920"/>
                <a:ext cx="77760" cy="7452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32240" y="23367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162160" y="4818240"/>
            <a:ext cx="1407960" cy="583200"/>
            <a:chOff x="2162160" y="4818240"/>
            <a:chExt cx="1407960" cy="583200"/>
          </a:xfrm>
        </p:grpSpPr>
        <p:sp>
          <p:nvSpPr>
            <p:cNvPr id="122" name=""/>
            <p:cNvSpPr/>
            <p:nvPr/>
          </p:nvSpPr>
          <p:spPr>
            <a:xfrm>
              <a:off x="2162160" y="4924440"/>
              <a:ext cx="781200" cy="219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552760" y="4914720"/>
              <a:ext cx="0" cy="161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024000" y="4818240"/>
              <a:ext cx="546120" cy="583200"/>
              <a:chOff x="3024000" y="4818240"/>
              <a:chExt cx="546120" cy="583200"/>
            </a:xfrm>
          </p:grpSpPr>
          <p:sp>
            <p:nvSpPr>
              <p:cNvPr id="125" name=""/>
              <p:cNvSpPr/>
              <p:nvPr/>
            </p:nvSpPr>
            <p:spPr>
              <a:xfrm>
                <a:off x="3024000" y="48182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55760" y="4891320"/>
                <a:ext cx="414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с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71880" y="4924440"/>
              <a:ext cx="7714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162160" y="2994120"/>
            <a:ext cx="790560" cy="2968560"/>
            <a:chOff x="2162160" y="2994120"/>
            <a:chExt cx="790560" cy="2968560"/>
          </a:xfrm>
        </p:grpSpPr>
        <p:sp>
          <p:nvSpPr>
            <p:cNvPr id="129" name=""/>
            <p:cNvSpPr/>
            <p:nvPr/>
          </p:nvSpPr>
          <p:spPr>
            <a:xfrm>
              <a:off x="2163600" y="2994120"/>
              <a:ext cx="0" cy="29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27160" y="3146400"/>
              <a:ext cx="4680" cy="28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62160" y="5962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1880" y="416232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240" y="5143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76240" y="3710160"/>
            <a:ext cx="350640" cy="459720"/>
            <a:chOff x="1776240" y="3710160"/>
            <a:chExt cx="350640" cy="459720"/>
          </a:xfrm>
        </p:grpSpPr>
        <p:sp>
          <p:nvSpPr>
            <p:cNvPr id="135" name=""/>
            <p:cNvSpPr/>
            <p:nvPr/>
          </p:nvSpPr>
          <p:spPr>
            <a:xfrm>
              <a:off x="1789560" y="3710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6240" y="378144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44800" y="4229280"/>
            <a:ext cx="362880" cy="459720"/>
            <a:chOff x="2944800" y="4229280"/>
            <a:chExt cx="362880" cy="459720"/>
          </a:xfrm>
        </p:grpSpPr>
        <p:sp>
          <p:nvSpPr>
            <p:cNvPr id="138" name=""/>
            <p:cNvSpPr/>
            <p:nvPr/>
          </p:nvSpPr>
          <p:spPr>
            <a:xfrm>
              <a:off x="2948760" y="4229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44800" y="4330800"/>
              <a:ext cx="351000" cy="350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944800" y="6119640"/>
            <a:ext cx="362880" cy="459720"/>
            <a:chOff x="2944800" y="6119640"/>
            <a:chExt cx="362880" cy="459720"/>
          </a:xfrm>
        </p:grpSpPr>
        <p:sp>
          <p:nvSpPr>
            <p:cNvPr id="141" name=""/>
            <p:cNvSpPr/>
            <p:nvPr/>
          </p:nvSpPr>
          <p:spPr>
            <a:xfrm>
              <a:off x="2948760" y="6119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4800" y="6221160"/>
              <a:ext cx="351000" cy="350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90640" y="5413320"/>
            <a:ext cx="350640" cy="459720"/>
            <a:chOff x="1790640" y="5413320"/>
            <a:chExt cx="350640" cy="459720"/>
          </a:xfrm>
        </p:grpSpPr>
        <p:sp>
          <p:nvSpPr>
            <p:cNvPr id="144" name=""/>
            <p:cNvSpPr/>
            <p:nvPr/>
          </p:nvSpPr>
          <p:spPr>
            <a:xfrm>
              <a:off x="1803960" y="5413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0640" y="548460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776240" y="4691160"/>
            <a:ext cx="350640" cy="459720"/>
            <a:chOff x="1776240" y="4691160"/>
            <a:chExt cx="350640" cy="459720"/>
          </a:xfrm>
        </p:grpSpPr>
        <p:sp>
          <p:nvSpPr>
            <p:cNvPr id="147" name=""/>
            <p:cNvSpPr/>
            <p:nvPr/>
          </p:nvSpPr>
          <p:spPr>
            <a:xfrm>
              <a:off x="1789560" y="4691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6240" y="476244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Жуков</cp:lastModifiedBy>
  <dcterms:modified xsi:type="dcterms:W3CDTF">2002-02-26T16:51:37Z</dcterms:modified>
  <cp:revision>6</cp:revision>
  <dc:subject/>
  <dc:title>Заголовок слайда отсутствует</dc:title>
</cp:coreProperties>
</file>