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8C1-6089-4B0A-B6F2-5B72DD2C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CDA-CDD8-4104-8203-7A4AEC7B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467-2EB8-4266-B64B-C902EA7D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F22-BE2F-4BD6-A2CD-829CEC5B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A39-DA31-4FB8-AC2D-C7F3A6A9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AEA-6A78-4998-A581-D9C71F65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060-8DFD-4E84-99F6-DBC18880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16D-808A-4C48-A5A5-A6CD94EE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7A6-D56B-4ADE-9C5E-1ABBB3D9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7EE-372D-401B-8B69-9B760DDF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71B-0A82-4569-A955-44182967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F05-8D18-439A-86B4-B6A73236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F4FC-5CBA-4D24-A734-EB00EF00B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95280" y="-457200"/>
            <a:ext cx="5181840" cy="5638680"/>
            <a:chOff x="1295280" y="-457200"/>
            <a:chExt cx="5181840" cy="5638680"/>
          </a:xfrm>
        </p:grpSpPr>
        <p:sp>
          <p:nvSpPr>
            <p:cNvPr id="42" name=""/>
            <p:cNvSpPr/>
            <p:nvPr/>
          </p:nvSpPr>
          <p:spPr>
            <a:xfrm>
              <a:off x="1295280" y="-457200"/>
              <a:ext cx="5181840" cy="541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09680" y="4495680"/>
              <a:ext cx="3353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1523880" y="-152280"/>
              <a:ext cx="4724280" cy="5165280"/>
              <a:chOff x="1523880" y="-152280"/>
              <a:chExt cx="4724280" cy="516528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1523880" y="-152280"/>
                <a:ext cx="4724280" cy="5165280"/>
                <a:chOff x="1523880" y="-152280"/>
                <a:chExt cx="4724280" cy="5165280"/>
              </a:xfrm>
            </p:grpSpPr>
            <p:grpSp>
              <p:nvGrpSpPr>
                <p:cNvPr id="46" name=""/>
                <p:cNvGrpSpPr/>
                <p:nvPr/>
              </p:nvGrpSpPr>
              <p:grpSpPr>
                <a:xfrm>
                  <a:off x="1523880" y="-152280"/>
                  <a:ext cx="4724280" cy="5037480"/>
                  <a:chOff x="1523880" y="-152280"/>
                  <a:chExt cx="4724280" cy="503748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 rot="81000">
                    <a:off x="4841640" y="2920320"/>
                    <a:ext cx="3049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 rot="340200">
                    <a:off x="1771200" y="75600"/>
                    <a:ext cx="4191120" cy="43430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" name=""/>
                  <p:cNvGrpSpPr/>
                  <p:nvPr/>
                </p:nvGrpSpPr>
                <p:grpSpPr>
                  <a:xfrm>
                    <a:off x="4224600" y="3795480"/>
                    <a:ext cx="872280" cy="1049040"/>
                    <a:chOff x="4224600" y="3795480"/>
                    <a:chExt cx="872280" cy="1049040"/>
                  </a:xfrm>
                </p:grpSpPr>
                <p:sp>
                  <p:nvSpPr>
                    <p:cNvPr id="50" name=""/>
                    <p:cNvSpPr/>
                    <p:nvPr/>
                  </p:nvSpPr>
                  <p:spPr>
                    <a:xfrm rot="20284800">
                      <a:off x="4460760" y="4085280"/>
                      <a:ext cx="527040" cy="685440"/>
                    </a:xfrm>
                    <a:custGeom>
                      <a:avLst/>
                      <a:gdLst>
                        <a:gd name="textAreaLeft" fmla="*/ 119880 w 527040"/>
                        <a:gd name="textAreaRight" fmla="*/ 407160 w 527040"/>
                        <a:gd name="textAreaTop" fmla="*/ 155880 h 685440"/>
                        <a:gd name="textAreaBottom" fmla="*/ 529560 h 68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5896" y="21600"/>
                          </a:lnTo>
                          <a:lnTo>
                            <a:pt x="5704" y="21600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" name=""/>
                    <p:cNvSpPr/>
                    <p:nvPr/>
                  </p:nvSpPr>
                  <p:spPr>
                    <a:xfrm flipH="1" rot="14500800">
                      <a:off x="4119840" y="4214520"/>
                      <a:ext cx="909000" cy="304920"/>
                    </a:xfrm>
                    <a:prstGeom prst="blockArc">
                      <a:avLst>
                        <a:gd name="adj1" fmla="val 9283961"/>
                        <a:gd name="adj2" fmla="val 1516039"/>
                        <a:gd name="adj3" fmla="val 28245"/>
                      </a:avLst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 rot="4563000">
                      <a:off x="4366440" y="4148640"/>
                      <a:ext cx="909360" cy="231840"/>
                    </a:xfrm>
                    <a:prstGeom prst="blockArc">
                      <a:avLst>
                        <a:gd name="adj1" fmla="val 9283961"/>
                        <a:gd name="adj2" fmla="val 1516039"/>
                        <a:gd name="adj3" fmla="val 28245"/>
                      </a:avLst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3473280" y="3915720"/>
                    <a:ext cx="680760" cy="969480"/>
                    <a:chOff x="3473280" y="3915720"/>
                    <a:chExt cx="680760" cy="96948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 rot="21201600">
                      <a:off x="3589200" y="4162680"/>
                      <a:ext cx="527040" cy="685800"/>
                    </a:xfrm>
                    <a:custGeom>
                      <a:avLst/>
                      <a:gdLst>
                        <a:gd name="textAreaLeft" fmla="*/ 119880 w 527040"/>
                        <a:gd name="textAreaRight" fmla="*/ 407160 w 527040"/>
                        <a:gd name="textAreaTop" fmla="*/ 156240 h 685800"/>
                        <a:gd name="textAreaBottom" fmla="*/ 529560 h 68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5896" y="21600"/>
                          </a:lnTo>
                          <a:lnTo>
                            <a:pt x="5704" y="21600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 flipH="1" rot="15417000">
                      <a:off x="3269160" y="4255200"/>
                      <a:ext cx="909360" cy="304920"/>
                    </a:xfrm>
                    <a:prstGeom prst="blockArc">
                      <a:avLst>
                        <a:gd name="adj1" fmla="val 9283961"/>
                        <a:gd name="adj2" fmla="val 1516039"/>
                        <a:gd name="adj3" fmla="val 28245"/>
                      </a:avLst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 rot="5479200">
                      <a:off x="3534120" y="4257000"/>
                      <a:ext cx="909720" cy="231840"/>
                    </a:xfrm>
                    <a:prstGeom prst="blockArc">
                      <a:avLst>
                        <a:gd name="adj1" fmla="val 9283961"/>
                        <a:gd name="adj2" fmla="val 1516039"/>
                        <a:gd name="adj3" fmla="val 28245"/>
                      </a:avLst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2616120" y="3721680"/>
                    <a:ext cx="830880" cy="1022760"/>
                    <a:chOff x="2616120" y="3721680"/>
                    <a:chExt cx="830880" cy="1022760"/>
                  </a:xfrm>
                </p:grpSpPr>
                <p:sp>
                  <p:nvSpPr>
                    <p:cNvPr id="58" name=""/>
                    <p:cNvSpPr/>
                    <p:nvPr/>
                  </p:nvSpPr>
                  <p:spPr>
                    <a:xfrm rot="1037400">
                      <a:off x="2705760" y="3996000"/>
                      <a:ext cx="527040" cy="685440"/>
                    </a:xfrm>
                    <a:custGeom>
                      <a:avLst/>
                      <a:gdLst>
                        <a:gd name="textAreaLeft" fmla="*/ 119880 w 527040"/>
                        <a:gd name="textAreaRight" fmla="*/ 407160 w 527040"/>
                        <a:gd name="textAreaTop" fmla="*/ 155880 h 685440"/>
                        <a:gd name="textAreaBottom" fmla="*/ 529560 h 68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5896" y="21600"/>
                          </a:lnTo>
                          <a:lnTo>
                            <a:pt x="5704" y="21600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 flipH="1" rot="16853400">
                      <a:off x="2437200" y="4044240"/>
                      <a:ext cx="909000" cy="304920"/>
                    </a:xfrm>
                    <a:prstGeom prst="blockArc">
                      <a:avLst>
                        <a:gd name="adj1" fmla="val 9283961"/>
                        <a:gd name="adj2" fmla="val 1516039"/>
                        <a:gd name="adj3" fmla="val 28245"/>
                      </a:avLst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 rot="6915000">
                      <a:off x="2693160" y="4156920"/>
                      <a:ext cx="909360" cy="231840"/>
                    </a:xfrm>
                    <a:prstGeom prst="blockArc">
                      <a:avLst>
                        <a:gd name="adj1" fmla="val 9283961"/>
                        <a:gd name="adj2" fmla="val 1516039"/>
                        <a:gd name="adj3" fmla="val 28245"/>
                      </a:avLst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" name=""/>
                  <p:cNvSpPr/>
                  <p:nvPr/>
                </p:nvSpPr>
                <p:spPr>
                  <a:xfrm>
                    <a:off x="3809880" y="2361960"/>
                    <a:ext cx="1066680" cy="236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>
                    <a:off x="2819160" y="2361960"/>
                    <a:ext cx="990720" cy="236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124080" y="1599840"/>
                    <a:ext cx="1447920" cy="1523880"/>
                  </a:xfrm>
                  <a:prstGeom prst="ellipse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3581280" y="1447560"/>
                    <a:ext cx="533520" cy="38052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523880" y="-152280"/>
                    <a:ext cx="4724280" cy="4800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lg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" name=""/>
                <p:cNvSpPr/>
                <p:nvPr/>
              </p:nvSpPr>
              <p:spPr>
                <a:xfrm rot="20350800">
                  <a:off x="4648320" y="4724280"/>
                  <a:ext cx="380880" cy="22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 flipH="1">
                <a:off x="5029200" y="3733560"/>
                <a:ext cx="914400" cy="9140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2167200" y="4407840"/>
            <a:ext cx="5470920" cy="2233080"/>
            <a:chOff x="2167200" y="4407840"/>
            <a:chExt cx="5470920" cy="2233080"/>
          </a:xfrm>
        </p:grpSpPr>
        <p:sp>
          <p:nvSpPr>
            <p:cNvPr id="69" name=""/>
            <p:cNvSpPr/>
            <p:nvPr/>
          </p:nvSpPr>
          <p:spPr>
            <a:xfrm>
              <a:off x="2185920" y="4899240"/>
              <a:ext cx="5029200" cy="1272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3081600" y="4407840"/>
              <a:ext cx="898920" cy="2233080"/>
              <a:chOff x="3081600" y="4407840"/>
              <a:chExt cx="898920" cy="2233080"/>
            </a:xfrm>
          </p:grpSpPr>
          <p:sp>
            <p:nvSpPr>
              <p:cNvPr id="71" name=""/>
              <p:cNvSpPr/>
              <p:nvPr/>
            </p:nvSpPr>
            <p:spPr>
              <a:xfrm flipV="1">
                <a:off x="310032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3203280" y="4475160"/>
                <a:ext cx="777240" cy="2089080"/>
                <a:chOff x="3203280" y="4475160"/>
                <a:chExt cx="777240" cy="20890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49740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 rot="21518400">
                  <a:off x="3222720" y="4483440"/>
                  <a:ext cx="73728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49740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3081600" y="4487040"/>
                <a:ext cx="777600" cy="2089080"/>
                <a:chOff x="3081600" y="4487040"/>
                <a:chExt cx="777600" cy="2089080"/>
              </a:xfrm>
            </p:grpSpPr>
            <p:sp>
              <p:nvSpPr>
                <p:cNvPr id="77" name=""/>
                <p:cNvSpPr/>
                <p:nvPr/>
              </p:nvSpPr>
              <p:spPr>
                <a:xfrm flipH="1" flipV="1">
                  <a:off x="309996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 rot="21518400">
                  <a:off x="310140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flipV="1">
                  <a:off x="310032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rot="4773600">
                <a:off x="242568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3996000" y="4407840"/>
              <a:ext cx="898920" cy="2233080"/>
              <a:chOff x="3996000" y="4407840"/>
              <a:chExt cx="898920" cy="223308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401472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4117680" y="4475160"/>
                <a:ext cx="777240" cy="2089080"/>
                <a:chOff x="4117680" y="4475160"/>
                <a:chExt cx="777240" cy="2089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441180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 rot="21518400">
                  <a:off x="4137120" y="4483440"/>
                  <a:ext cx="73728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41180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996000" y="4487040"/>
                <a:ext cx="777600" cy="2089080"/>
                <a:chOff x="3996000" y="4487040"/>
                <a:chExt cx="777600" cy="2089080"/>
              </a:xfrm>
            </p:grpSpPr>
            <p:sp>
              <p:nvSpPr>
                <p:cNvPr id="88" name=""/>
                <p:cNvSpPr/>
                <p:nvPr/>
              </p:nvSpPr>
              <p:spPr>
                <a:xfrm flipH="1" flipV="1">
                  <a:off x="401436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V="1" rot="21518400">
                  <a:off x="401580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 flipV="1">
                  <a:off x="401472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 rot="4773600">
                <a:off x="334008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910400" y="4407840"/>
              <a:ext cx="898920" cy="2233080"/>
              <a:chOff x="4910400" y="4407840"/>
              <a:chExt cx="898920" cy="2233080"/>
            </a:xfrm>
          </p:grpSpPr>
          <p:sp>
            <p:nvSpPr>
              <p:cNvPr id="93" name=""/>
              <p:cNvSpPr/>
              <p:nvPr/>
            </p:nvSpPr>
            <p:spPr>
              <a:xfrm flipV="1">
                <a:off x="492912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5032080" y="4475160"/>
                <a:ext cx="777240" cy="2089080"/>
                <a:chOff x="5032080" y="4475160"/>
                <a:chExt cx="777240" cy="20890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32620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rot="21518400">
                  <a:off x="5051520" y="4483440"/>
                  <a:ext cx="73728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32620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910400" y="4487040"/>
                <a:ext cx="777600" cy="2089080"/>
                <a:chOff x="4910400" y="4487040"/>
                <a:chExt cx="777600" cy="2089080"/>
              </a:xfrm>
            </p:grpSpPr>
            <p:sp>
              <p:nvSpPr>
                <p:cNvPr id="99" name=""/>
                <p:cNvSpPr/>
                <p:nvPr/>
              </p:nvSpPr>
              <p:spPr>
                <a:xfrm flipH="1" flipV="1">
                  <a:off x="492876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V="1" rot="21518400">
                  <a:off x="493020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flipV="1">
                  <a:off x="492912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 rot="4773600">
                <a:off x="425448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167200" y="4407840"/>
              <a:ext cx="898920" cy="2233080"/>
              <a:chOff x="2167200" y="4407840"/>
              <a:chExt cx="898920" cy="2233080"/>
            </a:xfrm>
          </p:grpSpPr>
          <p:sp>
            <p:nvSpPr>
              <p:cNvPr id="104" name=""/>
              <p:cNvSpPr/>
              <p:nvPr/>
            </p:nvSpPr>
            <p:spPr>
              <a:xfrm flipV="1">
                <a:off x="218592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2288880" y="4475160"/>
                <a:ext cx="777240" cy="2089080"/>
                <a:chOff x="2288880" y="4475160"/>
                <a:chExt cx="777240" cy="20890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58300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rot="21518400">
                  <a:off x="2308320" y="4483440"/>
                  <a:ext cx="73728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58300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167200" y="4487040"/>
                <a:ext cx="777600" cy="2089080"/>
                <a:chOff x="2167200" y="4487040"/>
                <a:chExt cx="777600" cy="2089080"/>
              </a:xfrm>
            </p:grpSpPr>
            <p:sp>
              <p:nvSpPr>
                <p:cNvPr id="110" name=""/>
                <p:cNvSpPr/>
                <p:nvPr/>
              </p:nvSpPr>
              <p:spPr>
                <a:xfrm flipH="1" flipV="1">
                  <a:off x="218556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 rot="21518400">
                  <a:off x="218700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flipV="1">
                  <a:off x="218592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 rot="4773600">
                <a:off x="151128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748480" y="4407840"/>
              <a:ext cx="899280" cy="2233080"/>
              <a:chOff x="5748480" y="4407840"/>
              <a:chExt cx="899280" cy="223308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576720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5870160" y="4475160"/>
                <a:ext cx="777600" cy="2089080"/>
                <a:chOff x="5870160" y="4475160"/>
                <a:chExt cx="777600" cy="20890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16500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 rot="21518400">
                  <a:off x="5889960" y="448344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16500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748480" y="4487040"/>
                <a:ext cx="777600" cy="2089080"/>
                <a:chOff x="5748480" y="4487040"/>
                <a:chExt cx="777600" cy="2089080"/>
              </a:xfrm>
            </p:grpSpPr>
            <p:sp>
              <p:nvSpPr>
                <p:cNvPr id="121" name=""/>
                <p:cNvSpPr/>
                <p:nvPr/>
              </p:nvSpPr>
              <p:spPr>
                <a:xfrm flipH="1" flipV="1">
                  <a:off x="576684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V="1" rot="21518400">
                  <a:off x="576828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576720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 rot="4773600">
                <a:off x="509292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739200" y="4407840"/>
              <a:ext cx="898920" cy="2233080"/>
              <a:chOff x="6739200" y="4407840"/>
              <a:chExt cx="898920" cy="2233080"/>
            </a:xfrm>
          </p:grpSpPr>
          <p:sp>
            <p:nvSpPr>
              <p:cNvPr id="126" name=""/>
              <p:cNvSpPr/>
              <p:nvPr/>
            </p:nvSpPr>
            <p:spPr>
              <a:xfrm flipV="1">
                <a:off x="675792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6860880" y="4475160"/>
                <a:ext cx="777240" cy="2089080"/>
                <a:chOff x="6860880" y="4475160"/>
                <a:chExt cx="777240" cy="20890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715500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rot="21518400">
                  <a:off x="6880320" y="4483440"/>
                  <a:ext cx="73728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15500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739200" y="4487040"/>
                <a:ext cx="777600" cy="2089080"/>
                <a:chOff x="6739200" y="4487040"/>
                <a:chExt cx="777600" cy="2089080"/>
              </a:xfrm>
            </p:grpSpPr>
            <p:sp>
              <p:nvSpPr>
                <p:cNvPr id="132" name=""/>
                <p:cNvSpPr/>
                <p:nvPr/>
              </p:nvSpPr>
              <p:spPr>
                <a:xfrm flipH="1" flipV="1">
                  <a:off x="675756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 rot="21518400">
                  <a:off x="675900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675792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 rot="4773600">
                <a:off x="608328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801040" y="4407840"/>
              <a:ext cx="898920" cy="2233080"/>
              <a:chOff x="5801040" y="4407840"/>
              <a:chExt cx="898920" cy="2233080"/>
            </a:xfrm>
          </p:grpSpPr>
          <p:sp>
            <p:nvSpPr>
              <p:cNvPr id="137" name=""/>
              <p:cNvSpPr/>
              <p:nvPr/>
            </p:nvSpPr>
            <p:spPr>
              <a:xfrm flipV="1">
                <a:off x="581976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5922720" y="4475160"/>
                <a:ext cx="777240" cy="2089080"/>
                <a:chOff x="5922720" y="4475160"/>
                <a:chExt cx="777240" cy="20890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21684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rot="21518400">
                  <a:off x="5942160" y="4483440"/>
                  <a:ext cx="73728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21684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801040" y="4487040"/>
                <a:ext cx="777600" cy="2089080"/>
                <a:chOff x="5801040" y="4487040"/>
                <a:chExt cx="777600" cy="2089080"/>
              </a:xfrm>
            </p:grpSpPr>
            <p:sp>
              <p:nvSpPr>
                <p:cNvPr id="143" name=""/>
                <p:cNvSpPr/>
                <p:nvPr/>
              </p:nvSpPr>
              <p:spPr>
                <a:xfrm flipH="1" flipV="1">
                  <a:off x="581940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 rot="21518400">
                  <a:off x="582084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581976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 rot="4773600">
                <a:off x="514512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1018800" y="-732240"/>
            <a:ext cx="7210800" cy="7666560"/>
            <a:chOff x="1018800" y="-732240"/>
            <a:chExt cx="7210800" cy="7666560"/>
          </a:xfrm>
        </p:grpSpPr>
        <p:sp>
          <p:nvSpPr>
            <p:cNvPr id="148" name=""/>
            <p:cNvSpPr/>
            <p:nvPr/>
          </p:nvSpPr>
          <p:spPr>
            <a:xfrm>
              <a:off x="1143000" y="76320"/>
              <a:ext cx="70866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2720" y="4038840"/>
              <a:ext cx="2361960" cy="26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018800" y="-732240"/>
              <a:ext cx="5760720" cy="6085440"/>
              <a:chOff x="1018800" y="-732240"/>
              <a:chExt cx="5760720" cy="6085440"/>
            </a:xfrm>
          </p:grpSpPr>
          <p:sp>
            <p:nvSpPr>
              <p:cNvPr id="151" name=""/>
              <p:cNvSpPr/>
              <p:nvPr/>
            </p:nvSpPr>
            <p:spPr>
              <a:xfrm rot="390000">
                <a:off x="1308240" y="-456120"/>
                <a:ext cx="5181840" cy="541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390000">
                <a:off x="1929240" y="4479840"/>
                <a:ext cx="33530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280520" y="-403200"/>
                <a:ext cx="5237280" cy="5491440"/>
                <a:chOff x="1280520" y="-403200"/>
                <a:chExt cx="5237280" cy="549144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1280520" y="-403200"/>
                  <a:ext cx="5237280" cy="5491440"/>
                  <a:chOff x="1280520" y="-403200"/>
                  <a:chExt cx="5237280" cy="549144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1280520" y="-403200"/>
                    <a:ext cx="5237280" cy="5314680"/>
                    <a:chOff x="1280520" y="-403200"/>
                    <a:chExt cx="5237280" cy="531468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 rot="471000">
                      <a:off x="4766760" y="3042360"/>
                      <a:ext cx="3049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rot="730800">
                      <a:off x="1784160" y="74520"/>
                      <a:ext cx="4191120" cy="43430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8" name=""/>
                    <p:cNvGrpSpPr/>
                    <p:nvPr/>
                  </p:nvGrpSpPr>
                  <p:grpSpPr>
                    <a:xfrm>
                      <a:off x="4032360" y="3892680"/>
                      <a:ext cx="798120" cy="1018800"/>
                      <a:chOff x="4032360" y="3892680"/>
                      <a:chExt cx="798120" cy="1018800"/>
                    </a:xfrm>
                  </p:grpSpPr>
                  <p:sp>
                    <p:nvSpPr>
                      <p:cNvPr id="159" name=""/>
                      <p:cNvSpPr/>
                      <p:nvPr/>
                    </p:nvSpPr>
                    <p:spPr>
                      <a:xfrm rot="20674800">
                        <a:off x="4221360" y="416772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" name=""/>
                      <p:cNvSpPr/>
                      <p:nvPr/>
                    </p:nvSpPr>
                    <p:spPr>
                      <a:xfrm flipH="1" rot="14890800">
                        <a:off x="3888000" y="428040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 rot="4952400">
                        <a:off x="4144680" y="424260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2" name=""/>
                    <p:cNvGrpSpPr/>
                    <p:nvPr/>
                  </p:nvGrpSpPr>
                  <p:grpSpPr>
                    <a:xfrm>
                      <a:off x="3290400" y="3905640"/>
                      <a:ext cx="647280" cy="940320"/>
                      <a:chOff x="3290400" y="3905640"/>
                      <a:chExt cx="647280" cy="940320"/>
                    </a:xfrm>
                  </p:grpSpPr>
                  <p:sp>
                    <p:nvSpPr>
                      <p:cNvPr id="163" name=""/>
                      <p:cNvSpPr/>
                      <p:nvPr/>
                    </p:nvSpPr>
                    <p:spPr>
                      <a:xfrm rot="21591600">
                        <a:off x="3346560" y="4145760"/>
                        <a:ext cx="527040" cy="68580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6240 h 685800"/>
                          <a:gd name="textAreaBottom" fmla="*/ 529560 h 685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 flipH="1" rot="15807000">
                        <a:off x="3038400" y="4223880"/>
                        <a:ext cx="90936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 rot="5869200">
                        <a:off x="3305880" y="4255920"/>
                        <a:ext cx="90972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2372400" y="3593520"/>
                      <a:ext cx="902160" cy="1049400"/>
                      <a:chOff x="2372400" y="3593520"/>
                      <a:chExt cx="902160" cy="1049400"/>
                    </a:xfrm>
                  </p:grpSpPr>
                  <p:sp>
                    <p:nvSpPr>
                      <p:cNvPr id="167" name=""/>
                      <p:cNvSpPr/>
                      <p:nvPr/>
                    </p:nvSpPr>
                    <p:spPr>
                      <a:xfrm rot="1427400">
                        <a:off x="2487960" y="388008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 flipH="1" rot="17243400">
                        <a:off x="2235600" y="392004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 rot="7305000">
                        <a:off x="2481840" y="406152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3810240" y="2353680"/>
                      <a:ext cx="792720" cy="2467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H="1">
                      <a:off x="2558520" y="2353680"/>
                      <a:ext cx="1251720" cy="2234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rot="390000">
                      <a:off x="3124080" y="1595880"/>
                      <a:ext cx="1447920" cy="152388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rot="390000">
                      <a:off x="3663360" y="1447920"/>
                      <a:ext cx="533520" cy="38052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rot="390000">
                      <a:off x="1536840" y="-151200"/>
                      <a:ext cx="4724280" cy="48002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5" name=""/>
                  <p:cNvSpPr/>
                  <p:nvPr/>
                </p:nvSpPr>
                <p:spPr>
                  <a:xfrm rot="20741400">
                    <a:off x="4361400" y="4816440"/>
                    <a:ext cx="38088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 flipH="1" rot="390000">
                  <a:off x="4811400" y="3903480"/>
                  <a:ext cx="914400" cy="9140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938600" y="4407840"/>
              <a:ext cx="5470920" cy="2233080"/>
              <a:chOff x="1938600" y="4407840"/>
              <a:chExt cx="5470920" cy="2233080"/>
            </a:xfrm>
          </p:grpSpPr>
          <p:sp>
            <p:nvSpPr>
              <p:cNvPr id="178" name=""/>
              <p:cNvSpPr/>
              <p:nvPr/>
            </p:nvSpPr>
            <p:spPr>
              <a:xfrm>
                <a:off x="1957320" y="4899240"/>
                <a:ext cx="5029200" cy="127296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2853000" y="4407840"/>
                <a:ext cx="898920" cy="2233080"/>
                <a:chOff x="2853000" y="4407840"/>
                <a:chExt cx="898920" cy="2233080"/>
              </a:xfrm>
            </p:grpSpPr>
            <p:sp>
              <p:nvSpPr>
                <p:cNvPr id="180" name=""/>
                <p:cNvSpPr/>
                <p:nvPr/>
              </p:nvSpPr>
              <p:spPr>
                <a:xfrm flipV="1">
                  <a:off x="287172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2974680" y="4475160"/>
                  <a:ext cx="777240" cy="2089080"/>
                  <a:chOff x="2974680" y="4475160"/>
                  <a:chExt cx="777240" cy="2089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26880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1518400">
                    <a:off x="299412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26880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853000" y="4487040"/>
                  <a:ext cx="777600" cy="2089080"/>
                  <a:chOff x="2853000" y="4487040"/>
                  <a:chExt cx="777600" cy="208908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flipV="1">
                    <a:off x="287136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V="1" rot="21518400">
                    <a:off x="287280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flipV="1">
                    <a:off x="287172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" name=""/>
                <p:cNvSpPr/>
                <p:nvPr/>
              </p:nvSpPr>
              <p:spPr>
                <a:xfrm rot="4773600">
                  <a:off x="219708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767400" y="4407840"/>
                <a:ext cx="898920" cy="2233080"/>
                <a:chOff x="3767400" y="4407840"/>
                <a:chExt cx="898920" cy="2233080"/>
              </a:xfrm>
            </p:grpSpPr>
            <p:sp>
              <p:nvSpPr>
                <p:cNvPr id="191" name=""/>
                <p:cNvSpPr/>
                <p:nvPr/>
              </p:nvSpPr>
              <p:spPr>
                <a:xfrm flipV="1">
                  <a:off x="378612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" name=""/>
                <p:cNvGrpSpPr/>
                <p:nvPr/>
              </p:nvGrpSpPr>
              <p:grpSpPr>
                <a:xfrm>
                  <a:off x="3889080" y="4475160"/>
                  <a:ext cx="777240" cy="2089080"/>
                  <a:chOff x="3889080" y="4475160"/>
                  <a:chExt cx="777240" cy="20890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418320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1518400">
                    <a:off x="390852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18320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3767400" y="4487040"/>
                  <a:ext cx="777600" cy="2089080"/>
                  <a:chOff x="3767400" y="4487040"/>
                  <a:chExt cx="777600" cy="208908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H="1" flipV="1">
                    <a:off x="378576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 rot="21518400">
                    <a:off x="378720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>
                    <a:off x="378612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 rot="4773600">
                  <a:off x="311148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681800" y="4407840"/>
                <a:ext cx="898920" cy="2233080"/>
                <a:chOff x="4681800" y="4407840"/>
                <a:chExt cx="898920" cy="2233080"/>
              </a:xfrm>
            </p:grpSpPr>
            <p:sp>
              <p:nvSpPr>
                <p:cNvPr id="202" name=""/>
                <p:cNvSpPr/>
                <p:nvPr/>
              </p:nvSpPr>
              <p:spPr>
                <a:xfrm flipV="1">
                  <a:off x="470052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4803480" y="4475160"/>
                  <a:ext cx="777240" cy="2089080"/>
                  <a:chOff x="4803480" y="4475160"/>
                  <a:chExt cx="777240" cy="20890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09760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21518400">
                    <a:off x="482292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09760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4681800" y="4487040"/>
                  <a:ext cx="777600" cy="2089080"/>
                  <a:chOff x="4681800" y="4487040"/>
                  <a:chExt cx="777600" cy="20890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flipV="1">
                    <a:off x="470016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V="1" rot="21518400">
                    <a:off x="470160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flipV="1">
                    <a:off x="470052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rot="4773600">
                  <a:off x="402588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1938600" y="4407840"/>
                <a:ext cx="898920" cy="2233080"/>
                <a:chOff x="1938600" y="4407840"/>
                <a:chExt cx="898920" cy="2233080"/>
              </a:xfrm>
            </p:grpSpPr>
            <p:sp>
              <p:nvSpPr>
                <p:cNvPr id="213" name=""/>
                <p:cNvSpPr/>
                <p:nvPr/>
              </p:nvSpPr>
              <p:spPr>
                <a:xfrm flipV="1">
                  <a:off x="195732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2060280" y="4475160"/>
                  <a:ext cx="777240" cy="2089080"/>
                  <a:chOff x="2060280" y="4475160"/>
                  <a:chExt cx="777240" cy="208908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235440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21518400">
                    <a:off x="207972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35440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1938600" y="4487040"/>
                  <a:ext cx="777600" cy="2089080"/>
                  <a:chOff x="1938600" y="4487040"/>
                  <a:chExt cx="777600" cy="2089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flipV="1">
                    <a:off x="195696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V="1" rot="21518400">
                    <a:off x="195840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 flipV="1">
                    <a:off x="195732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 rot="4773600">
                  <a:off x="128268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5519880" y="4407840"/>
                <a:ext cx="899280" cy="2233080"/>
                <a:chOff x="5519880" y="4407840"/>
                <a:chExt cx="899280" cy="2233080"/>
              </a:xfrm>
            </p:grpSpPr>
            <p:sp>
              <p:nvSpPr>
                <p:cNvPr id="224" name=""/>
                <p:cNvSpPr/>
                <p:nvPr/>
              </p:nvSpPr>
              <p:spPr>
                <a:xfrm flipV="1">
                  <a:off x="55386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" name=""/>
                <p:cNvGrpSpPr/>
                <p:nvPr/>
              </p:nvGrpSpPr>
              <p:grpSpPr>
                <a:xfrm>
                  <a:off x="5641560" y="4475160"/>
                  <a:ext cx="777600" cy="2089080"/>
                  <a:chOff x="5641560" y="4475160"/>
                  <a:chExt cx="777600" cy="20890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593640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rot="21518400">
                    <a:off x="5661360" y="448344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93640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5519880" y="4487040"/>
                  <a:ext cx="777600" cy="2089080"/>
                  <a:chOff x="5519880" y="4487040"/>
                  <a:chExt cx="777600" cy="208908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flipV="1">
                    <a:off x="55382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V="1" rot="21518400">
                    <a:off x="55396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flipV="1">
                    <a:off x="55386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" name=""/>
                <p:cNvSpPr/>
                <p:nvPr/>
              </p:nvSpPr>
              <p:spPr>
                <a:xfrm rot="4773600">
                  <a:off x="48643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510600" y="4407840"/>
                <a:ext cx="898920" cy="2233080"/>
                <a:chOff x="6510600" y="4407840"/>
                <a:chExt cx="898920" cy="2233080"/>
              </a:xfrm>
            </p:grpSpPr>
            <p:sp>
              <p:nvSpPr>
                <p:cNvPr id="235" name=""/>
                <p:cNvSpPr/>
                <p:nvPr/>
              </p:nvSpPr>
              <p:spPr>
                <a:xfrm flipV="1">
                  <a:off x="652932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"/>
                <p:cNvGrpSpPr/>
                <p:nvPr/>
              </p:nvGrpSpPr>
              <p:grpSpPr>
                <a:xfrm>
                  <a:off x="6632280" y="4475160"/>
                  <a:ext cx="777240" cy="2089080"/>
                  <a:chOff x="6632280" y="4475160"/>
                  <a:chExt cx="777240" cy="208908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692640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21518400">
                    <a:off x="665172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692640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6510600" y="4487040"/>
                  <a:ext cx="777600" cy="2089080"/>
                  <a:chOff x="6510600" y="4487040"/>
                  <a:chExt cx="777600" cy="20890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flipH="1" flipV="1">
                    <a:off x="652896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V="1" rot="21518400">
                    <a:off x="653040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flipV="1">
                    <a:off x="652932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4" name=""/>
                <p:cNvSpPr/>
                <p:nvPr/>
              </p:nvSpPr>
              <p:spPr>
                <a:xfrm rot="4773600">
                  <a:off x="585468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572440" y="4407840"/>
                <a:ext cx="898920" cy="2233080"/>
                <a:chOff x="5572440" y="4407840"/>
                <a:chExt cx="898920" cy="223308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559116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5694120" y="4475160"/>
                  <a:ext cx="777240" cy="2089080"/>
                  <a:chOff x="5694120" y="4475160"/>
                  <a:chExt cx="777240" cy="2089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59882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21518400">
                    <a:off x="571356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9882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5572440" y="4487040"/>
                  <a:ext cx="777600" cy="2089080"/>
                  <a:chOff x="5572440" y="4487040"/>
                  <a:chExt cx="777600" cy="20890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 flipV="1">
                    <a:off x="559080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 rot="21518400">
                    <a:off x="559224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flipV="1">
                    <a:off x="559116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5" name=""/>
                <p:cNvSpPr/>
                <p:nvPr/>
              </p:nvSpPr>
              <p:spPr>
                <a:xfrm rot="4773600">
                  <a:off x="49165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6" name=""/>
            <p:cNvSpPr/>
            <p:nvPr/>
          </p:nvSpPr>
          <p:spPr>
            <a:xfrm>
              <a:off x="5562720" y="4343400"/>
              <a:ext cx="19047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824400" y="-923400"/>
            <a:ext cx="6795360" cy="8390520"/>
            <a:chOff x="824400" y="-923400"/>
            <a:chExt cx="6795360" cy="8390520"/>
          </a:xfrm>
        </p:grpSpPr>
        <p:sp>
          <p:nvSpPr>
            <p:cNvPr id="258" name=""/>
            <p:cNvSpPr/>
            <p:nvPr/>
          </p:nvSpPr>
          <p:spPr>
            <a:xfrm>
              <a:off x="914400" y="152280"/>
              <a:ext cx="6705360" cy="731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824400" y="-923400"/>
              <a:ext cx="6169320" cy="6385680"/>
              <a:chOff x="824400" y="-923400"/>
              <a:chExt cx="6169320" cy="6385680"/>
            </a:xfrm>
          </p:grpSpPr>
          <p:sp>
            <p:nvSpPr>
              <p:cNvPr id="260" name=""/>
              <p:cNvSpPr/>
              <p:nvPr/>
            </p:nvSpPr>
            <p:spPr>
              <a:xfrm rot="700800">
                <a:off x="1317960" y="-454680"/>
                <a:ext cx="5181480" cy="541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700800">
                <a:off x="1707840" y="4443840"/>
                <a:ext cx="33526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109880" y="-578520"/>
                <a:ext cx="5598000" cy="5700960"/>
                <a:chOff x="1109880" y="-578520"/>
                <a:chExt cx="5598000" cy="570096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1109880" y="-578520"/>
                  <a:ext cx="5598000" cy="5700960"/>
                  <a:chOff x="1109880" y="-578520"/>
                  <a:chExt cx="5598000" cy="5700960"/>
                </a:xfrm>
              </p:grpSpPr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1109880" y="-578520"/>
                    <a:ext cx="5598000" cy="5657400"/>
                    <a:chOff x="1109880" y="-578520"/>
                    <a:chExt cx="5598000" cy="56574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rot="781800">
                      <a:off x="4697640" y="3132360"/>
                      <a:ext cx="3049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rot="1041000">
                      <a:off x="1794600" y="74160"/>
                      <a:ext cx="4191120" cy="43430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7" name=""/>
                    <p:cNvGrpSpPr/>
                    <p:nvPr/>
                  </p:nvGrpSpPr>
                  <p:grpSpPr>
                    <a:xfrm>
                      <a:off x="3877560" y="3955680"/>
                      <a:ext cx="731160" cy="988560"/>
                      <a:chOff x="3877560" y="3955680"/>
                      <a:chExt cx="731160" cy="988560"/>
                    </a:xfrm>
                  </p:grpSpPr>
                  <p:sp>
                    <p:nvSpPr>
                      <p:cNvPr id="268" name=""/>
                      <p:cNvSpPr/>
                      <p:nvPr/>
                    </p:nvSpPr>
                    <p:spPr>
                      <a:xfrm rot="20985600">
                        <a:off x="4024800" y="421236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 flipH="1" rot="15201600">
                        <a:off x="3699000" y="431244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 rot="5263800">
                        <a:off x="3961440" y="429840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1" name=""/>
                    <p:cNvGrpSpPr/>
                    <p:nvPr/>
                  </p:nvGrpSpPr>
                  <p:grpSpPr>
                    <a:xfrm>
                      <a:off x="3126600" y="3874320"/>
                      <a:ext cx="668160" cy="947160"/>
                      <a:chOff x="3126600" y="3874320"/>
                      <a:chExt cx="668160" cy="947160"/>
                    </a:xfrm>
                  </p:grpSpPr>
                  <p:sp>
                    <p:nvSpPr>
                      <p:cNvPr id="272" name=""/>
                      <p:cNvSpPr/>
                      <p:nvPr/>
                    </p:nvSpPr>
                    <p:spPr>
                      <a:xfrm rot="302400">
                        <a:off x="3155400" y="4111560"/>
                        <a:ext cx="527040" cy="68580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6240 h 685800"/>
                          <a:gd name="textAreaBottom" fmla="*/ 529560 h 685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 flipH="1" rot="16118400">
                        <a:off x="2858040" y="4180320"/>
                        <a:ext cx="90936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rot="6180000">
                        <a:off x="3124440" y="4236120"/>
                        <a:ext cx="90972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5" name=""/>
                    <p:cNvGrpSpPr/>
                    <p:nvPr/>
                  </p:nvGrpSpPr>
                  <p:grpSpPr>
                    <a:xfrm>
                      <a:off x="2191680" y="3479400"/>
                      <a:ext cx="950400" cy="1060560"/>
                      <a:chOff x="2191680" y="3479400"/>
                      <a:chExt cx="950400" cy="1060560"/>
                    </a:xfrm>
                  </p:grpSpPr>
                  <p:sp>
                    <p:nvSpPr>
                      <p:cNvPr id="276" name=""/>
                      <p:cNvSpPr/>
                      <p:nvPr/>
                    </p:nvSpPr>
                    <p:spPr>
                      <a:xfrm rot="1738200">
                        <a:off x="2324520" y="376956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 flipH="1" rot="17554200">
                        <a:off x="2085480" y="380484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 rot="7616400">
                        <a:off x="2321280" y="396828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3810960" y="2346480"/>
                      <a:ext cx="566640" cy="2529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>
                      <a:off x="2362680" y="2346480"/>
                      <a:ext cx="1448280" cy="2112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700800">
                      <a:off x="3124080" y="1591920"/>
                      <a:ext cx="1447920" cy="1523880"/>
                    </a:xfrm>
                    <a:prstGeom prst="ellipse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700800">
                      <a:off x="3728160" y="1454760"/>
                      <a:ext cx="533520" cy="38052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700800">
                      <a:off x="1546560" y="-149760"/>
                      <a:ext cx="4724280" cy="48002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4" name=""/>
                  <p:cNvSpPr/>
                  <p:nvPr/>
                </p:nvSpPr>
                <p:spPr>
                  <a:xfrm rot="21052200">
                    <a:off x="4126320" y="4865400"/>
                    <a:ext cx="38052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5" name=""/>
                <p:cNvSpPr/>
                <p:nvPr/>
              </p:nvSpPr>
              <p:spPr>
                <a:xfrm flipH="1" rot="700800">
                  <a:off x="4624560" y="4019040"/>
                  <a:ext cx="914040" cy="9140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6" name=""/>
            <p:cNvGrpSpPr/>
            <p:nvPr/>
          </p:nvGrpSpPr>
          <p:grpSpPr>
            <a:xfrm>
              <a:off x="1733760" y="4407480"/>
              <a:ext cx="5470920" cy="2232720"/>
              <a:chOff x="1733760" y="4407480"/>
              <a:chExt cx="5470920" cy="2232720"/>
            </a:xfrm>
          </p:grpSpPr>
          <p:sp>
            <p:nvSpPr>
              <p:cNvPr id="287" name=""/>
              <p:cNvSpPr/>
              <p:nvPr/>
            </p:nvSpPr>
            <p:spPr>
              <a:xfrm>
                <a:off x="1752480" y="4898520"/>
                <a:ext cx="5029200" cy="127260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2648160" y="4407480"/>
                <a:ext cx="898920" cy="2232720"/>
                <a:chOff x="2648160" y="4407480"/>
                <a:chExt cx="898920" cy="2232720"/>
              </a:xfrm>
            </p:grpSpPr>
            <p:sp>
              <p:nvSpPr>
                <p:cNvPr id="289" name=""/>
                <p:cNvSpPr/>
                <p:nvPr/>
              </p:nvSpPr>
              <p:spPr>
                <a:xfrm flipV="1">
                  <a:off x="266688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2769840" y="4474800"/>
                  <a:ext cx="777240" cy="2088720"/>
                  <a:chOff x="2769840" y="4474800"/>
                  <a:chExt cx="777240" cy="20887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306396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rot="21518400">
                    <a:off x="2789280" y="4483080"/>
                    <a:ext cx="73728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06396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2648160" y="4486320"/>
                  <a:ext cx="777600" cy="2088720"/>
                  <a:chOff x="2648160" y="4486320"/>
                  <a:chExt cx="777600" cy="208872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flipH="1" flipV="1">
                    <a:off x="266652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V="1" rot="21518400">
                    <a:off x="266796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 flipV="1">
                    <a:off x="266688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8" name=""/>
                <p:cNvSpPr/>
                <p:nvPr/>
              </p:nvSpPr>
              <p:spPr>
                <a:xfrm rot="4773600">
                  <a:off x="199260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562560" y="4407480"/>
                <a:ext cx="898920" cy="2232720"/>
                <a:chOff x="3562560" y="4407480"/>
                <a:chExt cx="898920" cy="2232720"/>
              </a:xfrm>
            </p:grpSpPr>
            <p:sp>
              <p:nvSpPr>
                <p:cNvPr id="300" name=""/>
                <p:cNvSpPr/>
                <p:nvPr/>
              </p:nvSpPr>
              <p:spPr>
                <a:xfrm flipV="1">
                  <a:off x="358128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3684240" y="4474800"/>
                  <a:ext cx="777240" cy="2088720"/>
                  <a:chOff x="3684240" y="4474800"/>
                  <a:chExt cx="777240" cy="2088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397836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rot="21518400">
                    <a:off x="3703680" y="4483080"/>
                    <a:ext cx="73728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97836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562560" y="4486320"/>
                  <a:ext cx="777600" cy="2088720"/>
                  <a:chOff x="3562560" y="4486320"/>
                  <a:chExt cx="777600" cy="20887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flipH="1" flipV="1">
                    <a:off x="358092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V="1" rot="21518400">
                    <a:off x="358236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flipV="1">
                    <a:off x="358128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9" name=""/>
                <p:cNvSpPr/>
                <p:nvPr/>
              </p:nvSpPr>
              <p:spPr>
                <a:xfrm rot="4773600">
                  <a:off x="290700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4476960" y="4407480"/>
                <a:ext cx="898920" cy="2232720"/>
                <a:chOff x="4476960" y="4407480"/>
                <a:chExt cx="898920" cy="2232720"/>
              </a:xfrm>
            </p:grpSpPr>
            <p:sp>
              <p:nvSpPr>
                <p:cNvPr id="311" name=""/>
                <p:cNvSpPr/>
                <p:nvPr/>
              </p:nvSpPr>
              <p:spPr>
                <a:xfrm flipV="1">
                  <a:off x="449568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4598640" y="4474800"/>
                  <a:ext cx="777240" cy="2088720"/>
                  <a:chOff x="4598640" y="4474800"/>
                  <a:chExt cx="777240" cy="208872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489276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 rot="21518400">
                    <a:off x="4618080" y="4483080"/>
                    <a:ext cx="73728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89276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4476960" y="4486320"/>
                  <a:ext cx="777600" cy="2088720"/>
                  <a:chOff x="4476960" y="4486320"/>
                  <a:chExt cx="777600" cy="208872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flipH="1" flipV="1">
                    <a:off x="449532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 rot="21518400">
                    <a:off x="449676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flipV="1">
                    <a:off x="449568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 rot="4773600">
                  <a:off x="382140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1733760" y="4407480"/>
                <a:ext cx="898920" cy="2232720"/>
                <a:chOff x="1733760" y="4407480"/>
                <a:chExt cx="898920" cy="2232720"/>
              </a:xfrm>
            </p:grpSpPr>
            <p:sp>
              <p:nvSpPr>
                <p:cNvPr id="322" name=""/>
                <p:cNvSpPr/>
                <p:nvPr/>
              </p:nvSpPr>
              <p:spPr>
                <a:xfrm flipV="1">
                  <a:off x="175248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1855440" y="4474800"/>
                  <a:ext cx="777240" cy="2088720"/>
                  <a:chOff x="1855440" y="4474800"/>
                  <a:chExt cx="777240" cy="208872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214956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1518400">
                    <a:off x="1874880" y="4483080"/>
                    <a:ext cx="73728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14956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1733760" y="4486320"/>
                  <a:ext cx="777600" cy="2088720"/>
                  <a:chOff x="1733760" y="4486320"/>
                  <a:chExt cx="777600" cy="208872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flipH="1" flipV="1">
                    <a:off x="175212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V="1" rot="21518400">
                    <a:off x="175356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flipV="1">
                    <a:off x="175248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 rot="4773600">
                  <a:off x="107820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315040" y="4407480"/>
                <a:ext cx="899280" cy="2232720"/>
                <a:chOff x="5315040" y="4407480"/>
                <a:chExt cx="899280" cy="2232720"/>
              </a:xfrm>
            </p:grpSpPr>
            <p:sp>
              <p:nvSpPr>
                <p:cNvPr id="333" name=""/>
                <p:cNvSpPr/>
                <p:nvPr/>
              </p:nvSpPr>
              <p:spPr>
                <a:xfrm flipV="1">
                  <a:off x="533376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5436720" y="4474800"/>
                  <a:ext cx="777600" cy="2088720"/>
                  <a:chOff x="5436720" y="4474800"/>
                  <a:chExt cx="777600" cy="208872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573156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 rot="21518400">
                    <a:off x="5456520" y="448308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573156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5315040" y="4486320"/>
                  <a:ext cx="777600" cy="2088720"/>
                  <a:chOff x="5315040" y="4486320"/>
                  <a:chExt cx="777600" cy="208872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flipV="1">
                    <a:off x="533340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 rot="21518400">
                    <a:off x="533484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flipV="1">
                    <a:off x="533376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"/>
                <p:cNvSpPr/>
                <p:nvPr/>
              </p:nvSpPr>
              <p:spPr>
                <a:xfrm rot="4773600">
                  <a:off x="465984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305760" y="4407480"/>
                <a:ext cx="898920" cy="2232720"/>
                <a:chOff x="6305760" y="4407480"/>
                <a:chExt cx="898920" cy="2232720"/>
              </a:xfrm>
            </p:grpSpPr>
            <p:sp>
              <p:nvSpPr>
                <p:cNvPr id="344" name=""/>
                <p:cNvSpPr/>
                <p:nvPr/>
              </p:nvSpPr>
              <p:spPr>
                <a:xfrm flipV="1">
                  <a:off x="632448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6427440" y="4474800"/>
                  <a:ext cx="777240" cy="2088720"/>
                  <a:chOff x="6427440" y="4474800"/>
                  <a:chExt cx="777240" cy="20887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72156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21518400">
                    <a:off x="6446880" y="4483080"/>
                    <a:ext cx="73728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72156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305760" y="4486320"/>
                  <a:ext cx="777600" cy="2088720"/>
                  <a:chOff x="6305760" y="4486320"/>
                  <a:chExt cx="777600" cy="2088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H="1" flipV="1">
                    <a:off x="632412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V="1" rot="21518400">
                    <a:off x="632556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flipV="1">
                    <a:off x="632448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rot="4773600">
                  <a:off x="565020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367600" y="4407480"/>
                <a:ext cx="898920" cy="2232720"/>
                <a:chOff x="5367600" y="4407480"/>
                <a:chExt cx="898920" cy="2232720"/>
              </a:xfrm>
            </p:grpSpPr>
            <p:sp>
              <p:nvSpPr>
                <p:cNvPr id="355" name=""/>
                <p:cNvSpPr/>
                <p:nvPr/>
              </p:nvSpPr>
              <p:spPr>
                <a:xfrm flipV="1">
                  <a:off x="538632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" name=""/>
                <p:cNvGrpSpPr/>
                <p:nvPr/>
              </p:nvGrpSpPr>
              <p:grpSpPr>
                <a:xfrm>
                  <a:off x="5489280" y="4474800"/>
                  <a:ext cx="777240" cy="2088720"/>
                  <a:chOff x="5489280" y="4474800"/>
                  <a:chExt cx="777240" cy="20887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578340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21518400">
                    <a:off x="5508720" y="4483080"/>
                    <a:ext cx="73728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578340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5367600" y="4486320"/>
                  <a:ext cx="777600" cy="2088720"/>
                  <a:chOff x="5367600" y="4486320"/>
                  <a:chExt cx="777600" cy="20887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flipV="1">
                    <a:off x="538596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V="1" rot="21518400">
                    <a:off x="538740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 flipV="1">
                    <a:off x="538632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" name=""/>
                <p:cNvSpPr/>
                <p:nvPr/>
              </p:nvSpPr>
              <p:spPr>
                <a:xfrm rot="4773600">
                  <a:off x="471204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5" name=""/>
          <p:cNvGrpSpPr/>
          <p:nvPr/>
        </p:nvGrpSpPr>
        <p:grpSpPr>
          <a:xfrm>
            <a:off x="730440" y="-1014840"/>
            <a:ext cx="7422840" cy="7949160"/>
            <a:chOff x="730440" y="-1014840"/>
            <a:chExt cx="7422840" cy="7949160"/>
          </a:xfrm>
        </p:grpSpPr>
        <p:sp>
          <p:nvSpPr>
            <p:cNvPr id="366" name=""/>
            <p:cNvSpPr/>
            <p:nvPr/>
          </p:nvSpPr>
          <p:spPr>
            <a:xfrm>
              <a:off x="1066680" y="76320"/>
              <a:ext cx="70866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30440" y="-1014840"/>
              <a:ext cx="6368400" cy="6532560"/>
              <a:chOff x="730440" y="-1014840"/>
              <a:chExt cx="6368400" cy="6532560"/>
            </a:xfrm>
          </p:grpSpPr>
          <p:sp>
            <p:nvSpPr>
              <p:cNvPr id="368" name=""/>
              <p:cNvSpPr/>
              <p:nvPr/>
            </p:nvSpPr>
            <p:spPr>
              <a:xfrm rot="867600">
                <a:off x="1323720" y="-453600"/>
                <a:ext cx="5181480" cy="541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867600">
                <a:off x="1590840" y="4416840"/>
                <a:ext cx="33526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1027440" y="-662040"/>
                <a:ext cx="5773320" cy="5827680"/>
                <a:chOff x="1027440" y="-662040"/>
                <a:chExt cx="5773320" cy="582768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1027440" y="-662040"/>
                  <a:ext cx="5773320" cy="5827680"/>
                  <a:chOff x="1027440" y="-662040"/>
                  <a:chExt cx="5773320" cy="5827680"/>
                </a:xfrm>
              </p:grpSpPr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1027440" y="-662040"/>
                    <a:ext cx="5773320" cy="5827680"/>
                    <a:chOff x="1027440" y="-662040"/>
                    <a:chExt cx="5773320" cy="582768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948600">
                      <a:off x="4657320" y="3178800"/>
                      <a:ext cx="3049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207800">
                      <a:off x="1800000" y="74880"/>
                      <a:ext cx="4191120" cy="43430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5" name=""/>
                    <p:cNvGrpSpPr/>
                    <p:nvPr/>
                  </p:nvGrpSpPr>
                  <p:grpSpPr>
                    <a:xfrm>
                      <a:off x="3794760" y="3982320"/>
                      <a:ext cx="692640" cy="971640"/>
                      <a:chOff x="3794760" y="3982320"/>
                      <a:chExt cx="692640" cy="971640"/>
                    </a:xfrm>
                  </p:grpSpPr>
                  <p:sp>
                    <p:nvSpPr>
                      <p:cNvPr id="376" name=""/>
                      <p:cNvSpPr/>
                      <p:nvPr/>
                    </p:nvSpPr>
                    <p:spPr>
                      <a:xfrm rot="21152400">
                        <a:off x="3917880" y="422964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 flipH="1" rot="15368400">
                        <a:off x="3596400" y="432360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 rot="5430000">
                        <a:off x="3861000" y="432216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9" name=""/>
                    <p:cNvGrpSpPr/>
                    <p:nvPr/>
                  </p:nvGrpSpPr>
                  <p:grpSpPr>
                    <a:xfrm>
                      <a:off x="3010320" y="3844800"/>
                      <a:ext cx="708120" cy="960480"/>
                      <a:chOff x="3010320" y="3844800"/>
                      <a:chExt cx="708120" cy="960480"/>
                    </a:xfrm>
                  </p:grpSpPr>
                  <p:sp>
                    <p:nvSpPr>
                      <p:cNvPr id="380" name=""/>
                      <p:cNvSpPr/>
                      <p:nvPr/>
                    </p:nvSpPr>
                    <p:spPr>
                      <a:xfrm rot="469200">
                        <a:off x="3054240" y="4086720"/>
                        <a:ext cx="527040" cy="68580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6240 h 685800"/>
                          <a:gd name="textAreaBottom" fmla="*/ 529560 h 685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 flipH="1" rot="16284600">
                        <a:off x="2763000" y="4150440"/>
                        <a:ext cx="90936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 rot="6346800">
                        <a:off x="3028320" y="4219560"/>
                        <a:ext cx="90972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2100240" y="3414960"/>
                      <a:ext cx="973440" cy="1062720"/>
                      <a:chOff x="2100240" y="3414960"/>
                      <a:chExt cx="973440" cy="1062720"/>
                    </a:xfrm>
                  </p:grpSpPr>
                  <p:sp>
                    <p:nvSpPr>
                      <p:cNvPr id="384" name=""/>
                      <p:cNvSpPr/>
                      <p:nvPr/>
                    </p:nvSpPr>
                    <p:spPr>
                      <a:xfrm rot="1905000">
                        <a:off x="2241000" y="370476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 flipH="1" rot="17720400">
                        <a:off x="2010240" y="373824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 rot="7783200">
                        <a:off x="2239200" y="391248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3812040" y="2343240"/>
                      <a:ext cx="443160" cy="2553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>
                      <a:off x="2262960" y="2343240"/>
                      <a:ext cx="1549080" cy="2039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rot="867600">
                      <a:off x="3124800" y="1590480"/>
                      <a:ext cx="1447920" cy="1523880"/>
                    </a:xfrm>
                    <a:prstGeom prst="ellipse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rot="867600">
                      <a:off x="3762720" y="1461240"/>
                      <a:ext cx="533520" cy="38052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867600">
                      <a:off x="1551960" y="-147960"/>
                      <a:ext cx="4724280" cy="48002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2" name=""/>
                  <p:cNvSpPr/>
                  <p:nvPr/>
                </p:nvSpPr>
                <p:spPr>
                  <a:xfrm rot="21218400">
                    <a:off x="3998880" y="4883400"/>
                    <a:ext cx="38052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3" name=""/>
                <p:cNvSpPr/>
                <p:nvPr/>
              </p:nvSpPr>
              <p:spPr>
                <a:xfrm flipH="1" rot="867000">
                  <a:off x="4520160" y="4075200"/>
                  <a:ext cx="914040" cy="9140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" name=""/>
            <p:cNvGrpSpPr/>
            <p:nvPr/>
          </p:nvGrpSpPr>
          <p:grpSpPr>
            <a:xfrm>
              <a:off x="1633680" y="4407840"/>
              <a:ext cx="5470920" cy="2233080"/>
              <a:chOff x="1633680" y="4407840"/>
              <a:chExt cx="5470920" cy="2233080"/>
            </a:xfrm>
          </p:grpSpPr>
          <p:sp>
            <p:nvSpPr>
              <p:cNvPr id="395" name=""/>
              <p:cNvSpPr/>
              <p:nvPr/>
            </p:nvSpPr>
            <p:spPr>
              <a:xfrm>
                <a:off x="1652400" y="4899240"/>
                <a:ext cx="5029200" cy="127296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8080" y="4407840"/>
                <a:ext cx="898920" cy="2233080"/>
                <a:chOff x="2548080" y="4407840"/>
                <a:chExt cx="898920" cy="2233080"/>
              </a:xfrm>
            </p:grpSpPr>
            <p:sp>
              <p:nvSpPr>
                <p:cNvPr id="397" name=""/>
                <p:cNvSpPr/>
                <p:nvPr/>
              </p:nvSpPr>
              <p:spPr>
                <a:xfrm flipV="1">
                  <a:off x="25668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2669760" y="4475160"/>
                  <a:ext cx="777240" cy="2089080"/>
                  <a:chOff x="2669760" y="4475160"/>
                  <a:chExt cx="777240" cy="208908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29638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21518400">
                    <a:off x="268920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9638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2548080" y="4487040"/>
                  <a:ext cx="777600" cy="2089080"/>
                  <a:chOff x="2548080" y="4487040"/>
                  <a:chExt cx="777600" cy="208908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flipH="1" flipV="1">
                    <a:off x="25664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V="1" rot="21518400">
                    <a:off x="25678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flipV="1">
                    <a:off x="25668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6" name=""/>
                <p:cNvSpPr/>
                <p:nvPr/>
              </p:nvSpPr>
              <p:spPr>
                <a:xfrm rot="4773600">
                  <a:off x="18921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3462480" y="4407840"/>
                <a:ext cx="898920" cy="2233080"/>
                <a:chOff x="3462480" y="4407840"/>
                <a:chExt cx="898920" cy="2233080"/>
              </a:xfrm>
            </p:grpSpPr>
            <p:sp>
              <p:nvSpPr>
                <p:cNvPr id="408" name=""/>
                <p:cNvSpPr/>
                <p:nvPr/>
              </p:nvSpPr>
              <p:spPr>
                <a:xfrm flipV="1">
                  <a:off x="34812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3584160" y="4475160"/>
                  <a:ext cx="777240" cy="2089080"/>
                  <a:chOff x="3584160" y="4475160"/>
                  <a:chExt cx="777240" cy="20890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38782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rot="21518400">
                    <a:off x="360360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8782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3462480" y="4487040"/>
                  <a:ext cx="777600" cy="2089080"/>
                  <a:chOff x="3462480" y="4487040"/>
                  <a:chExt cx="777600" cy="208908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H="1" flipV="1">
                    <a:off x="34808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V="1" rot="21518400">
                    <a:off x="34822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flipV="1">
                    <a:off x="34812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 rot="4773600">
                  <a:off x="28065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376880" y="4407840"/>
                <a:ext cx="898920" cy="2233080"/>
                <a:chOff x="4376880" y="4407840"/>
                <a:chExt cx="898920" cy="2233080"/>
              </a:xfrm>
            </p:grpSpPr>
            <p:sp>
              <p:nvSpPr>
                <p:cNvPr id="419" name=""/>
                <p:cNvSpPr/>
                <p:nvPr/>
              </p:nvSpPr>
              <p:spPr>
                <a:xfrm flipV="1">
                  <a:off x="43956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4498560" y="4475160"/>
                  <a:ext cx="777240" cy="2089080"/>
                  <a:chOff x="4498560" y="4475160"/>
                  <a:chExt cx="777240" cy="20890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47926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rot="21518400">
                    <a:off x="451800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7926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4376880" y="4487040"/>
                  <a:ext cx="777600" cy="2089080"/>
                  <a:chOff x="4376880" y="4487040"/>
                  <a:chExt cx="777600" cy="208908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H="1" flipV="1">
                    <a:off x="43952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 rot="21518400">
                    <a:off x="43966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flipV="1">
                    <a:off x="43956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 rot="4773600">
                  <a:off x="37209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633680" y="4407840"/>
                <a:ext cx="898920" cy="2233080"/>
                <a:chOff x="1633680" y="4407840"/>
                <a:chExt cx="898920" cy="2233080"/>
              </a:xfrm>
            </p:grpSpPr>
            <p:sp>
              <p:nvSpPr>
                <p:cNvPr id="430" name=""/>
                <p:cNvSpPr/>
                <p:nvPr/>
              </p:nvSpPr>
              <p:spPr>
                <a:xfrm flipV="1">
                  <a:off x="16524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1" name=""/>
                <p:cNvGrpSpPr/>
                <p:nvPr/>
              </p:nvGrpSpPr>
              <p:grpSpPr>
                <a:xfrm>
                  <a:off x="1755360" y="4475160"/>
                  <a:ext cx="777240" cy="2089080"/>
                  <a:chOff x="1755360" y="4475160"/>
                  <a:chExt cx="777240" cy="20890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20494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518400">
                    <a:off x="177480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0494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1633680" y="4487040"/>
                  <a:ext cx="777600" cy="2089080"/>
                  <a:chOff x="1633680" y="4487040"/>
                  <a:chExt cx="777600" cy="208908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flipH="1" flipV="1">
                    <a:off x="16520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V="1" rot="21518400">
                    <a:off x="16534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flipV="1">
                    <a:off x="16524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 rot="4773600">
                  <a:off x="9777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214960" y="4407840"/>
                <a:ext cx="899280" cy="2233080"/>
                <a:chOff x="5214960" y="4407840"/>
                <a:chExt cx="899280" cy="2233080"/>
              </a:xfrm>
            </p:grpSpPr>
            <p:sp>
              <p:nvSpPr>
                <p:cNvPr id="441" name=""/>
                <p:cNvSpPr/>
                <p:nvPr/>
              </p:nvSpPr>
              <p:spPr>
                <a:xfrm flipV="1">
                  <a:off x="523368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2" name=""/>
                <p:cNvGrpSpPr/>
                <p:nvPr/>
              </p:nvGrpSpPr>
              <p:grpSpPr>
                <a:xfrm>
                  <a:off x="5336640" y="4475160"/>
                  <a:ext cx="777600" cy="2089080"/>
                  <a:chOff x="5336640" y="4475160"/>
                  <a:chExt cx="777600" cy="20890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56314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rot="21518400">
                    <a:off x="5356440" y="448344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56314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214960" y="4487040"/>
                  <a:ext cx="777600" cy="2089080"/>
                  <a:chOff x="5214960" y="4487040"/>
                  <a:chExt cx="777600" cy="208908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523332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V="1" rot="21518400">
                    <a:off x="523476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523368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0" name=""/>
                <p:cNvSpPr/>
                <p:nvPr/>
              </p:nvSpPr>
              <p:spPr>
                <a:xfrm rot="4773600">
                  <a:off x="455940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6205680" y="4407840"/>
                <a:ext cx="898920" cy="2233080"/>
                <a:chOff x="6205680" y="4407840"/>
                <a:chExt cx="898920" cy="2233080"/>
              </a:xfrm>
            </p:grpSpPr>
            <p:sp>
              <p:nvSpPr>
                <p:cNvPr id="452" name=""/>
                <p:cNvSpPr/>
                <p:nvPr/>
              </p:nvSpPr>
              <p:spPr>
                <a:xfrm flipV="1">
                  <a:off x="62244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6327360" y="4475160"/>
                  <a:ext cx="777240" cy="2089080"/>
                  <a:chOff x="6327360" y="4475160"/>
                  <a:chExt cx="777240" cy="20890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66214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 rot="21518400">
                    <a:off x="634680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6214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6205680" y="4487040"/>
                  <a:ext cx="777600" cy="2089080"/>
                  <a:chOff x="6205680" y="4487040"/>
                  <a:chExt cx="777600" cy="208908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flipH="1" flipV="1">
                    <a:off x="62240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V="1" rot="21518400">
                    <a:off x="62254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flipV="1">
                    <a:off x="62244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"/>
                <p:cNvSpPr/>
                <p:nvPr/>
              </p:nvSpPr>
              <p:spPr>
                <a:xfrm rot="4773600">
                  <a:off x="55497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5267520" y="4407840"/>
                <a:ext cx="898920" cy="2233080"/>
                <a:chOff x="5267520" y="4407840"/>
                <a:chExt cx="898920" cy="2233080"/>
              </a:xfrm>
            </p:grpSpPr>
            <p:sp>
              <p:nvSpPr>
                <p:cNvPr id="463" name=""/>
                <p:cNvSpPr/>
                <p:nvPr/>
              </p:nvSpPr>
              <p:spPr>
                <a:xfrm flipV="1">
                  <a:off x="528624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5389200" y="4475160"/>
                  <a:ext cx="777240" cy="2089080"/>
                  <a:chOff x="5389200" y="4475160"/>
                  <a:chExt cx="777240" cy="20890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568332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rot="21518400">
                    <a:off x="540864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68332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5267520" y="4487040"/>
                  <a:ext cx="777600" cy="2089080"/>
                  <a:chOff x="5267520" y="4487040"/>
                  <a:chExt cx="777600" cy="208908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flipH="1" flipV="1">
                    <a:off x="528588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V="1" rot="21518400">
                    <a:off x="528732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 flipV="1">
                    <a:off x="528624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 rot="4773600">
                  <a:off x="461160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3" name=""/>
            <p:cNvSpPr/>
            <p:nvPr/>
          </p:nvSpPr>
          <p:spPr>
            <a:xfrm>
              <a:off x="5486400" y="4343400"/>
              <a:ext cx="19047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0" y="-1279440"/>
            <a:ext cx="7415280" cy="8670960"/>
            <a:chOff x="0" y="-1279440"/>
            <a:chExt cx="7415280" cy="8670960"/>
          </a:xfrm>
        </p:grpSpPr>
        <p:sp>
          <p:nvSpPr>
            <p:cNvPr id="475" name=""/>
            <p:cNvSpPr/>
            <p:nvPr/>
          </p:nvSpPr>
          <p:spPr>
            <a:xfrm>
              <a:off x="0" y="533520"/>
              <a:ext cx="70866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452520" y="-1279440"/>
              <a:ext cx="6962760" cy="7075440"/>
              <a:chOff x="452520" y="-1279440"/>
              <a:chExt cx="6962760" cy="7075440"/>
            </a:xfrm>
          </p:grpSpPr>
          <p:sp>
            <p:nvSpPr>
              <p:cNvPr id="477" name=""/>
              <p:cNvSpPr/>
              <p:nvPr/>
            </p:nvSpPr>
            <p:spPr>
              <a:xfrm rot="1475400">
                <a:off x="1342800" y="-446400"/>
                <a:ext cx="5181480" cy="541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475400">
                <a:off x="1178640" y="4271040"/>
                <a:ext cx="33526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786240" y="-906840"/>
                <a:ext cx="6293520" cy="6330600"/>
                <a:chOff x="786240" y="-906840"/>
                <a:chExt cx="6293520" cy="6330600"/>
              </a:xfrm>
            </p:grpSpPr>
            <p:grpSp>
              <p:nvGrpSpPr>
                <p:cNvPr id="480" name=""/>
                <p:cNvGrpSpPr/>
                <p:nvPr/>
              </p:nvGrpSpPr>
              <p:grpSpPr>
                <a:xfrm>
                  <a:off x="786240" y="-906840"/>
                  <a:ext cx="6293520" cy="6330600"/>
                  <a:chOff x="786240" y="-906840"/>
                  <a:chExt cx="6293520" cy="6330600"/>
                </a:xfrm>
              </p:grpSpPr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786240" y="-906840"/>
                    <a:ext cx="6293520" cy="6330600"/>
                    <a:chOff x="786240" y="-906840"/>
                    <a:chExt cx="6293520" cy="633060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 rot="1557000">
                      <a:off x="4492440" y="3327840"/>
                      <a:ext cx="3049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rot="1815600">
                      <a:off x="1820520" y="78480"/>
                      <a:ext cx="4191120" cy="43430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4" name=""/>
                    <p:cNvGrpSpPr/>
                    <p:nvPr/>
                  </p:nvGrpSpPr>
                  <p:grpSpPr>
                    <a:xfrm>
                      <a:off x="3495600" y="4008600"/>
                      <a:ext cx="646560" cy="941400"/>
                      <a:chOff x="3495600" y="4008600"/>
                      <a:chExt cx="646560" cy="941400"/>
                    </a:xfrm>
                  </p:grpSpPr>
                  <p:sp>
                    <p:nvSpPr>
                      <p:cNvPr id="485" name=""/>
                      <p:cNvSpPr/>
                      <p:nvPr/>
                    </p:nvSpPr>
                    <p:spPr>
                      <a:xfrm rot="160200">
                        <a:off x="3524400" y="424728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 flipH="1" rot="15976200">
                        <a:off x="3222000" y="431928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 rot="6037800">
                        <a:off x="3489480" y="436536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8" name=""/>
                    <p:cNvGrpSpPr/>
                    <p:nvPr/>
                  </p:nvGrpSpPr>
                  <p:grpSpPr>
                    <a:xfrm>
                      <a:off x="2607120" y="3679200"/>
                      <a:ext cx="838440" cy="1026000"/>
                      <a:chOff x="2607120" y="3679200"/>
                      <a:chExt cx="838440" cy="1026000"/>
                    </a:xfrm>
                  </p:grpSpPr>
                  <p:sp>
                    <p:nvSpPr>
                      <p:cNvPr id="489" name=""/>
                      <p:cNvSpPr/>
                      <p:nvPr/>
                    </p:nvSpPr>
                    <p:spPr>
                      <a:xfrm rot="1077000">
                        <a:off x="2699640" y="3954960"/>
                        <a:ext cx="527040" cy="68580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6240 h 685800"/>
                          <a:gd name="textAreaBottom" fmla="*/ 529560 h 685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0" name=""/>
                      <p:cNvSpPr/>
                      <p:nvPr/>
                    </p:nvSpPr>
                    <p:spPr>
                      <a:xfrm flipH="1" rot="16892400">
                        <a:off x="2432160" y="4002480"/>
                        <a:ext cx="90936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 rot="6954600">
                        <a:off x="2687400" y="4117680"/>
                        <a:ext cx="90972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2" name=""/>
                    <p:cNvGrpSpPr/>
                    <p:nvPr/>
                  </p:nvGrpSpPr>
                  <p:grpSpPr>
                    <a:xfrm>
                      <a:off x="1804680" y="3158640"/>
                      <a:ext cx="1037160" cy="1051200"/>
                      <a:chOff x="1804680" y="3158640"/>
                      <a:chExt cx="1037160" cy="1051200"/>
                    </a:xfrm>
                  </p:grpSpPr>
                  <p:sp>
                    <p:nvSpPr>
                      <p:cNvPr id="493" name=""/>
                      <p:cNvSpPr/>
                      <p:nvPr/>
                    </p:nvSpPr>
                    <p:spPr>
                      <a:xfrm rot="2512800">
                        <a:off x="1965960" y="343584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 flipH="1" rot="18328200">
                        <a:off x="1762920" y="346464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 rot="8390400">
                        <a:off x="1964880" y="367704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96" name=""/>
                    <p:cNvSpPr/>
                    <p:nvPr/>
                  </p:nvSpPr>
                  <p:spPr>
                    <a:xfrm flipH="1">
                      <a:off x="3803400" y="2330640"/>
                      <a:ext cx="12960" cy="259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H="1">
                      <a:off x="1932840" y="2330640"/>
                      <a:ext cx="1883520" cy="1735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rot="1475400">
                      <a:off x="3126960" y="1584000"/>
                      <a:ext cx="1447920" cy="1523880"/>
                    </a:xfrm>
                    <a:prstGeom prst="ellipse">
                      <a:avLst/>
                    </a:pr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rot="1475400">
                      <a:off x="3885480" y="1497600"/>
                      <a:ext cx="533520" cy="380520"/>
                    </a:xfrm>
                    <a:prstGeom prst="rect">
                      <a:avLst/>
                    </a:pr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1475400">
                      <a:off x="1570680" y="-141480"/>
                      <a:ext cx="4724280" cy="48002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1" name=""/>
                  <p:cNvSpPr/>
                  <p:nvPr/>
                </p:nvSpPr>
                <p:spPr>
                  <a:xfrm rot="226200">
                    <a:off x="3530880" y="4896000"/>
                    <a:ext cx="38052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 flipH="1" rot="1474800">
                  <a:off x="4122000" y="4233600"/>
                  <a:ext cx="914040" cy="9140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1200240" y="4407840"/>
              <a:ext cx="5470920" cy="2233080"/>
              <a:chOff x="1200240" y="4407840"/>
              <a:chExt cx="5470920" cy="2233080"/>
            </a:xfrm>
          </p:grpSpPr>
          <p:sp>
            <p:nvSpPr>
              <p:cNvPr id="504" name=""/>
              <p:cNvSpPr/>
              <p:nvPr/>
            </p:nvSpPr>
            <p:spPr>
              <a:xfrm>
                <a:off x="1218960" y="4899240"/>
                <a:ext cx="5029200" cy="127296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2114640" y="4407840"/>
                <a:ext cx="898920" cy="2233080"/>
                <a:chOff x="2114640" y="4407840"/>
                <a:chExt cx="898920" cy="2233080"/>
              </a:xfrm>
            </p:grpSpPr>
            <p:sp>
              <p:nvSpPr>
                <p:cNvPr id="506" name=""/>
                <p:cNvSpPr/>
                <p:nvPr/>
              </p:nvSpPr>
              <p:spPr>
                <a:xfrm flipV="1">
                  <a:off x="213336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"/>
                <p:cNvGrpSpPr/>
                <p:nvPr/>
              </p:nvGrpSpPr>
              <p:grpSpPr>
                <a:xfrm>
                  <a:off x="2236320" y="4475160"/>
                  <a:ext cx="777240" cy="2089080"/>
                  <a:chOff x="2236320" y="4475160"/>
                  <a:chExt cx="777240" cy="208908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25304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 rot="21518400">
                    <a:off x="225576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5304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2114640" y="4487040"/>
                  <a:ext cx="777600" cy="2089080"/>
                  <a:chOff x="2114640" y="4487040"/>
                  <a:chExt cx="777600" cy="20890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flipV="1">
                    <a:off x="213300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V="1" rot="21518400">
                    <a:off x="213444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flipV="1">
                    <a:off x="213336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5" name=""/>
                <p:cNvSpPr/>
                <p:nvPr/>
              </p:nvSpPr>
              <p:spPr>
                <a:xfrm rot="4773600">
                  <a:off x="14587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3029040" y="4407840"/>
                <a:ext cx="898920" cy="2233080"/>
                <a:chOff x="3029040" y="4407840"/>
                <a:chExt cx="898920" cy="2233080"/>
              </a:xfrm>
            </p:grpSpPr>
            <p:sp>
              <p:nvSpPr>
                <p:cNvPr id="517" name=""/>
                <p:cNvSpPr/>
                <p:nvPr/>
              </p:nvSpPr>
              <p:spPr>
                <a:xfrm flipV="1">
                  <a:off x="304776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3150720" y="4475160"/>
                  <a:ext cx="777240" cy="2089080"/>
                  <a:chOff x="3150720" y="4475160"/>
                  <a:chExt cx="777240" cy="208908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34448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rot="21518400">
                    <a:off x="317016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4448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3029040" y="4487040"/>
                  <a:ext cx="777600" cy="2089080"/>
                  <a:chOff x="3029040" y="4487040"/>
                  <a:chExt cx="777600" cy="208908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H="1" flipV="1">
                    <a:off x="304740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 rot="21518400">
                    <a:off x="304884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flipV="1">
                    <a:off x="304776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 rot="4773600">
                  <a:off x="23731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3943440" y="4407840"/>
                <a:ext cx="898920" cy="2233080"/>
                <a:chOff x="3943440" y="4407840"/>
                <a:chExt cx="898920" cy="2233080"/>
              </a:xfrm>
            </p:grpSpPr>
            <p:sp>
              <p:nvSpPr>
                <p:cNvPr id="528" name=""/>
                <p:cNvSpPr/>
                <p:nvPr/>
              </p:nvSpPr>
              <p:spPr>
                <a:xfrm flipV="1">
                  <a:off x="396216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9" name=""/>
                <p:cNvGrpSpPr/>
                <p:nvPr/>
              </p:nvGrpSpPr>
              <p:grpSpPr>
                <a:xfrm>
                  <a:off x="4065120" y="4475160"/>
                  <a:ext cx="777240" cy="2089080"/>
                  <a:chOff x="4065120" y="4475160"/>
                  <a:chExt cx="777240" cy="208908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>
                    <a:off x="43592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21518400">
                    <a:off x="408456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43592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3943440" y="4487040"/>
                  <a:ext cx="777600" cy="2089080"/>
                  <a:chOff x="3943440" y="4487040"/>
                  <a:chExt cx="777600" cy="20890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flipH="1" flipV="1">
                    <a:off x="396180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 rot="21518400">
                    <a:off x="396324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flipV="1">
                    <a:off x="396216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 rot="4773600">
                  <a:off x="32875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1200240" y="4407840"/>
                <a:ext cx="898920" cy="2233080"/>
                <a:chOff x="1200240" y="4407840"/>
                <a:chExt cx="898920" cy="2233080"/>
              </a:xfrm>
            </p:grpSpPr>
            <p:sp>
              <p:nvSpPr>
                <p:cNvPr id="539" name=""/>
                <p:cNvSpPr/>
                <p:nvPr/>
              </p:nvSpPr>
              <p:spPr>
                <a:xfrm flipV="1">
                  <a:off x="121896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0" name=""/>
                <p:cNvGrpSpPr/>
                <p:nvPr/>
              </p:nvGrpSpPr>
              <p:grpSpPr>
                <a:xfrm>
                  <a:off x="1321920" y="4475160"/>
                  <a:ext cx="777240" cy="2089080"/>
                  <a:chOff x="1321920" y="4475160"/>
                  <a:chExt cx="777240" cy="208908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16160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 rot="21518400">
                    <a:off x="134136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6160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1200240" y="4487040"/>
                  <a:ext cx="777600" cy="2089080"/>
                  <a:chOff x="1200240" y="4487040"/>
                  <a:chExt cx="777600" cy="208908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H="1" flipV="1">
                    <a:off x="121860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 rot="21518400">
                    <a:off x="122004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flipV="1">
                    <a:off x="121896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"/>
                <p:cNvSpPr/>
                <p:nvPr/>
              </p:nvSpPr>
              <p:spPr>
                <a:xfrm rot="4773600">
                  <a:off x="5443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4781520" y="4407840"/>
                <a:ext cx="899280" cy="2233080"/>
                <a:chOff x="4781520" y="4407840"/>
                <a:chExt cx="899280" cy="2233080"/>
              </a:xfrm>
            </p:grpSpPr>
            <p:sp>
              <p:nvSpPr>
                <p:cNvPr id="550" name=""/>
                <p:cNvSpPr/>
                <p:nvPr/>
              </p:nvSpPr>
              <p:spPr>
                <a:xfrm flipV="1">
                  <a:off x="480024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1" name=""/>
                <p:cNvGrpSpPr/>
                <p:nvPr/>
              </p:nvGrpSpPr>
              <p:grpSpPr>
                <a:xfrm>
                  <a:off x="4903200" y="4475160"/>
                  <a:ext cx="777600" cy="2089080"/>
                  <a:chOff x="4903200" y="4475160"/>
                  <a:chExt cx="777600" cy="208908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51980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rot="21518400">
                    <a:off x="4923000" y="448344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51980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4781520" y="4487040"/>
                  <a:ext cx="777600" cy="2089080"/>
                  <a:chOff x="4781520" y="4487040"/>
                  <a:chExt cx="777600" cy="208908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flipV="1">
                    <a:off x="479988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V="1" rot="21518400">
                    <a:off x="480132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 flipV="1">
                    <a:off x="480024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9" name=""/>
                <p:cNvSpPr/>
                <p:nvPr/>
              </p:nvSpPr>
              <p:spPr>
                <a:xfrm rot="4773600">
                  <a:off x="41259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5772240" y="4407840"/>
                <a:ext cx="898920" cy="2233080"/>
                <a:chOff x="5772240" y="4407840"/>
                <a:chExt cx="898920" cy="2233080"/>
              </a:xfrm>
            </p:grpSpPr>
            <p:sp>
              <p:nvSpPr>
                <p:cNvPr id="561" name=""/>
                <p:cNvSpPr/>
                <p:nvPr/>
              </p:nvSpPr>
              <p:spPr>
                <a:xfrm flipV="1">
                  <a:off x="579096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2" name=""/>
                <p:cNvGrpSpPr/>
                <p:nvPr/>
              </p:nvGrpSpPr>
              <p:grpSpPr>
                <a:xfrm>
                  <a:off x="5893920" y="4475160"/>
                  <a:ext cx="777240" cy="2089080"/>
                  <a:chOff x="5893920" y="4475160"/>
                  <a:chExt cx="777240" cy="208908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>
                    <a:off x="61880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 rot="21518400">
                    <a:off x="591336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1880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5772240" y="4487040"/>
                  <a:ext cx="777600" cy="2089080"/>
                  <a:chOff x="5772240" y="4487040"/>
                  <a:chExt cx="777600" cy="208908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flipV="1">
                    <a:off x="579060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V="1" rot="21518400">
                    <a:off x="579204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flipV="1">
                    <a:off x="579096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0" name=""/>
                <p:cNvSpPr/>
                <p:nvPr/>
              </p:nvSpPr>
              <p:spPr>
                <a:xfrm rot="4773600">
                  <a:off x="51163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834080" y="4407840"/>
                <a:ext cx="898920" cy="2233080"/>
                <a:chOff x="4834080" y="4407840"/>
                <a:chExt cx="898920" cy="2233080"/>
              </a:xfrm>
            </p:grpSpPr>
            <p:sp>
              <p:nvSpPr>
                <p:cNvPr id="572" name=""/>
                <p:cNvSpPr/>
                <p:nvPr/>
              </p:nvSpPr>
              <p:spPr>
                <a:xfrm flipV="1">
                  <a:off x="48528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3" name=""/>
                <p:cNvGrpSpPr/>
                <p:nvPr/>
              </p:nvGrpSpPr>
              <p:grpSpPr>
                <a:xfrm>
                  <a:off x="4955760" y="4475160"/>
                  <a:ext cx="777240" cy="2089080"/>
                  <a:chOff x="4955760" y="4475160"/>
                  <a:chExt cx="777240" cy="208908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52498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rot="21518400">
                    <a:off x="497520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52498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4834080" y="4487040"/>
                  <a:ext cx="777600" cy="2089080"/>
                  <a:chOff x="4834080" y="4487040"/>
                  <a:chExt cx="777600" cy="208908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 flipH="1" flipV="1">
                    <a:off x="48524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V="1" rot="21518400">
                    <a:off x="48538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flipV="1">
                    <a:off x="48528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1" name=""/>
                <p:cNvSpPr/>
                <p:nvPr/>
              </p:nvSpPr>
              <p:spPr>
                <a:xfrm rot="4773600">
                  <a:off x="41781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82" name=""/>
          <p:cNvSpPr/>
          <p:nvPr/>
        </p:nvSpPr>
        <p:spPr>
          <a:xfrm>
            <a:off x="3352680" y="35812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990720" y="-762120"/>
            <a:ext cx="5867280" cy="5943600"/>
            <a:chOff x="990720" y="-762120"/>
            <a:chExt cx="5867280" cy="5943600"/>
          </a:xfrm>
        </p:grpSpPr>
        <p:sp>
          <p:nvSpPr>
            <p:cNvPr id="584" name=""/>
            <p:cNvSpPr/>
            <p:nvPr/>
          </p:nvSpPr>
          <p:spPr>
            <a:xfrm>
              <a:off x="990720" y="236196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9880" y="-762120"/>
              <a:ext cx="0" cy="5943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742840" y="2362320"/>
            <a:ext cx="1067040" cy="2590560"/>
            <a:chOff x="2742840" y="2362320"/>
            <a:chExt cx="1067040" cy="2590560"/>
          </a:xfrm>
        </p:grpSpPr>
        <p:sp>
          <p:nvSpPr>
            <p:cNvPr id="587" name=""/>
            <p:cNvSpPr/>
            <p:nvPr/>
          </p:nvSpPr>
          <p:spPr>
            <a:xfrm>
              <a:off x="3809880" y="23623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742840" y="2362320"/>
              <a:ext cx="1066680" cy="25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5257800" y="4343400"/>
            <a:ext cx="236232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95280" y="-609480"/>
            <a:ext cx="5486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267080"/>
            <a:ext cx="16002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048120" y="4648320"/>
            <a:ext cx="914400" cy="612000"/>
            <a:chOff x="3048120" y="4648320"/>
            <a:chExt cx="914400" cy="612000"/>
          </a:xfrm>
        </p:grpSpPr>
        <p:sp>
          <p:nvSpPr>
            <p:cNvPr id="593" name=""/>
            <p:cNvSpPr/>
            <p:nvPr/>
          </p:nvSpPr>
          <p:spPr>
            <a:xfrm>
              <a:off x="3962520" y="46483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48120" y="46483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8120" y="5029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00760" y="4800600"/>
              <a:ext cx="30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1905120" y="54864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676520" y="4648320"/>
            <a:ext cx="3733200" cy="1752480"/>
            <a:chOff x="1676520" y="4648320"/>
            <a:chExt cx="3733200" cy="1752480"/>
          </a:xfrm>
        </p:grpSpPr>
        <p:sp>
          <p:nvSpPr>
            <p:cNvPr id="599" name=""/>
            <p:cNvSpPr/>
            <p:nvPr/>
          </p:nvSpPr>
          <p:spPr>
            <a:xfrm>
              <a:off x="1676520" y="4648320"/>
              <a:ext cx="373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76520" y="6400800"/>
              <a:ext cx="373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874520" y="1069920"/>
            <a:ext cx="4147200" cy="2360160"/>
            <a:chOff x="1874520" y="1069920"/>
            <a:chExt cx="4147200" cy="2360160"/>
          </a:xfrm>
        </p:grpSpPr>
        <p:sp>
          <p:nvSpPr>
            <p:cNvPr id="602" name=""/>
            <p:cNvSpPr/>
            <p:nvPr/>
          </p:nvSpPr>
          <p:spPr>
            <a:xfrm flipV="1">
              <a:off x="1874520" y="1156320"/>
              <a:ext cx="4147200" cy="227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0160600">
              <a:off x="4735080" y="1140480"/>
              <a:ext cx="45720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114240" y="5029200"/>
            <a:ext cx="1670040" cy="579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651360" y="3352680"/>
            <a:ext cx="1305360" cy="510120"/>
          </a:xfrm>
          <a:prstGeom prst="rect">
            <a:avLst/>
          </a:prstGeom>
          <a:solidFill>
            <a:srgbClr val="ffcc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/2 =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78320" y="4343400"/>
            <a:ext cx="3824640" cy="579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(2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2=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943600" y="3657600"/>
            <a:ext cx="976320" cy="976320"/>
          </a:xfrm>
          <a:custGeom>
            <a:avLst/>
            <a:gdLst>
              <a:gd name="textAreaLeft" fmla="*/ 360 w 976320"/>
              <a:gd name="textAreaRight" fmla="*/ 97704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2846" y="11099"/>
                </a:moveTo>
                <a:arcTo wR="-7960" hR="-7960" stAng="10670847" swAng="-6091765"/>
                <a:lnTo>
                  <a:pt x="8245" y="306"/>
                </a:lnTo>
                <a:arcTo wR="10800" hR="10800" stAng="-6220918" swAng="6091765"/>
                <a:lnTo>
                  <a:pt x="24290" y="10293"/>
                </a:lnTo>
                <a:lnTo>
                  <a:pt x="20328" y="14565"/>
                </a:lnTo>
                <a:lnTo>
                  <a:pt x="16056" y="10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6177000">
            <a:off x="7695720" y="443340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2846" y="11099"/>
                </a:moveTo>
                <a:arcTo wR="-7960" hR="-7960" stAng="10670847" swAng="-6091765"/>
                <a:lnTo>
                  <a:pt x="8245" y="306"/>
                </a:lnTo>
                <a:arcTo wR="10800" hR="10800" stAng="-6220918" swAng="6091765"/>
                <a:lnTo>
                  <a:pt x="24290" y="10293"/>
                </a:lnTo>
                <a:lnTo>
                  <a:pt x="20328" y="14565"/>
                </a:lnTo>
                <a:lnTo>
                  <a:pt x="16056" y="10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rot="15423000">
            <a:off x="5561640" y="5181120"/>
            <a:ext cx="976320" cy="976320"/>
          </a:xfrm>
          <a:custGeom>
            <a:avLst/>
            <a:gdLst>
              <a:gd name="textAreaLeft" fmla="*/ 360 w 976320"/>
              <a:gd name="textAreaRight" fmla="*/ 97704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3213" y="13141"/>
                </a:moveTo>
                <a:arcTo wR="-7940" hR="-7940" stAng="9771258" swAng="-7954817"/>
                <a:lnTo>
                  <a:pt x="1473" y="5355"/>
                </a:lnTo>
                <a:arcTo wR="10800" hR="10800" stAng="-8983559" swAng="7954817"/>
                <a:lnTo>
                  <a:pt x="23700" y="6820"/>
                </a:lnTo>
                <a:lnTo>
                  <a:pt x="20971" y="11984"/>
                </a:lnTo>
                <a:lnTo>
                  <a:pt x="15807" y="925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5943600"/>
            <a:ext cx="2438280" cy="579600"/>
          </a:xfrm>
          <a:prstGeom prst="rect">
            <a:avLst/>
          </a:prstGeom>
          <a:solidFill>
            <a:srgbClr val="ffcc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р/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=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m =d</a:t>
            </a:r>
            <a:r>
              <a:rPr b="1" lang="ru-RU" sz="28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62920" y="5943600"/>
            <a:ext cx="5364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19:23:10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1-23T20:24:30Z</dcterms:modified>
  <cp:revision>27</cp:revision>
  <dc:subject/>
  <dc:title>Заголовок слайда отсутствует</dc:title>
</cp:coreProperties>
</file>