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802-752C-4FF6-8BAC-617BF83A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C59-6D99-4649-AE1D-37993DEA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3EF-9B7A-4E88-BE8F-D1A30223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4EF1-971D-44F2-A5CB-CCA89900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5DA-AEE2-410C-AF88-9265BA1D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A8C-75FD-4D73-929B-96A4D2BE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A73-AD8B-4115-BDCE-26B04C47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4F8-F95C-435D-8CDD-5F8D39F9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ECA-BD35-4D2A-BC1B-4A0D0AB4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31E-57A8-49B5-B0A2-5210CECF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6324-9C21-411E-88B4-0B131535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864-666A-4B40-B83E-2B140EA6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B9A9-A48C-43D9-9D66-35E48F67A7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192560" y="1158840"/>
            <a:ext cx="1494000" cy="2681280"/>
            <a:chOff x="4192560" y="1158840"/>
            <a:chExt cx="1494000" cy="2681280"/>
          </a:xfrm>
        </p:grpSpPr>
        <p:sp>
          <p:nvSpPr>
            <p:cNvPr id="42" name=""/>
            <p:cNvSpPr/>
            <p:nvPr/>
          </p:nvSpPr>
          <p:spPr>
            <a:xfrm>
              <a:off x="4268880" y="1158840"/>
              <a:ext cx="1218960" cy="228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0d0d0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4267080" y="2001600"/>
              <a:ext cx="12193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4267080" y="1310760"/>
              <a:ext cx="12193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5486400" y="3367080"/>
              <a:ext cx="144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68880" y="336708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92560" y="2279520"/>
              <a:ext cx="149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4268880" y="3355920"/>
              <a:ext cx="1218960" cy="484200"/>
              <a:chOff x="4268880" y="3355920"/>
              <a:chExt cx="1218960" cy="484200"/>
            </a:xfrm>
          </p:grpSpPr>
          <p:sp>
            <p:nvSpPr>
              <p:cNvPr id="49" name=""/>
              <p:cNvSpPr/>
              <p:nvPr/>
            </p:nvSpPr>
            <p:spPr>
              <a:xfrm>
                <a:off x="4268880" y="367344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268800">
                <a:off x="4618800" y="3368160"/>
                <a:ext cx="3330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3501000" y="1523880"/>
            <a:ext cx="765720" cy="1604880"/>
            <a:chOff x="3501000" y="1523880"/>
            <a:chExt cx="765720" cy="1604880"/>
          </a:xfrm>
        </p:grpSpPr>
        <p:sp>
          <p:nvSpPr>
            <p:cNvPr id="52" name=""/>
            <p:cNvSpPr/>
            <p:nvPr/>
          </p:nvSpPr>
          <p:spPr>
            <a:xfrm flipH="1">
              <a:off x="3581280" y="19857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581280" y="26715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33560" y="1523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33560" y="26715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123200">
              <a:off x="3569400" y="2066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 rot="21512400">
            <a:off x="1811160" y="380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1361800">
            <a:off x="4628520" y="380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81480" y="3825720"/>
            <a:ext cx="3886200" cy="1977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btg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btg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b sin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2743200"/>
            <a:ext cx="1844640" cy="579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3960" y="838080"/>
            <a:ext cx="1616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6480" y="3349800"/>
            <a:ext cx="161604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53960" y="1523880"/>
            <a:ext cx="749520" cy="1524240"/>
            <a:chOff x="453960" y="1523880"/>
            <a:chExt cx="749520" cy="1524240"/>
          </a:xfrm>
        </p:grpSpPr>
        <p:sp>
          <p:nvSpPr>
            <p:cNvPr id="64" name=""/>
            <p:cNvSpPr/>
            <p:nvPr/>
          </p:nvSpPr>
          <p:spPr>
            <a:xfrm flipH="1">
              <a:off x="685800" y="19810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85800" y="2589120"/>
              <a:ext cx="517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14400" y="1523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4400" y="2590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146600">
              <a:off x="496440" y="201204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127160" y="1143000"/>
            <a:ext cx="1403280" cy="2286000"/>
            <a:chOff x="1127160" y="1143000"/>
            <a:chExt cx="1403280" cy="2286000"/>
          </a:xfrm>
        </p:grpSpPr>
        <p:sp>
          <p:nvSpPr>
            <p:cNvPr id="70" name=""/>
            <p:cNvSpPr/>
            <p:nvPr/>
          </p:nvSpPr>
          <p:spPr>
            <a:xfrm>
              <a:off x="1203480" y="1143000"/>
              <a:ext cx="1218960" cy="228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0d0d0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03480" y="2589120"/>
              <a:ext cx="12189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03480" y="198108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27160" y="228600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863640" y="1965240"/>
            <a:ext cx="1877760" cy="672120"/>
            <a:chOff x="863640" y="1965240"/>
            <a:chExt cx="1877760" cy="672120"/>
          </a:xfrm>
        </p:grpSpPr>
        <p:sp>
          <p:nvSpPr>
            <p:cNvPr id="75" name=""/>
            <p:cNvSpPr/>
            <p:nvPr/>
          </p:nvSpPr>
          <p:spPr>
            <a:xfrm>
              <a:off x="863640" y="1965240"/>
              <a:ext cx="33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03480" y="2286000"/>
              <a:ext cx="1218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05160" y="2238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203480" y="1747800"/>
            <a:ext cx="1888200" cy="1057320"/>
            <a:chOff x="1203480" y="1747800"/>
            <a:chExt cx="1888200" cy="1057320"/>
          </a:xfrm>
        </p:grpSpPr>
        <p:sp>
          <p:nvSpPr>
            <p:cNvPr id="79" name=""/>
            <p:cNvSpPr/>
            <p:nvPr/>
          </p:nvSpPr>
          <p:spPr>
            <a:xfrm>
              <a:off x="1203480" y="1752480"/>
              <a:ext cx="1218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03480" y="2805120"/>
              <a:ext cx="1218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22440" y="1747800"/>
              <a:ext cx="6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22440" y="2805120"/>
              <a:ext cx="6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1752480"/>
              <a:ext cx="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2518920" y="2049840"/>
              <a:ext cx="704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946680" y="266688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4680" y="1098720"/>
            <a:ext cx="4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53760" y="809640"/>
            <a:ext cx="3129840" cy="3226320"/>
            <a:chOff x="4253760" y="809640"/>
            <a:chExt cx="3129840" cy="3226320"/>
          </a:xfrm>
        </p:grpSpPr>
        <p:sp>
          <p:nvSpPr>
            <p:cNvPr id="88" name=""/>
            <p:cNvSpPr/>
            <p:nvPr/>
          </p:nvSpPr>
          <p:spPr>
            <a:xfrm rot="1125600">
              <a:off x="4647240" y="1041840"/>
              <a:ext cx="1901880" cy="276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29" y="1773"/>
                  </a:moveTo>
                  <a:arcTo wR="10800" hR="10800" stAng="-3402310" swAng="14610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29" y="1773"/>
                  </a:moveTo>
                  <a:arcTo wR="10800" hR="10800" stAng="-3402310" swAng="1461017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48760" y="138600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708440" y="1385640"/>
              <a:ext cx="185760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87840" y="1965240"/>
              <a:ext cx="189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28600" y="4394160"/>
            <a:ext cx="373536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88 - 3,2( 1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±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256360"/>
            <a:ext cx="477504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88 - 3,2( 1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v1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±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838080"/>
            <a:ext cx="1616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7160" y="3351240"/>
            <a:ext cx="1616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184400" y="3264120"/>
            <a:ext cx="1218960" cy="484200"/>
            <a:chOff x="1184400" y="3264120"/>
            <a:chExt cx="1218960" cy="484200"/>
          </a:xfrm>
        </p:grpSpPr>
        <p:sp>
          <p:nvSpPr>
            <p:cNvPr id="97" name=""/>
            <p:cNvSpPr/>
            <p:nvPr/>
          </p:nvSpPr>
          <p:spPr>
            <a:xfrm>
              <a:off x="2403360" y="334980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84400" y="3349800"/>
              <a:ext cx="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184400" y="3264120"/>
              <a:ext cx="1218960" cy="484200"/>
              <a:chOff x="1184400" y="3264120"/>
              <a:chExt cx="1218960" cy="484200"/>
            </a:xfrm>
          </p:grpSpPr>
          <p:sp>
            <p:nvSpPr>
              <p:cNvPr id="100" name=""/>
              <p:cNvSpPr/>
              <p:nvPr/>
            </p:nvSpPr>
            <p:spPr>
              <a:xfrm>
                <a:off x="1184400" y="358164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68800">
                <a:off x="1534320" y="3276360"/>
                <a:ext cx="3330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5507640" y="743760"/>
            <a:ext cx="911160" cy="1346400"/>
            <a:chOff x="5507640" y="743760"/>
            <a:chExt cx="911160" cy="1346400"/>
          </a:xfrm>
        </p:grpSpPr>
        <p:sp>
          <p:nvSpPr>
            <p:cNvPr id="103" name=""/>
            <p:cNvSpPr/>
            <p:nvPr/>
          </p:nvSpPr>
          <p:spPr>
            <a:xfrm flipV="1">
              <a:off x="5792400" y="1579320"/>
              <a:ext cx="45720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507640" y="1040760"/>
              <a:ext cx="45648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6047280" y="1686600"/>
              <a:ext cx="21384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547960" y="743760"/>
              <a:ext cx="213840" cy="40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3672000">
              <a:off x="5875200" y="108432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048120" y="1828800"/>
            <a:ext cx="2438280" cy="914400"/>
            <a:chOff x="3048120" y="1828800"/>
            <a:chExt cx="2438280" cy="914400"/>
          </a:xfrm>
        </p:grpSpPr>
        <p:sp>
          <p:nvSpPr>
            <p:cNvPr id="109" name=""/>
            <p:cNvSpPr/>
            <p:nvPr/>
          </p:nvSpPr>
          <p:spPr>
            <a:xfrm>
              <a:off x="4267080" y="1828800"/>
              <a:ext cx="1219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080" y="2743200"/>
              <a:ext cx="1219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274560" y="1828800"/>
              <a:ext cx="101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57280" y="2743200"/>
              <a:ext cx="101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44840" y="1828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2934360" y="2041920"/>
              <a:ext cx="66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733920" y="2606400"/>
            <a:ext cx="1752480" cy="886680"/>
            <a:chOff x="3733920" y="2606400"/>
            <a:chExt cx="1752480" cy="886680"/>
          </a:xfrm>
        </p:grpSpPr>
        <p:sp>
          <p:nvSpPr>
            <p:cNvPr id="116" name=""/>
            <p:cNvSpPr/>
            <p:nvPr/>
          </p:nvSpPr>
          <p:spPr>
            <a:xfrm flipV="1">
              <a:off x="4286160" y="2606400"/>
              <a:ext cx="1200240" cy="66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33920" y="30942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965760" y="1981080"/>
            <a:ext cx="1860120" cy="643320"/>
            <a:chOff x="3965760" y="1981080"/>
            <a:chExt cx="1860120" cy="643320"/>
          </a:xfrm>
        </p:grpSpPr>
        <p:sp>
          <p:nvSpPr>
            <p:cNvPr id="119" name=""/>
            <p:cNvSpPr/>
            <p:nvPr/>
          </p:nvSpPr>
          <p:spPr>
            <a:xfrm>
              <a:off x="4267080" y="2279520"/>
              <a:ext cx="12193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5760" y="19810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9640" y="2225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29600" y="1774800"/>
            <a:ext cx="399600" cy="520560"/>
            <a:chOff x="4629600" y="1774800"/>
            <a:chExt cx="399600" cy="520560"/>
          </a:xfrm>
        </p:grpSpPr>
        <p:sp>
          <p:nvSpPr>
            <p:cNvPr id="123" name=""/>
            <p:cNvSpPr/>
            <p:nvPr/>
          </p:nvSpPr>
          <p:spPr>
            <a:xfrm>
              <a:off x="4952880" y="22096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29600" y="1774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68880" y="2293920"/>
            <a:ext cx="2297160" cy="1282680"/>
            <a:chOff x="4268880" y="2293920"/>
            <a:chExt cx="2297160" cy="1282680"/>
          </a:xfrm>
        </p:grpSpPr>
        <p:sp>
          <p:nvSpPr>
            <p:cNvPr id="126" name=""/>
            <p:cNvSpPr/>
            <p:nvPr/>
          </p:nvSpPr>
          <p:spPr>
            <a:xfrm>
              <a:off x="6153120" y="32767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79200">
              <a:off x="5626080" y="2645640"/>
              <a:ext cx="9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tg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86160" y="2666880"/>
              <a:ext cx="227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68880" y="3276720"/>
              <a:ext cx="227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3120" y="229392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926400" y="1882800"/>
            <a:ext cx="124128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38720" y="6056280"/>
            <a:ext cx="2028960" cy="579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486360" y="914400"/>
            <a:ext cx="3120480" cy="2743200"/>
            <a:chOff x="486360" y="914400"/>
            <a:chExt cx="3120480" cy="2743200"/>
          </a:xfrm>
        </p:grpSpPr>
        <p:grpSp>
          <p:nvGrpSpPr>
            <p:cNvPr id="134" name=""/>
            <p:cNvGrpSpPr/>
            <p:nvPr/>
          </p:nvGrpSpPr>
          <p:grpSpPr>
            <a:xfrm>
              <a:off x="486360" y="914400"/>
              <a:ext cx="3120480" cy="2743200"/>
              <a:chOff x="486360" y="914400"/>
              <a:chExt cx="3120480" cy="27432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486360" y="914400"/>
                <a:ext cx="3120480" cy="2743200"/>
                <a:chOff x="486360" y="914400"/>
                <a:chExt cx="3120480" cy="2743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405080" y="914400"/>
                  <a:ext cx="1533240" cy="274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0d0d0"/>
                    </a:gs>
                    <a:gs pos="100000">
                      <a:srgbClr val="ffffff"/>
                    </a:gs>
                  </a:gsLst>
                  <a:lin ang="54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V="1">
                  <a:off x="1308240" y="2285640"/>
                  <a:ext cx="22986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1405080" y="2209680"/>
                  <a:ext cx="1533240" cy="851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1405080" y="1904760"/>
                  <a:ext cx="1533240" cy="849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486360" y="2297160"/>
                  <a:ext cx="918360" cy="1218960"/>
                  <a:chOff x="486360" y="2297160"/>
                  <a:chExt cx="918360" cy="121896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H="1">
                    <a:off x="795240" y="275436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>
                    <a:off x="795240" y="305892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947880" y="229716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947880" y="30589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6123200">
                    <a:off x="554760" y="2694960"/>
                    <a:ext cx="3816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r>
                      <a:rPr b="1" i="1" lang="ru-RU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1973160" y="1856880"/>
                  <a:ext cx="625320" cy="1177920"/>
                  <a:chOff x="1973160" y="1856880"/>
                  <a:chExt cx="625320" cy="11779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2321280" y="2521800"/>
                    <a:ext cx="277200" cy="509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1973160" y="1856880"/>
                    <a:ext cx="586080" cy="1177920"/>
                    <a:chOff x="1973160" y="1856880"/>
                    <a:chExt cx="586080" cy="117792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1973160" y="1856880"/>
                      <a:ext cx="231480" cy="455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 rot="21547200">
                      <a:off x="2122920" y="2521080"/>
                      <a:ext cx="43200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1" name=""/>
                <p:cNvSpPr/>
                <p:nvPr/>
              </p:nvSpPr>
              <p:spPr>
                <a:xfrm rot="380400">
                  <a:off x="2212920" y="1539360"/>
                  <a:ext cx="1218600" cy="136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284" y="2163"/>
                      </a:moveTo>
                      <a:arcTo wR="10800" hR="10800" stAng="-3186025" swAng="31860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284" y="2163"/>
                      </a:moveTo>
                      <a:arcTo wR="10800" hR="10800" stAng="-3186025" swAng="3186025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1763640" y="1592280"/>
                  <a:ext cx="165276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350360" y="1188000"/>
                <a:ext cx="1538280" cy="2200320"/>
                <a:chOff x="1350360" y="1188000"/>
                <a:chExt cx="1538280" cy="2200320"/>
              </a:xfrm>
            </p:grpSpPr>
            <p:sp>
              <p:nvSpPr>
                <p:cNvPr id="154" name=""/>
                <p:cNvSpPr/>
                <p:nvPr/>
              </p:nvSpPr>
              <p:spPr>
                <a:xfrm rot="20219400">
                  <a:off x="1510200" y="1689840"/>
                  <a:ext cx="1218240" cy="1066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21319800">
                  <a:off x="2021400" y="1211040"/>
                  <a:ext cx="586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705320" y="1335960"/>
                  <a:ext cx="1085040" cy="205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" name=""/>
            <p:cNvSpPr/>
            <p:nvPr/>
          </p:nvSpPr>
          <p:spPr>
            <a:xfrm>
              <a:off x="3033720" y="1778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rot="268800">
            <a:off x="2277360" y="380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0" y="685800"/>
            <a:ext cx="2743200" cy="3352680"/>
            <a:chOff x="4572000" y="685800"/>
            <a:chExt cx="2743200" cy="3352680"/>
          </a:xfrm>
        </p:grpSpPr>
        <p:sp>
          <p:nvSpPr>
            <p:cNvPr id="160" name=""/>
            <p:cNvSpPr/>
            <p:nvPr/>
          </p:nvSpPr>
          <p:spPr>
            <a:xfrm>
              <a:off x="4800600" y="990720"/>
              <a:ext cx="2286000" cy="25905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0" y="22860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43600" y="68580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V="1" rot="16200000">
            <a:off x="5181120" y="190476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2680 h 1143000"/>
              <a:gd name="textAreaBottom" fmla="*/ 11203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4"/>
                  <a:pt x="10800" y="1387"/>
                </a:cubicBezTo>
                <a:lnTo>
                  <a:pt x="10800" y="10350"/>
                </a:lnTo>
                <a:cubicBezTo>
                  <a:pt x="10800" y="11044"/>
                  <a:pt x="5400" y="11737"/>
                  <a:pt x="0" y="11737"/>
                </a:cubicBezTo>
                <a:cubicBezTo>
                  <a:pt x="5400" y="11737"/>
                  <a:pt x="10800" y="12431"/>
                  <a:pt x="10800" y="13124"/>
                </a:cubicBezTo>
                <a:lnTo>
                  <a:pt x="10800" y="20213"/>
                </a:lnTo>
                <a:cubicBezTo>
                  <a:pt x="10800" y="2090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 rot="10800000">
            <a:off x="6019920" y="990720"/>
            <a:ext cx="380880" cy="1295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920 h 1295280"/>
              <a:gd name="textAreaBottom" fmla="*/ 126936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4"/>
                  <a:pt x="10800" y="1387"/>
                </a:cubicBezTo>
                <a:lnTo>
                  <a:pt x="10800" y="10350"/>
                </a:lnTo>
                <a:cubicBezTo>
                  <a:pt x="10800" y="11044"/>
                  <a:pt x="5400" y="11737"/>
                  <a:pt x="0" y="11737"/>
                </a:cubicBezTo>
                <a:cubicBezTo>
                  <a:pt x="5400" y="11737"/>
                  <a:pt x="10800" y="12431"/>
                  <a:pt x="10800" y="13124"/>
                </a:cubicBezTo>
                <a:lnTo>
                  <a:pt x="10800" y="20213"/>
                </a:lnTo>
                <a:cubicBezTo>
                  <a:pt x="10800" y="2090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21569400">
            <a:off x="5028840" y="25142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=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268800">
            <a:off x="6401520" y="1447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1459600">
            <a:off x="5335560" y="380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83880" y="465840"/>
            <a:ext cx="2450520" cy="3376800"/>
            <a:chOff x="983880" y="465840"/>
            <a:chExt cx="2450520" cy="3376800"/>
          </a:xfrm>
        </p:grpSpPr>
        <p:sp>
          <p:nvSpPr>
            <p:cNvPr id="169" name=""/>
            <p:cNvSpPr/>
            <p:nvPr/>
          </p:nvSpPr>
          <p:spPr>
            <a:xfrm>
              <a:off x="1468440" y="780480"/>
              <a:ext cx="193320" cy="461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66960" y="3380760"/>
              <a:ext cx="193680" cy="461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1299400">
              <a:off x="1002960" y="482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1299400">
              <a:off x="3014640" y="334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261040" y="3581280"/>
            <a:ext cx="985320" cy="856080"/>
            <a:chOff x="5261040" y="3581280"/>
            <a:chExt cx="985320" cy="856080"/>
          </a:xfrm>
        </p:grpSpPr>
        <p:sp>
          <p:nvSpPr>
            <p:cNvPr id="174" name=""/>
            <p:cNvSpPr/>
            <p:nvPr/>
          </p:nvSpPr>
          <p:spPr>
            <a:xfrm flipH="1">
              <a:off x="5562360" y="35812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61040" y="403848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Эллип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344120" y="914400"/>
            <a:ext cx="3123360" cy="3142080"/>
            <a:chOff x="4344120" y="914400"/>
            <a:chExt cx="3123360" cy="3142080"/>
          </a:xfrm>
        </p:grpSpPr>
        <p:sp>
          <p:nvSpPr>
            <p:cNvPr id="177" name=""/>
            <p:cNvSpPr/>
            <p:nvPr/>
          </p:nvSpPr>
          <p:spPr>
            <a:xfrm>
              <a:off x="4800600" y="914400"/>
              <a:ext cx="2666880" cy="274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5160" y="1371600"/>
              <a:ext cx="20574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600400">
              <a:off x="5702760" y="1439640"/>
              <a:ext cx="45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ru-RU" sz="2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44120" y="3657600"/>
              <a:ext cx="15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кружн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105160" y="342864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308240" y="4292640"/>
            <a:ext cx="1844640" cy="579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648320"/>
            <a:ext cx="2057400" cy="56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345560" y="2271600"/>
            <a:ext cx="475560" cy="534960"/>
            <a:chOff x="4345560" y="2271600"/>
            <a:chExt cx="475560" cy="534960"/>
          </a:xfrm>
        </p:grpSpPr>
        <p:sp>
          <p:nvSpPr>
            <p:cNvPr id="185" name=""/>
            <p:cNvSpPr/>
            <p:nvPr/>
          </p:nvSpPr>
          <p:spPr>
            <a:xfrm>
              <a:off x="4345560" y="22860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45160" y="22716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713600" y="1839960"/>
            <a:ext cx="538560" cy="520560"/>
            <a:chOff x="1713600" y="1839960"/>
            <a:chExt cx="538560" cy="520560"/>
          </a:xfrm>
        </p:grpSpPr>
        <p:sp>
          <p:nvSpPr>
            <p:cNvPr id="188" name=""/>
            <p:cNvSpPr/>
            <p:nvPr/>
          </p:nvSpPr>
          <p:spPr>
            <a:xfrm>
              <a:off x="1713600" y="18399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76200" y="226080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181480" y="5484960"/>
            <a:ext cx="2057400" cy="56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308240" y="457200"/>
            <a:ext cx="5702040" cy="3124080"/>
            <a:chOff x="1308240" y="457200"/>
            <a:chExt cx="5702040" cy="3124080"/>
          </a:xfrm>
        </p:grpSpPr>
        <p:sp>
          <p:nvSpPr>
            <p:cNvPr id="192" name=""/>
            <p:cNvSpPr/>
            <p:nvPr/>
          </p:nvSpPr>
          <p:spPr>
            <a:xfrm>
              <a:off x="6172200" y="457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N-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8240" y="3581280"/>
              <a:ext cx="471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08240" y="990720"/>
              <a:ext cx="471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597840" y="990720"/>
            <a:ext cx="477360" cy="2590560"/>
            <a:chOff x="3597840" y="990720"/>
            <a:chExt cx="477360" cy="2590560"/>
          </a:xfrm>
        </p:grpSpPr>
        <p:sp>
          <p:nvSpPr>
            <p:cNvPr id="196" name=""/>
            <p:cNvSpPr/>
            <p:nvPr/>
          </p:nvSpPr>
          <p:spPr>
            <a:xfrm>
              <a:off x="3895560" y="9907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059600">
              <a:off x="3616560" y="1657800"/>
              <a:ext cx="439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7:50:48Z</dcterms:created>
  <dc:creator>Владимир Жуков</dc:creator>
  <dc:description/>
  <dc:language>en-US</dc:language>
  <cp:lastModifiedBy>Владимир Жуков</cp:lastModifiedBy>
  <dcterms:modified xsi:type="dcterms:W3CDTF">2002-03-15T19:49:43Z</dcterms:modified>
  <cp:revision>10</cp:revision>
  <dc:subject/>
  <dc:title>Заголовок слайда отсутствует</dc:title>
</cp:coreProperties>
</file>