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3B1-5987-465D-BAFE-8870DF43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F8E-A956-4B1F-8E0F-318A75AC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FF3-07AC-4506-B5CC-67BCB788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D2A-7424-4C91-8323-27E57CB0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DFB-88C9-4335-8494-F1A7D948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5DA-F4E4-46B3-BE76-712487D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087-5426-4C93-8832-07A6F9EF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DE6-C93E-447D-8B43-7F19F400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582-D286-4B85-B487-8FA9ADE6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EA1-5617-45C0-AA47-F7D17C40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AB3-6974-4560-BF84-C946E89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1B2-547F-42B8-888F-8A599C8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26EB-AC39-42AB-92D9-8AE1622DAA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29200" y="2895480"/>
            <a:ext cx="1981080" cy="990720"/>
            <a:chOff x="5029200" y="2895480"/>
            <a:chExt cx="1981080" cy="990720"/>
          </a:xfrm>
        </p:grpSpPr>
        <p:sp>
          <p:nvSpPr>
            <p:cNvPr id="42" name=""/>
            <p:cNvSpPr/>
            <p:nvPr/>
          </p:nvSpPr>
          <p:spPr>
            <a:xfrm>
              <a:off x="5943600" y="350532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34120" y="350532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29200" y="2895480"/>
              <a:ext cx="198108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553080" y="350532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4876920" y="2895480"/>
            <a:ext cx="2361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4120" y="4724280"/>
            <a:ext cx="1981080" cy="990720"/>
            <a:chOff x="5334120" y="4724280"/>
            <a:chExt cx="1981080" cy="990720"/>
          </a:xfrm>
        </p:grpSpPr>
        <p:sp>
          <p:nvSpPr>
            <p:cNvPr id="48" name=""/>
            <p:cNvSpPr/>
            <p:nvPr/>
          </p:nvSpPr>
          <p:spPr>
            <a:xfrm flipV="1">
              <a:off x="6248520" y="472428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639040" y="472428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334120" y="5028840"/>
              <a:ext cx="198108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858000" y="472428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181480" y="4724280"/>
            <a:ext cx="2362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3962520"/>
            <a:ext cx="762120" cy="761760"/>
          </a:xfrm>
          <a:custGeom>
            <a:avLst/>
            <a:gdLst>
              <a:gd name="textAreaLeft" fmla="*/ 133200 w 762120"/>
              <a:gd name="textAreaRight" fmla="*/ 552600 w 7621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2819520"/>
            <a:ext cx="2209680" cy="2894760"/>
            <a:chOff x="1066680" y="2819520"/>
            <a:chExt cx="2209680" cy="2894760"/>
          </a:xfrm>
        </p:grpSpPr>
        <p:grpSp>
          <p:nvGrpSpPr>
            <p:cNvPr id="55" name=""/>
            <p:cNvGrpSpPr/>
            <p:nvPr/>
          </p:nvGrpSpPr>
          <p:grpSpPr>
            <a:xfrm>
              <a:off x="1066680" y="2819520"/>
              <a:ext cx="2209680" cy="2894760"/>
              <a:chOff x="1066680" y="2819520"/>
              <a:chExt cx="2209680" cy="28947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295280" y="4724280"/>
                <a:ext cx="1981080" cy="990000"/>
                <a:chOff x="1295280" y="4724280"/>
                <a:chExt cx="1981080" cy="990000"/>
              </a:xfrm>
            </p:grpSpPr>
            <p:sp>
              <p:nvSpPr>
                <p:cNvPr id="57" name=""/>
                <p:cNvSpPr/>
                <p:nvPr/>
              </p:nvSpPr>
              <p:spPr>
                <a:xfrm flipV="1">
                  <a:off x="2209680" y="472392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1600200" y="472392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1295280" y="5028840"/>
                  <a:ext cx="1981080" cy="68544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V="1">
                  <a:off x="2819160" y="472392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066680" y="2819520"/>
                <a:ext cx="1981080" cy="990000"/>
                <a:chOff x="1066680" y="2819520"/>
                <a:chExt cx="1981080" cy="9900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981080" y="342900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371600" y="342900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66680" y="2819520"/>
                  <a:ext cx="1981080" cy="68544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590560" y="342900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" name=""/>
            <p:cNvSpPr/>
            <p:nvPr/>
          </p:nvSpPr>
          <p:spPr>
            <a:xfrm>
              <a:off x="1904760" y="5105160"/>
              <a:ext cx="861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Гай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52280" y="3886200"/>
            <a:ext cx="762120" cy="762120"/>
          </a:xfrm>
          <a:custGeom>
            <a:avLst/>
            <a:gdLst>
              <a:gd name="textAreaLeft" fmla="*/ 133200 w 762120"/>
              <a:gd name="textAreaRight" fmla="*/ 552600 w 76212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715000"/>
            <a:ext cx="243864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6200000">
            <a:off x="7047000" y="4000320"/>
            <a:ext cx="243864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5752080" y="952200"/>
            <a:ext cx="609840" cy="1295640"/>
          </a:xfrm>
          <a:custGeom>
            <a:avLst/>
            <a:gdLst>
              <a:gd name="textAreaLeft" fmla="*/ 81720 w 609840"/>
              <a:gd name="textAreaRight" fmla="*/ 528120 w 609840"/>
              <a:gd name="textAreaTop" fmla="*/ 261360 h 1295640"/>
              <a:gd name="textAreaBottom" fmla="*/ 9046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8" stAng="-5400000" swAng="-5400000"/>
                <a:lnTo>
                  <a:pt x="0" y="10723"/>
                </a:lnTo>
                <a:arcTo wR="21600" hR="8718" stAng="10800000" swAng="-2926849"/>
                <a:lnTo>
                  <a:pt x="14400" y="21101"/>
                </a:lnTo>
                <a:lnTo>
                  <a:pt x="21600" y="18438"/>
                </a:lnTo>
                <a:lnTo>
                  <a:pt x="14400" y="14776"/>
                </a:lnTo>
                <a:lnTo>
                  <a:pt x="14400" y="16936"/>
                </a:lnTo>
                <a:arcTo wR="21600" hR="8718" stAng="7873151" swAng="2766347"/>
                <a:lnTo>
                  <a:pt x="143" y="9720"/>
                </a:lnTo>
                <a:arcTo wR="21600" hR="8718" stAng="-10639498" swAng="5239498"/>
                <a:close/>
              </a:path>
              <a:path fill="darkenLess" w="21600" h="21600">
                <a:moveTo>
                  <a:pt x="21600" y="0"/>
                </a:moveTo>
                <a:arcTo wR="21600" hR="8718" stAng="-5400000" swAng="-5400000"/>
                <a:lnTo>
                  <a:pt x="0" y="8718"/>
                </a:lnTo>
                <a:arcTo wR="21600" hR="8718" stAng="10800000" swAng="-160502"/>
                <a:lnTo>
                  <a:pt x="143" y="9720"/>
                </a:lnTo>
                <a:arcTo wR="21600" hR="8718" stAng="-10639498" swAng="5239498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048120"/>
            <a:ext cx="75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6160" y="1812960"/>
            <a:ext cx="2998440" cy="1920600"/>
            <a:chOff x="146160" y="1812960"/>
            <a:chExt cx="2998440" cy="1920600"/>
          </a:xfrm>
        </p:grpSpPr>
        <p:sp>
          <p:nvSpPr>
            <p:cNvPr id="73" name=""/>
            <p:cNvSpPr/>
            <p:nvPr/>
          </p:nvSpPr>
          <p:spPr>
            <a:xfrm>
              <a:off x="146160" y="1812960"/>
              <a:ext cx="29984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Ходовой вин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 правозаходной резьбо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560" y="2514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514600" y="2514600"/>
              <a:ext cx="4572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85800" y="3493440"/>
            <a:ext cx="3124080" cy="1547640"/>
            <a:chOff x="685800" y="3493440"/>
            <a:chExt cx="3124080" cy="1547640"/>
          </a:xfrm>
        </p:grpSpPr>
        <p:grpSp>
          <p:nvGrpSpPr>
            <p:cNvPr id="77" name=""/>
            <p:cNvGrpSpPr/>
            <p:nvPr/>
          </p:nvGrpSpPr>
          <p:grpSpPr>
            <a:xfrm>
              <a:off x="1054800" y="3493440"/>
              <a:ext cx="2297880" cy="1547640"/>
              <a:chOff x="1054800" y="3493440"/>
              <a:chExt cx="2297880" cy="1547640"/>
            </a:xfrm>
          </p:grpSpPr>
          <p:sp>
            <p:nvSpPr>
              <p:cNvPr id="78" name=""/>
              <p:cNvSpPr/>
              <p:nvPr/>
            </p:nvSpPr>
            <p:spPr>
              <a:xfrm>
                <a:off x="1066680" y="3835440"/>
                <a:ext cx="2286000" cy="87732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1663920" y="3493800"/>
                <a:ext cx="723240" cy="1547280"/>
                <a:chOff x="1663920" y="3493800"/>
                <a:chExt cx="723240" cy="1547280"/>
              </a:xfrm>
            </p:grpSpPr>
            <p:sp>
              <p:nvSpPr>
                <p:cNvPr id="80" name=""/>
                <p:cNvSpPr/>
                <p:nvPr/>
              </p:nvSpPr>
              <p:spPr>
                <a:xfrm flipV="1">
                  <a:off x="1676520" y="3551400"/>
                  <a:ext cx="375840" cy="277200"/>
                </a:xfrm>
                <a:custGeom>
                  <a:avLst/>
                  <a:gdLst>
                    <a:gd name="textAreaLeft" fmla="*/ 60120 w 375840"/>
                    <a:gd name="textAreaRight" fmla="*/ 315720 w 375840"/>
                    <a:gd name="textAreaTop" fmla="*/ 44280 h 277200"/>
                    <a:gd name="textAreaBottom" fmla="*/ 232920 h 27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1762560" y="3542760"/>
                  <a:ext cx="624600" cy="1441800"/>
                  <a:chOff x="1762560" y="3542760"/>
                  <a:chExt cx="624600" cy="14418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1998720" y="4707360"/>
                    <a:ext cx="375840" cy="277200"/>
                  </a:xfrm>
                  <a:custGeom>
                    <a:avLst/>
                    <a:gdLst>
                      <a:gd name="textAreaLeft" fmla="*/ 59040 w 375840"/>
                      <a:gd name="textAreaRight" fmla="*/ 316800 w 37584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 rot="21518400">
                    <a:off x="1775160" y="3549600"/>
                    <a:ext cx="597600" cy="11577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98720" y="3551400"/>
                    <a:ext cx="37584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1663920" y="3551400"/>
                  <a:ext cx="624600" cy="1441800"/>
                  <a:chOff x="1663920" y="3551400"/>
                  <a:chExt cx="624600" cy="144180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 flipH="1" flipV="1">
                    <a:off x="1676520" y="3551400"/>
                    <a:ext cx="375840" cy="277200"/>
                  </a:xfrm>
                  <a:custGeom>
                    <a:avLst/>
                    <a:gdLst>
                      <a:gd name="textAreaLeft" fmla="*/ 59040 w 375840"/>
                      <a:gd name="textAreaRight" fmla="*/ 316800 w 37584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flipV="1" rot="21518400">
                    <a:off x="1676880" y="3828600"/>
                    <a:ext cx="597600" cy="11577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flipV="1">
                    <a:off x="1676520" y="3828600"/>
                    <a:ext cx="37584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 rot="4773600">
                  <a:off x="1262880" y="4133160"/>
                  <a:ext cx="1523880" cy="268200"/>
                </a:xfrm>
                <a:prstGeom prst="parallelogram">
                  <a:avLst>
                    <a:gd name="adj" fmla="val 1057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274120" y="3493800"/>
                <a:ext cx="718920" cy="1546920"/>
                <a:chOff x="2274120" y="3493800"/>
                <a:chExt cx="718920" cy="1546920"/>
              </a:xfrm>
            </p:grpSpPr>
            <p:sp>
              <p:nvSpPr>
                <p:cNvPr id="91" name=""/>
                <p:cNvSpPr/>
                <p:nvPr/>
              </p:nvSpPr>
              <p:spPr>
                <a:xfrm flipV="1">
                  <a:off x="2286000" y="3551400"/>
                  <a:ext cx="374400" cy="277200"/>
                </a:xfrm>
                <a:custGeom>
                  <a:avLst/>
                  <a:gdLst>
                    <a:gd name="textAreaLeft" fmla="*/ 59760 w 374400"/>
                    <a:gd name="textAreaRight" fmla="*/ 314640 w 374400"/>
                    <a:gd name="textAreaTop" fmla="*/ 44280 h 277200"/>
                    <a:gd name="textAreaBottom" fmla="*/ 232920 h 27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2371320" y="3542760"/>
                  <a:ext cx="621720" cy="1441800"/>
                  <a:chOff x="2371320" y="3542760"/>
                  <a:chExt cx="621720" cy="14418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2606400" y="4707360"/>
                    <a:ext cx="374040" cy="277200"/>
                  </a:xfrm>
                  <a:custGeom>
                    <a:avLst/>
                    <a:gdLst>
                      <a:gd name="textAreaLeft" fmla="*/ 58680 w 374040"/>
                      <a:gd name="textAreaRight" fmla="*/ 315360 w 37404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21518400">
                    <a:off x="2383920" y="3549600"/>
                    <a:ext cx="594720" cy="11577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606400" y="3551400"/>
                    <a:ext cx="37404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2274120" y="3551400"/>
                  <a:ext cx="622080" cy="1441800"/>
                  <a:chOff x="2274120" y="3551400"/>
                  <a:chExt cx="622080" cy="144180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 flipH="1" flipV="1">
                    <a:off x="2286360" y="3551400"/>
                    <a:ext cx="374400" cy="277200"/>
                  </a:xfrm>
                  <a:custGeom>
                    <a:avLst/>
                    <a:gdLst>
                      <a:gd name="textAreaLeft" fmla="*/ 59040 w 374400"/>
                      <a:gd name="textAreaRight" fmla="*/ 315360 w 37440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V="1" rot="21518400">
                    <a:off x="2287080" y="3828600"/>
                    <a:ext cx="595080" cy="11577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 flipV="1">
                    <a:off x="2286360" y="3828600"/>
                    <a:ext cx="37440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 rot="4773600">
                  <a:off x="1871280" y="4133520"/>
                  <a:ext cx="1523880" cy="267120"/>
                </a:xfrm>
                <a:prstGeom prst="parallelogram">
                  <a:avLst>
                    <a:gd name="adj" fmla="val 106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054800" y="3493440"/>
                <a:ext cx="722520" cy="1547280"/>
                <a:chOff x="1054800" y="3493440"/>
                <a:chExt cx="722520" cy="1547280"/>
              </a:xfrm>
            </p:grpSpPr>
            <p:sp>
              <p:nvSpPr>
                <p:cNvPr id="102" name=""/>
                <p:cNvSpPr/>
                <p:nvPr/>
              </p:nvSpPr>
              <p:spPr>
                <a:xfrm flipV="1">
                  <a:off x="1066680" y="3551400"/>
                  <a:ext cx="376200" cy="277200"/>
                </a:xfrm>
                <a:custGeom>
                  <a:avLst/>
                  <a:gdLst>
                    <a:gd name="textAreaLeft" fmla="*/ 60120 w 376200"/>
                    <a:gd name="textAreaRight" fmla="*/ 316080 w 376200"/>
                    <a:gd name="textAreaTop" fmla="*/ 44280 h 277200"/>
                    <a:gd name="textAreaBottom" fmla="*/ 232920 h 27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1152360" y="3542760"/>
                  <a:ext cx="624960" cy="1441800"/>
                  <a:chOff x="1152360" y="3542760"/>
                  <a:chExt cx="624960" cy="144180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1388880" y="4707360"/>
                    <a:ext cx="376200" cy="277200"/>
                  </a:xfrm>
                  <a:custGeom>
                    <a:avLst/>
                    <a:gdLst>
                      <a:gd name="textAreaLeft" fmla="*/ 59040 w 376200"/>
                      <a:gd name="textAreaRight" fmla="*/ 317160 w 37620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rot="21518400">
                    <a:off x="1165320" y="3549600"/>
                    <a:ext cx="597960" cy="115812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388880" y="3551400"/>
                    <a:ext cx="37620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054800" y="3551400"/>
                  <a:ext cx="624960" cy="1441800"/>
                  <a:chOff x="1054800" y="3551400"/>
                  <a:chExt cx="624960" cy="1441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flipV="1">
                    <a:off x="1066680" y="3551400"/>
                    <a:ext cx="376200" cy="277200"/>
                  </a:xfrm>
                  <a:custGeom>
                    <a:avLst/>
                    <a:gdLst>
                      <a:gd name="textAreaLeft" fmla="*/ 59040 w 376200"/>
                      <a:gd name="textAreaRight" fmla="*/ 317160 w 37620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V="1" rot="21518400">
                    <a:off x="1067760" y="3827880"/>
                    <a:ext cx="597960" cy="115812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 flipV="1">
                    <a:off x="1067040" y="3828600"/>
                    <a:ext cx="37620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rot="4773600">
                  <a:off x="653760" y="4132800"/>
                  <a:ext cx="1523880" cy="268560"/>
                </a:xfrm>
                <a:prstGeom prst="parallelogram">
                  <a:avLst>
                    <a:gd name="adj" fmla="val 10560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85800" y="42670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8120" y="4038480"/>
            <a:ext cx="976320" cy="38124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038480" y="4647960"/>
            <a:ext cx="5105520" cy="4800960"/>
            <a:chOff x="4038480" y="4647960"/>
            <a:chExt cx="5105520" cy="4800960"/>
          </a:xfrm>
        </p:grpSpPr>
        <p:grpSp>
          <p:nvGrpSpPr>
            <p:cNvPr id="115" name=""/>
            <p:cNvGrpSpPr/>
            <p:nvPr/>
          </p:nvGrpSpPr>
          <p:grpSpPr>
            <a:xfrm>
              <a:off x="5655600" y="4647960"/>
              <a:ext cx="1699200" cy="719640"/>
              <a:chOff x="5655600" y="4647960"/>
              <a:chExt cx="1699200" cy="71964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6248520" y="4647600"/>
                <a:ext cx="457200" cy="609480"/>
              </a:xfrm>
              <a:custGeom>
                <a:avLst/>
                <a:gdLst>
                  <a:gd name="textAreaLeft" fmla="*/ 84600 w 457200"/>
                  <a:gd name="textAreaRight" fmla="*/ 372600 w 457200"/>
                  <a:gd name="textAreaTop" fmla="*/ 112680 h 609480"/>
                  <a:gd name="textAreaBottom" fmla="*/ 49680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50" y="21600"/>
                    </a:lnTo>
                    <a:lnTo>
                      <a:pt x="405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 rot="20887800">
                <a:off x="5714640" y="4716720"/>
                <a:ext cx="401760" cy="615960"/>
              </a:xfrm>
              <a:custGeom>
                <a:avLst/>
                <a:gdLst>
                  <a:gd name="textAreaLeft" fmla="*/ 74160 w 401760"/>
                  <a:gd name="textAreaRight" fmla="*/ 327600 w 401760"/>
                  <a:gd name="textAreaTop" fmla="*/ 114120 h 615960"/>
                  <a:gd name="textAreaBottom" fmla="*/ 501840 h 61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50" y="21600"/>
                    </a:lnTo>
                    <a:lnTo>
                      <a:pt x="405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 rot="868800">
                <a:off x="6907320" y="4722120"/>
                <a:ext cx="387360" cy="530280"/>
              </a:xfrm>
              <a:custGeom>
                <a:avLst/>
                <a:gdLst>
                  <a:gd name="textAreaLeft" fmla="*/ 71640 w 387360"/>
                  <a:gd name="textAreaRight" fmla="*/ 315720 w 387360"/>
                  <a:gd name="textAreaTop" fmla="*/ 97920 h 530280"/>
                  <a:gd name="textAreaBottom" fmla="*/ 432360 h 53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50" y="21600"/>
                    </a:lnTo>
                    <a:lnTo>
                      <a:pt x="405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038480" y="5029200"/>
              <a:ext cx="5105520" cy="4419720"/>
            </a:xfrm>
            <a:prstGeom prst="blockArc">
              <a:avLst>
                <a:gd name="adj1" fmla="val 10800000"/>
                <a:gd name="adj2" fmla="val 0"/>
                <a:gd name="adj3" fmla="val 18282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H="1">
            <a:off x="5867280" y="5181480"/>
            <a:ext cx="976320" cy="38124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 rot="16200000">
            <a:off x="6134040" y="5295960"/>
            <a:ext cx="609840" cy="1295280"/>
          </a:xfrm>
          <a:custGeom>
            <a:avLst/>
            <a:gdLst>
              <a:gd name="textAreaLeft" fmla="*/ 81720 w 609840"/>
              <a:gd name="textAreaRight" fmla="*/ 528120 w 609840"/>
              <a:gd name="textAreaTop" fmla="*/ 261360 h 1295280"/>
              <a:gd name="textAreaBottom" fmla="*/ 904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8" stAng="-5400000" swAng="-5400000"/>
                <a:lnTo>
                  <a:pt x="0" y="10723"/>
                </a:lnTo>
                <a:arcTo wR="21600" hR="8718" stAng="10800000" swAng="-2926849"/>
                <a:lnTo>
                  <a:pt x="14400" y="21101"/>
                </a:lnTo>
                <a:lnTo>
                  <a:pt x="21600" y="18438"/>
                </a:lnTo>
                <a:lnTo>
                  <a:pt x="14400" y="14776"/>
                </a:lnTo>
                <a:lnTo>
                  <a:pt x="14400" y="16936"/>
                </a:lnTo>
                <a:arcTo wR="21600" hR="8718" stAng="7873151" swAng="2766347"/>
                <a:lnTo>
                  <a:pt x="143" y="9720"/>
                </a:lnTo>
                <a:arcTo wR="21600" hR="8718" stAng="-10639498" swAng="5239498"/>
                <a:close/>
              </a:path>
              <a:path fill="darkenLess" w="21600" h="21600">
                <a:moveTo>
                  <a:pt x="21600" y="0"/>
                </a:moveTo>
                <a:arcTo wR="21600" hR="8718" stAng="-5400000" swAng="-5400000"/>
                <a:lnTo>
                  <a:pt x="0" y="8718"/>
                </a:lnTo>
                <a:arcTo wR="21600" hR="8718" stAng="10800000" swAng="-160502"/>
                <a:lnTo>
                  <a:pt x="143" y="9720"/>
                </a:lnTo>
                <a:arcTo wR="21600" hR="8718" stAng="-10639498" swAng="5239498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505320" y="-1600200"/>
            <a:ext cx="5333760" cy="8001000"/>
            <a:chOff x="3505320" y="-1600200"/>
            <a:chExt cx="5333760" cy="8001000"/>
          </a:xfrm>
        </p:grpSpPr>
        <p:grpSp>
          <p:nvGrpSpPr>
            <p:cNvPr id="123" name=""/>
            <p:cNvGrpSpPr/>
            <p:nvPr/>
          </p:nvGrpSpPr>
          <p:grpSpPr>
            <a:xfrm>
              <a:off x="5378760" y="380880"/>
              <a:ext cx="1700640" cy="6019920"/>
              <a:chOff x="5378760" y="380880"/>
              <a:chExt cx="1700640" cy="6019920"/>
            </a:xfrm>
          </p:grpSpPr>
          <p:sp>
            <p:nvSpPr>
              <p:cNvPr id="124" name=""/>
              <p:cNvSpPr/>
              <p:nvPr/>
            </p:nvSpPr>
            <p:spPr>
              <a:xfrm>
                <a:off x="5791320" y="9144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74360" y="533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5378760" y="3087360"/>
                <a:ext cx="1700640" cy="726480"/>
                <a:chOff x="5378760" y="3087360"/>
                <a:chExt cx="1700640" cy="7264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019920" y="3429000"/>
                  <a:ext cx="426960" cy="345960"/>
                </a:xfrm>
                <a:custGeom>
                  <a:avLst/>
                  <a:gdLst>
                    <a:gd name="textAreaLeft" fmla="*/ 78840 w 426960"/>
                    <a:gd name="textAreaRight" fmla="*/ 348120 w 426960"/>
                    <a:gd name="textAreaTop" fmla="*/ 64080 h 345960"/>
                    <a:gd name="textAreaBottom" fmla="*/ 281880 h 34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712200">
                  <a:off x="5439960" y="3127320"/>
                  <a:ext cx="457200" cy="64620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119520 h 646200"/>
                    <a:gd name="textAreaBottom" fmla="*/ 526680 h 64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20731200">
                  <a:off x="6588000" y="3139560"/>
                  <a:ext cx="424080" cy="590760"/>
                </a:xfrm>
                <a:custGeom>
                  <a:avLst/>
                  <a:gdLst>
                    <a:gd name="textAreaLeft" fmla="*/ 78480 w 424080"/>
                    <a:gd name="textAreaRight" fmla="*/ 345600 w 424080"/>
                    <a:gd name="textAreaTop" fmla="*/ 109440 h 590760"/>
                    <a:gd name="textAreaBottom" fmla="*/ 481320 h 590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6172200" y="380880"/>
                <a:ext cx="0" cy="601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V="1">
              <a:off x="3505320" y="-1600200"/>
              <a:ext cx="5333760" cy="5029200"/>
            </a:xfrm>
            <a:prstGeom prst="blockArc">
              <a:avLst>
                <a:gd name="adj1" fmla="val 8678252"/>
                <a:gd name="adj2" fmla="val 2121748"/>
                <a:gd name="adj3" fmla="val 17444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092920" y="3493440"/>
            <a:ext cx="2831400" cy="1547640"/>
            <a:chOff x="5092920" y="3493440"/>
            <a:chExt cx="2831400" cy="1547640"/>
          </a:xfrm>
        </p:grpSpPr>
        <p:sp>
          <p:nvSpPr>
            <p:cNvPr id="133" name=""/>
            <p:cNvSpPr/>
            <p:nvPr/>
          </p:nvSpPr>
          <p:spPr>
            <a:xfrm>
              <a:off x="5105520" y="3835440"/>
              <a:ext cx="2590560" cy="878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714640" y="3551400"/>
              <a:ext cx="375840" cy="277920"/>
            </a:xfrm>
            <a:custGeom>
              <a:avLst/>
              <a:gdLst>
                <a:gd name="textAreaLeft" fmla="*/ 60120 w 375840"/>
                <a:gd name="textAreaRight" fmla="*/ 315720 w 375840"/>
                <a:gd name="textAreaTop" fmla="*/ 44280 h 277920"/>
                <a:gd name="textAreaBottom" fmla="*/ 2336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15" y="21600"/>
                  </a:lnTo>
                  <a:lnTo>
                    <a:pt x="3085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800680" y="3542760"/>
              <a:ext cx="624240" cy="1441800"/>
              <a:chOff x="5800680" y="3542760"/>
              <a:chExt cx="624240" cy="1441800"/>
            </a:xfrm>
          </p:grpSpPr>
          <p:sp>
            <p:nvSpPr>
              <p:cNvPr id="136" name=""/>
              <p:cNvSpPr/>
              <p:nvPr/>
            </p:nvSpPr>
            <p:spPr>
              <a:xfrm>
                <a:off x="6036840" y="4707360"/>
                <a:ext cx="375840" cy="277200"/>
              </a:xfrm>
              <a:custGeom>
                <a:avLst/>
                <a:gdLst>
                  <a:gd name="textAreaLeft" fmla="*/ 59040 w 375840"/>
                  <a:gd name="textAreaRight" fmla="*/ 316800 w 37584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21518400">
                <a:off x="5813640" y="3549600"/>
                <a:ext cx="597240" cy="115776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36840" y="3551400"/>
                <a:ext cx="375840" cy="11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702760" y="3551760"/>
              <a:ext cx="624240" cy="1441440"/>
              <a:chOff x="5702760" y="3551760"/>
              <a:chExt cx="624240" cy="1441440"/>
            </a:xfrm>
          </p:grpSpPr>
          <p:sp>
            <p:nvSpPr>
              <p:cNvPr id="140" name=""/>
              <p:cNvSpPr/>
              <p:nvPr/>
            </p:nvSpPr>
            <p:spPr>
              <a:xfrm flipH="1" flipV="1">
                <a:off x="5715000" y="3551760"/>
                <a:ext cx="375840" cy="277200"/>
              </a:xfrm>
              <a:custGeom>
                <a:avLst/>
                <a:gdLst>
                  <a:gd name="textAreaLeft" fmla="*/ 59040 w 375840"/>
                  <a:gd name="textAreaRight" fmla="*/ 316800 w 37584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 rot="21518400">
                <a:off x="5715720" y="3828600"/>
                <a:ext cx="597240" cy="115740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5715000" y="3828960"/>
                <a:ext cx="375840" cy="11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4773600">
              <a:off x="5301720" y="4132440"/>
              <a:ext cx="1523880" cy="269280"/>
            </a:xfrm>
            <a:prstGeom prst="parallelogram">
              <a:avLst>
                <a:gd name="adj" fmla="val 10532"/>
              </a:avLst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324480" y="3551400"/>
              <a:ext cx="374040" cy="277920"/>
            </a:xfrm>
            <a:custGeom>
              <a:avLst/>
              <a:gdLst>
                <a:gd name="textAreaLeft" fmla="*/ 59760 w 374040"/>
                <a:gd name="textAreaRight" fmla="*/ 314280 w 374040"/>
                <a:gd name="textAreaTop" fmla="*/ 44280 h 277920"/>
                <a:gd name="textAreaBottom" fmla="*/ 2336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15" y="21600"/>
                  </a:lnTo>
                  <a:lnTo>
                    <a:pt x="3085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409080" y="3542760"/>
              <a:ext cx="622440" cy="1441800"/>
              <a:chOff x="6409080" y="3542760"/>
              <a:chExt cx="622440" cy="1441800"/>
            </a:xfrm>
          </p:grpSpPr>
          <p:sp>
            <p:nvSpPr>
              <p:cNvPr id="146" name=""/>
              <p:cNvSpPr/>
              <p:nvPr/>
            </p:nvSpPr>
            <p:spPr>
              <a:xfrm>
                <a:off x="6644520" y="4707360"/>
                <a:ext cx="374760" cy="277200"/>
              </a:xfrm>
              <a:custGeom>
                <a:avLst/>
                <a:gdLst>
                  <a:gd name="textAreaLeft" fmla="*/ 59040 w 374760"/>
                  <a:gd name="textAreaRight" fmla="*/ 315720 w 37476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1518400">
                <a:off x="6421680" y="3549600"/>
                <a:ext cx="595440" cy="115776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44520" y="3551400"/>
                <a:ext cx="374760" cy="11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311880" y="3551760"/>
              <a:ext cx="622440" cy="1441440"/>
              <a:chOff x="6311880" y="3551760"/>
              <a:chExt cx="622440" cy="1441440"/>
            </a:xfrm>
          </p:grpSpPr>
          <p:sp>
            <p:nvSpPr>
              <p:cNvPr id="150" name=""/>
              <p:cNvSpPr/>
              <p:nvPr/>
            </p:nvSpPr>
            <p:spPr>
              <a:xfrm flipH="1" flipV="1">
                <a:off x="6323760" y="3551760"/>
                <a:ext cx="374760" cy="277200"/>
              </a:xfrm>
              <a:custGeom>
                <a:avLst/>
                <a:gdLst>
                  <a:gd name="textAreaLeft" fmla="*/ 59040 w 374760"/>
                  <a:gd name="textAreaRight" fmla="*/ 315720 w 37476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21518400">
                <a:off x="6324840" y="3828600"/>
                <a:ext cx="595440" cy="115740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6324120" y="3828960"/>
                <a:ext cx="374760" cy="11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4773600">
              <a:off x="5909760" y="4133880"/>
              <a:ext cx="1523880" cy="266400"/>
            </a:xfrm>
            <a:prstGeom prst="parallelogram">
              <a:avLst>
                <a:gd name="adj" fmla="val 10646"/>
              </a:avLst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105520" y="3551400"/>
              <a:ext cx="375840" cy="277920"/>
            </a:xfrm>
            <a:custGeom>
              <a:avLst/>
              <a:gdLst>
                <a:gd name="textAreaLeft" fmla="*/ 60120 w 375840"/>
                <a:gd name="textAreaRight" fmla="*/ 315720 w 375840"/>
                <a:gd name="textAreaTop" fmla="*/ 44280 h 277920"/>
                <a:gd name="textAreaBottom" fmla="*/ 2336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15" y="21600"/>
                  </a:lnTo>
                  <a:lnTo>
                    <a:pt x="3085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191560" y="3542760"/>
              <a:ext cx="623880" cy="1441800"/>
              <a:chOff x="5191560" y="3542760"/>
              <a:chExt cx="623880" cy="1441800"/>
            </a:xfrm>
          </p:grpSpPr>
          <p:sp>
            <p:nvSpPr>
              <p:cNvPr id="156" name=""/>
              <p:cNvSpPr/>
              <p:nvPr/>
            </p:nvSpPr>
            <p:spPr>
              <a:xfrm>
                <a:off x="5427360" y="4707360"/>
                <a:ext cx="375480" cy="277200"/>
              </a:xfrm>
              <a:custGeom>
                <a:avLst/>
                <a:gdLst>
                  <a:gd name="textAreaLeft" fmla="*/ 59040 w 375480"/>
                  <a:gd name="textAreaRight" fmla="*/ 316440 w 37548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rot="21518400">
                <a:off x="5204160" y="3549600"/>
                <a:ext cx="596880" cy="115776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27360" y="3551400"/>
                <a:ext cx="375480" cy="11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2920" y="3551760"/>
              <a:ext cx="623880" cy="1441440"/>
              <a:chOff x="5092920" y="3551760"/>
              <a:chExt cx="623880" cy="144144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5105160" y="3551760"/>
                <a:ext cx="375480" cy="277200"/>
              </a:xfrm>
              <a:custGeom>
                <a:avLst/>
                <a:gdLst>
                  <a:gd name="textAreaLeft" fmla="*/ 59040 w 375480"/>
                  <a:gd name="textAreaRight" fmla="*/ 316440 w 37548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 rot="21518400">
                <a:off x="5105880" y="3828600"/>
                <a:ext cx="596880" cy="115740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5105520" y="3828960"/>
                <a:ext cx="375480" cy="11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4773600">
              <a:off x="4691520" y="4132080"/>
              <a:ext cx="1523880" cy="269640"/>
            </a:xfrm>
            <a:prstGeom prst="parallelogram">
              <a:avLst>
                <a:gd name="adj" fmla="val 10518"/>
              </a:avLst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96080" y="3657600"/>
              <a:ext cx="228240" cy="12193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5638680" y="3048120"/>
            <a:ext cx="976320" cy="3808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4267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0T19:33:3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19T21:30:08Z</dcterms:modified>
  <cp:revision>5</cp:revision>
  <dc:subject/>
  <dc:title>Заголовок слайда отсутствует</dc:title>
</cp:coreProperties>
</file>